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9084-3E12-4569-963A-52D7C74D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FEC0-B463-4E96-B96F-CB65BA7F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8865-6AEE-4E31-997A-B1913FDD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8DCC-B637-4622-A114-712FEE31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C3AA-2F11-4208-93A1-EBD68403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6976-9971-487F-973D-B3EF5AEC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B19B-9719-4D54-9721-68CF7293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AD16-5944-42FA-9E2B-2F45A36F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6C89-BF35-4B19-95B3-79743686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62A6-D6B8-4C7E-BB00-25E9536C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D3C9-D518-4DEC-BFED-39BDA392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E4AF-85D4-4222-AF26-EA6BCD08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6232-9765-4445-9FFC-AE90B1CC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9C6B-B2F0-42CB-8D83-82DD9E98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7639-0CB2-4E6A-9F3C-0BA0FBA0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56E5-91B3-404F-A587-A2B23BD6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63E5-7310-4A3D-AB19-60D32ECB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59996-5D20-44FE-8568-A1194847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52CF-8834-4FEF-AA67-A427B1C3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7F13-B65B-475B-896C-B01EAE70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01401-11CD-4763-8C0D-AAB5F3E9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46AD5-A915-4800-A5D1-5EE84289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C9E1-6AC8-42E0-8206-41AA2859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D51D0-87C0-43F2-8761-93A9314B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5DC3-AE04-43F5-A4DF-A5C3FA1C45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79EB-BDEB-4371-A0BA-ECFE12A671D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0;&#1083;&#1072;&#1074;&#1080;&#1088;&#1072;&#1091;&#1089;&#1094;&#1091;&#1075;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63960" y="281160"/>
            <a:ext cx="86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Модест Петрович Мусоргский и его оп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462040" cy="3882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916360" y="890640"/>
            <a:ext cx="594036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«Хованщи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ла задумана Мусоргским в 1872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 писал её (с перерывами) до самых последних дн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ей жизни, но так и не довёл до конца. Недописа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лась музыка 2-го действия (рукопись обрывается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ах Шакловитого «И велел сыскать…») и 5-го действ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которая часть автографов утеряна, в том числ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Любовное отпевание Марфы», которым Мусоргский особенно гордил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́льшая часть музыки, которая была записана композитор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виде </a:t>
            </a:r>
            <a:r>
              <a:rPr b="0" lang="ru-RU" sz="1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клави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не была оркестрована. В оркестровке Мусорг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хранились только хор стрельцов «Поднимайтесь, молодцы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есня Марфы (оба фрагмента из 3-го действия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ЧЕТВЕРТОЕ ДЕЙСТВИ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пра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душе у Ивана Хованского неспокойно, хотя он чувствует себя в безопасности в собственном доме. Хованский отмахивается от предостережения, которое передает ему клеврет князя Голицына, и падает жертвой подосланных Шакловитым убийц. Опального князя Голицына увозят в ссылку. Стрельцов, уже положивших головы на плахи, милует царь Пет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ЯТОЕ ДЕЙСТВИЕ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ки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сифей призывает раскольников к мученической смерт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бравшись вместе, они совершают самосожж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До новых встреч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419280" y="549360"/>
            <a:ext cx="51958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ю оперу оркестровал впервые Николай Андреевич Римский-Корсаков, предпочитавший называть свою работу не оркестровкой, а обработкой. Исходя из собственных профессиональных убеждений и учитывая требования времени, он значительно сократил оперу, дописал необходимые связки, изменил голосоведение и гармонию Мусоргского. Партитура Римского-Корсакова была издана в 1883 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2766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791160" y="560520"/>
            <a:ext cx="2387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ХОВАНЩ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.П.Мусорг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5229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родная музыкальная дра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деста Петровича Мусорг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5 действиях, 6 картинах на собственное либретт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нованное на исторических событиях 168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2279520" cy="182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35760" y="3087720"/>
            <a:ext cx="577692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ектакль «Хованщин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уреат Премии «Золотая Маска» 2016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оминации "лучший спектакль в опере"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74520" y="476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ГРА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5480" y="4075920"/>
            <a:ext cx="6752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바탕"/>
              </a:rPr>
              <a:t>УДОСТОЕН ПРЕМИИ МОСКВЫ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바탕"/>
              </a:rPr>
              <a:t>В ОБЛАСТИ ЛИТЕРАТУРЫ И ИСКУССТВА ЗА 2016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14972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.П. Мусоргский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Из письма к В.В. Стасову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Июнь 1872 годa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 спектак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"А что, если Мусорянин да грянет по Руси-матушке! Ковырять чернозем не впервые стать, да ковырять не по удобренному, а в сырье хочется, не познакомиться с народом, а побрататься жаждется: страшно, а хорошо! Что тогда? Не ведомо мне, что ли, на что отзвук дать? Не чую, где сила кроется, где правда глаза застилает, да, пожалуй, и ноздри: чихнешь с досады!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ерноземная сила проявится, когда до самого днища ковырнешь. Ковырнуть чернозем можно орудием состава ему постороннего. И ковырнули же в конце XVII-го Русь-матушку таким орудием, что и не распознала сразу, чем ковыряют, и, как чернозем, раздалась и дыхать стала. Вот и восприняла сердечная разных действительно и тайно статских советников, и не дали ей многострадальной опомниться и подумать: "куда прет?" Сказнили неведущих и смятенных: сила! А приказная изба все живет и сыск тот же, что и за приказом; только время не то: действительно и тайно статские мешают чернозему дыхать. Прошедшее в настоящем – вот моя задача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"Ушли вперед!" – врешь, там же! Бумага, книга ушла – мы там же. Пока народ не может проверить воочию, что из него стряпают, пока не захочет сам, чтобы то или то с ним состряпалось, – там же!"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ействующие лица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нязь Ив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ван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нязь Андрей Хован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нязь Василий Голицы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ярин Шакловит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сиф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рф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м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сан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ьяч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зь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яри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ешне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раткое содержан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ОЕ ДЕЙСТВИ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тро после стрелецкого мятеж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осква затихла после стрелецкого бунта, во время которого было пролито немало крови. 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онос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Шакловитый диктует подьячему донос, в котором называет зачинщиками смуты отца и сына Ховански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писки на столб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дьячий читает пришлым людям выбитые на столбе имена убитых и сосланных в результате мятежа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"Большой идет!"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является князь Иван Хованский, командующий стрельцами. Он ведет свои отряды в обход по Москве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Андрей и Эмм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ын Ивана Хованского Андрей преследует приглянувшуюся ему жительницу Немецкой слободы Эмму. Девушку защищает Марфа – бывшая возлюбленная Андрея Хованского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"Почто беснуетесь?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щается Иван Хованский. Увидев красавицу-немку, он велит стрельцам отвести ее к себе. Андрей не хочет уступить девушку отцу. Готовую начаться схватку останавливает предводитель раскольников Досифей. Он призывает забыть распри и объединиться перед лицом надвигающейся бед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ТОРОЕ ДЕЙСТВИЕ</a:t>
            </a:r>
            <a:br>
              <a:rPr sz="3800"/>
            </a:br>
            <a:br>
              <a:rPr sz="38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адан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рфа, приглашенная к князю Голицыну, предсказывает всесильному фавориту царевны Софьи скорую опалу и ссылку. Напуганный Голицын отдает приказ утопить Марфу на Болот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говор князе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 Голицыну приходит князь Иван Хованский. Следом появляется Досифей, в мирском прошлом князь Мышецкий. Каждый из князей претендует на власть, и они не в силах договориться о совместных действиях. Вернувшаяся Марфа рассказывает, что ее спасли петровские солдаты. Шакловитый приносит пугающую новость: юный царь Петр получил донос на Хованск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ТРЕТЬЕ ДЕЙСТВИЕ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"Страшная пытка любовь моя..."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кольница Сусанна упрекает Марфу в том, что она уступает греховному искушению. Марфу защищает Досифей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"Спит стрелецкое гнездо..."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шедший в Стрелецкую слободу Шакловитый мечтает о сильной руке, которая спасет Русь от врагов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"Батя, батя, выди к нам..."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сыпаются стрельцы. Подьячий приносит им весть о том, что войска Петра уже невдалек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ельцы зовут Ивана Хованского, чтобы выслушать его приказ. Но Хованский отказывается вести стрельцов на бой и приказывает разойтись по дом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5T14:46:55Z</dcterms:created>
  <dc:creator>Larisa</dc:creator>
  <dc:description/>
  <dc:language>en-US</dc:language>
  <cp:lastModifiedBy>Larisa</cp:lastModifiedBy>
  <dcterms:modified xsi:type="dcterms:W3CDTF">2020-01-09T10:03:35Z</dcterms:modified>
  <cp:revision>11</cp:revision>
  <dc:subject/>
  <dc:title>Слайд 1</dc:title>
</cp:coreProperties>
</file>