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6A9-E7B2-4646-A05F-D36AA4C2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E05-8061-4928-864F-6D05391F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E08-E685-45E3-A182-9C04CE71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FE5-160A-4CE2-8F10-455DAC5F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BF5D-2E06-4E95-8187-0AAB7498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9A3B-2FC7-4265-A192-A67B3638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710D-4DFF-46A0-8894-9774E3C4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8DD8-376A-48AA-A618-732E25F0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9F24-8007-4BEF-BF77-D5AF5DEF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9640-ACF0-41B4-BAFC-F678DEC0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056A-3916-47F0-BBA6-55E49ED3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372-3E24-4E0A-934A-66260098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4151-331E-4CEC-ACB5-CC34EF9A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3E7C-287A-45F9-85D6-2CF58AD2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41CC-0C20-42D5-9505-867190C5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227E-6ACC-4E70-842B-59990DC1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4EB2-EA27-4F69-BE7F-A89E81B7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403-586B-4BFA-A824-AA7432C0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9F1-1835-4D3F-8B41-C37BB0EA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685-15DE-4276-8CED-556B9A0F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685-FCEC-4EF0-9472-A6245A8D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689-CE8B-464B-89EC-20DCFF28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341-7F47-4436-B851-D84E1277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95A-9E1F-4611-9BFC-BC647AF8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5432400" cy="2641320"/>
            <a:chOff x="0" y="0"/>
            <a:chExt cx="5432400" cy="2641320"/>
          </a:xfrm>
        </p:grpSpPr>
        <p:sp>
          <p:nvSpPr>
            <p:cNvPr id="1" name=""/>
            <p:cNvSpPr/>
            <p:nvPr/>
          </p:nvSpPr>
          <p:spPr>
            <a:xfrm>
              <a:off x="0" y="1234080"/>
              <a:ext cx="5342760" cy="140724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5432400" cy="253764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A941-A2F5-4C75-AC63-2E67CE46A1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6343560" cy="7924320"/>
            <a:chOff x="0" y="0"/>
            <a:chExt cx="6343560" cy="7924320"/>
          </a:xfrm>
        </p:grpSpPr>
        <p:sp>
          <p:nvSpPr>
            <p:cNvPr id="45" name=""/>
            <p:cNvSpPr/>
            <p:nvPr/>
          </p:nvSpPr>
          <p:spPr>
            <a:xfrm>
              <a:off x="0" y="3047760"/>
              <a:ext cx="6137640" cy="48765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6343560" cy="7807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A3DF-FDEF-4BF4-996F-6421630E08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514440" y="2357280"/>
            <a:ext cx="58291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025720" y="74534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австрийский скрипач, компози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4 ноября 1719 — 28 мая 17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1760" y="68554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оганн Георг Леопольд Моцар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340000"/>
            <a:ext cx="6858000" cy="4095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9360" y="6515640"/>
            <a:ext cx="58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А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на Мария Перт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360" y="7450200"/>
            <a:ext cx="63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: Мария Анна Вальбурга Игнат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ьфганг Амад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9360" y="0"/>
            <a:ext cx="17542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547640"/>
            <a:ext cx="6858000" cy="4146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78560" y="6300720"/>
            <a:ext cx="312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опольд Моцар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 семь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26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000" y="0"/>
            <a:ext cx="6804000" cy="914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5000" y="4683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ия Анна Вальбурга Игнат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ьфганг Амад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60280" y="25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103720" y="0"/>
            <a:ext cx="17542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25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6858000" cy="456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84280" y="608400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амильный скле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емь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оцарт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Зальцбург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3T06:16:29Z</dcterms:created>
  <dc:creator>Larisa</dc:creator>
  <dc:description/>
  <dc:language>en-US</dc:language>
  <cp:lastModifiedBy>Larisa</cp:lastModifiedBy>
  <dcterms:modified xsi:type="dcterms:W3CDTF">2019-04-25T05:01:38Z</dcterms:modified>
  <cp:revision>10</cp:revision>
  <dc:subject/>
  <dc:title>Слайд 1</dc:title>
</cp:coreProperties>
</file>