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BD1E-BE6B-4E1E-A866-40D21386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C04E-B160-4818-847A-E13C292A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2A22D-9FF7-43CC-8F48-F537CD38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E9925-218A-4D1E-B110-355F3402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46361-ADFF-4465-902D-0154E9D3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1F094-BA5E-41EB-B436-4DE4F56A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646BE-98EC-4259-9240-6239C2D1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A3A48C-5A42-4906-9C49-F866D96D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E3DE8-69D9-4412-BBC6-10748782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76596-0544-41B7-87C0-CAA13237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4EB21-91C5-45DC-ABBE-A2C809C7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4EADC-3B46-49A3-B008-7521392F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9C3D-CCE0-4B40-830F-183B7BB6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B0785-02D9-465C-8DCB-D25975CF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7C7E9-87B5-40A6-B66A-0478B96F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7D11A-310B-4681-AED6-C5A1C26A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D9D58-4E74-42D0-9FCF-B657B9C7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74BBE-E946-4EB6-A235-44021950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35A5C-95F0-4ED9-9445-31749BF8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02AA9-8AB1-48F0-92FC-08B515D9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43815A-D110-49DF-8B28-92BC2F34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9355E-23C6-47C0-8E54-1CF6CE8F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D1C20-636F-4D32-9929-EBD395E46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A975-7BA8-41A2-8006-9BB81C9A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BCFBA1-E450-4A29-8D86-D31AD372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180E8-DF3F-4F5C-B662-3785D9C25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E3901-E476-4F54-88D6-65C833BA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8A9BA-E728-444E-8D3A-215BE978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B55F7-27BB-4147-89CD-6AB0C8EE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8BEBD-9C25-4852-8ADD-EE73F2A0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9C2C5-631B-4B8B-AB2B-A4067746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31780-6C98-4552-BD20-11D2B460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83272-E38A-4FFC-A09F-B9C48D09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933CA-1B62-4C60-80C3-72DECF06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A632-4E61-4564-96A7-D23266236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3B940-BAEE-4379-BD07-E85283D5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6D8B6-726C-46B6-8CFA-91993BC33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90DDF-FA1A-4BC2-BB64-3E57584AA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5643C8-1D19-479D-A481-11FB218C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8FB70-9B04-4DDC-83BC-C7984E1C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A19D9F-22C9-4C32-94C3-407D3193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1B90C-2C36-4710-B6D0-4051E6F0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A784D-762C-4F5F-80BD-31218385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538AE6-650F-4610-855E-18B5B1E5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CD3A1F-5A00-46D1-82C5-14D2AA6C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1AB1-B17A-4F67-AF41-2A723601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A08189-6CA0-404E-A1BE-CAAEF688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FC018-2795-41A9-8814-75D884F3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2AA8C-E7CB-4F5D-89C9-753F63C9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2012A0-260E-41C4-8DFF-123F13A7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9B3BD-4758-45AD-9095-6320AE14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743BFD-36AD-4B2D-831D-D02B02B0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90E30C-4A8C-4A0B-AF77-5A825880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8393C2-EC3F-4541-BFF8-A1FFD201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C346A4-3960-4934-A192-4268EDD9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E25906-CF31-4C89-8AFA-3B23C2F7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7A8E-44BA-4EB4-997B-E53D26EA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EB78BC-27F5-4EAE-BB03-5053966D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7653F9-5D6B-47A3-9204-20744229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3CCE32-4D6F-4390-9423-17FF8800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47B45A-65A3-448A-A14D-8B40DF0E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B9639F-0A99-4D89-85DB-5C570017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1765FE-ADF8-41EA-B111-F6E60DC3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3C72BF-212B-4566-868E-0101EF4D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9BBDA3-49F1-4B2D-BE85-AB4411290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5157CC-E491-47B5-8DE3-31B75D8C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DA5D86-69D9-49E2-81ED-C79AB71C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1DCF-32AB-42DB-B192-A878DF35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625FBB-ADCD-4451-89F9-3191952C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7C9FCB-3ECD-4148-B0BE-9E460291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D8601A-CACB-427B-A075-A47E991A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C6D5C4-5990-4F7E-83FB-2AC571D6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603047-3234-4401-AF6D-F7EB272F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1D81C4-8CA3-496F-98B3-74C15FFB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E7AF43-E0A7-446D-9753-294F792D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CB591B-2D31-4E45-8946-1FA94508B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72D30D-D6F9-4BF3-9FC8-0211D7A6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EFC2A3-6BAF-41F4-9122-F915CC44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62E9-BA0A-4304-BAD4-881F8F5F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5FA24E-8C93-4E70-BB30-77F41F34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90F0C6-7000-4199-ADEC-665C543B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48B380-3A78-4D7A-BFBF-FF2869CC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7350B2-8031-4113-88AE-6E1C6E55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F71F90-DA61-4FE7-8496-66F261B9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A0A3E3-2C80-4C41-A437-7B932978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35047B-0747-4566-8604-34760F8F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9E02F6-CEBF-4A4B-839B-89DCF9E1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5BE536-AA58-4B24-A0F8-BBC1142E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B26005-67C6-4526-A8C4-E822388EA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D2AF-1034-4345-B312-02BC2CD7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FB1A74-B754-440D-A305-1DF4F0B5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8FF21F-E672-4BC1-A3F1-D0C33870C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3908BD-61BB-42FA-BF04-39163954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A6C25F-8EDB-4E11-B9EA-3AE3E8BE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865DA9-D5B7-42D4-A54A-B30B50F6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D90CE7-4950-4C00-8F74-066DE6AA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C361CA-4F0D-40F2-9793-4930D22D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80CBE6-BA03-4660-8FC2-ED162C9A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342C0B-1914-4D49-96F7-6CD3BA78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A463F6-886B-442A-B13D-1AB5CA91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04AC-23D2-41A6-B0F8-1387BD72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258173-D4D0-4E2C-9A81-B09BC148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A5891E-6942-47B3-A04A-D12EE29A5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9C572D-D5D5-49D4-A47D-3B347BF55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06292E-46F2-4551-B953-A7C4B337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C97F11-C6C5-4C9D-89FC-2DDEB1E7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A95E9C-8081-4FCB-8581-F35186C5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DE7B96-7EC7-4169-8AD5-B2C9C73B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CD22BD-974B-4ADF-854E-7715DE13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E29D39-9F8C-47F7-ABC3-7E21A05F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2C27A4-8346-410D-AF31-B3BACB60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C5CA-91F0-4FA5-B389-43B39FFD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7CBE-F42B-4B45-B863-E6BDC1A0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906480-F1FB-460D-A85A-A9A695CD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D2BE71-94FB-4B34-A646-ADA730F5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29998D-FD6D-4F98-B069-0F1ADC91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737871-B7D4-4D56-A333-C866E9619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81B786-BDEE-47F7-8A5E-8A5DFD5D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ECDB98-EA80-4249-919C-5DDBFFDE3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F94D01-D3FB-4DF7-A198-1F460E3E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208844-31E1-4102-BE04-2D8AE8C1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C41CD4-CC3E-4AEA-A3DE-32EEE09D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0DB580-9068-4D14-9FDA-DAE33E60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E579-698C-4DC9-A666-A19E5411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59E2AD-0126-4C07-9920-79B568D7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B38A11-A4F2-4439-BA74-76B3AE1B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D661F8-6FAF-4304-98D9-9FF27B69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0F3F4D-791A-427C-9FB6-A7037B23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FB3D83-FB89-4DC6-8197-B6579249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09B893-8EBF-474F-BCB7-D720C9319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E71052-AF23-469F-845F-31273F8EB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698F-DA37-42F5-AF17-88D8BC98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5757-14D3-49F0-86D4-7770A0CA1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C4B0-754A-4136-8716-36152CA36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E3F15-868D-4AF3-A30B-B237360D5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BE5B1-AC97-4005-9849-075CEBD2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6822D-D44C-4418-BB1A-BB082E26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25D36-2922-4099-A812-A67F8078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D66D3-33AD-44F4-A827-E676303E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961D-DEBB-46D6-9D29-5A72B132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801A2-5A0B-4A9B-92D1-E9130DB6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93D22-0CC7-4C1A-8929-E8CEA67D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0C806-73E4-41D2-9F77-81222D6D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6F0EB-9DE7-461E-8A71-A6E10DC0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12F39-6619-4D93-B674-D47D0C45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149CB-43BF-40B1-92A4-E784B049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01250-B473-48AE-8BC9-8D78D8A61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B5D47-E7FB-4F9D-BE49-00D8BC48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EACFC-6132-4757-BAE0-0BF33926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47AFC-5D6F-48E1-9370-F4A7E4E2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2E18-07A2-40E9-8E5A-3D263431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A02F3-C60A-4E6B-96A5-EA066B15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DD18F-57CF-4875-AAAB-348415F1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16E51-BF8E-470B-AEB1-4A0A4001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FA8DC-4071-40CC-8064-F4FCED1B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ECD9C-8180-4CB0-B6A8-1019A031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55AA6-6CC7-4A04-AE2B-73D15AFB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D7F38-56EF-424F-B8FC-03E2AC07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8E75D-E8E7-4F47-9676-739F8E884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5F4D4-2B13-45C6-BF47-669229C0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E4CB1-E250-4845-A4B9-B62EFAE28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6121-D60A-4401-9BDD-9CDFB5EF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458B4-2E70-48EE-8172-261D3DFA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2EE7F-0F06-4BEB-9066-6335576E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BEB98-24A6-45AA-A5B2-C0C17457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60495-9FB4-44D3-B674-9C2B4DF9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18DC8-1F01-435B-9E29-039A5CCD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488CC-EAD3-4D5E-8577-0B87FB1D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281D5-8562-47D6-ADF1-FDE71E07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F4ED0-A6DD-4D24-A4BB-403455AC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E343B-6A73-4D11-B4C9-CD7DB5E2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F366E-58D1-4C9B-A2FE-C54202459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D0F0-2A16-44AA-BC7D-986EA6C3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2140C-2644-44AA-8EED-5408E7E9F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5373E-E4CE-453D-A47F-10760888D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5D930-3BED-4362-81FB-8FF9E4B3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8155F-EAFA-4D90-A5D1-971EA738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D7CDA-5DF8-42A3-AC5F-2FB2CAD1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9C9D7-FC49-4340-BF42-FF92ECFE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874CA-069B-4CDC-AE7F-A8248F4A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86F7A-B153-4433-A4CB-A497909E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D3FB6-DACB-475C-8CE7-A0A36AEC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53A34-E67B-43CC-8D52-5DC2F59A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D94C-13DC-46AD-9DCA-490689E2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2FCF3-6BD2-4256-AAE8-6CF2F9C4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105E2-0BC2-4C6A-BDFA-357F027A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720E9-B5EF-4B7E-B6FE-F2D02D3EA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A2794-42F9-4ED2-8800-EF6AB56C1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613B0-1A7D-4471-891C-0C5E3672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D1A10-3C6D-4EB6-BA9B-A368CDCA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822AC-F23B-45E2-8F0F-1AC52C2C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976CF-B7D3-4EC0-B9FA-E6412C1A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B9C1A-D411-465F-ACB3-5DE14D62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6236F-2E60-45D4-97E2-637ECF0C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C7CD-F3C5-4C41-A3C8-948ECEFD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8D4E1-652B-4125-9837-4E0634ED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FE157-A420-42F4-8F15-3235D617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50FDE-6CF5-4CED-8567-68ADD866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5C16E-03F2-4905-A567-832FE5246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71CF6-190B-4517-AF72-0C9480D77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0E0E2-329B-49F8-BCB4-360255372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84168-B35E-4E38-815C-81771D9E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1CC35-78CD-49F8-837E-B79EE5A0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FF0A7-0DB5-4BB0-9224-87D1C6B4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FFA35-AFB3-4DD2-9849-ECD306C9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FE1E-6DA3-4356-9ECC-119E646E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4D7D5-78F9-4B07-BEA2-6068EBB0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5F7D9-044A-40F0-8FC1-0845798D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2C2AE-FD39-4123-A50B-F53D2F23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15B2D-767A-4264-9C90-0A0AA24E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EAA4F-C200-4926-94C7-0911251F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F67D9-9A04-44F5-8738-EF47C8389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E21BE-86FD-4460-9704-48523DE1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9F5E3-B0A0-4211-A78F-94565FB21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B2329-D088-4BB3-BFA6-F72A6461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8C2A3-209C-472B-BB50-81852E27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C2628F-86F7-45F4-9BD0-743E0F34D798}" type="slidenum">
              <a:rPr b="0" lang="en-US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3AFC7B-B75F-4AC9-B8D7-19B0BD9D890E}" type="slidenum">
              <a:rPr b="0" lang="en-US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9BD287-270C-44AF-A92A-A963C0401A9F}" type="slidenum">
              <a:rPr b="0" lang="en-US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5AC975-1D58-4E09-8582-0D7D334C798D}" type="slidenum">
              <a:rPr b="0" lang="en-US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12"/>
          <p:cNvSpPr/>
          <p:nvPr/>
        </p:nvSpPr>
        <p:spPr>
          <a:xfrm>
            <a:off x="1001880" y="75420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13"/>
          <p:cNvSpPr/>
          <p:nvPr/>
        </p:nvSpPr>
        <p:spPr>
          <a:xfrm>
            <a:off x="10557000" y="29941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489B25-696B-4196-B676-D9AF04E18138}" type="slidenum">
              <a:rPr b="0" lang="en-US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A8DF12-C37A-4915-AF61-CC91E496C2DE}" type="slidenum">
              <a:rPr b="0" lang="en-US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31EAEF-04B9-4A76-A9CB-F28F89EFDD76}" type="slidenum">
              <a:rPr b="0" lang="en-US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5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98B400-0069-4A70-ACA5-649F549A1187}" type="slidenum">
              <a:rPr b="0" lang="en-US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65A6FA-1EF2-483C-B34E-AEDB1EB7E16A}" type="slidenum">
              <a:rPr b="0" lang="en-US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AB0D29-6B7F-4E15-839C-F9463A9931CA}" type="slidenum">
              <a:rPr b="0" lang="en-US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Droplets-HD-Title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D9BEB9-183A-427E-8A5C-E488F5BF0F59}" type="slidenum">
              <a:rPr b="0" lang="en-US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20A603-93C2-4F27-92AF-5754939AA6D8}" type="slidenum">
              <a:rPr b="0" lang="en-US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53B9A1-D5E7-46F1-81AB-70FB4DC442D5}" type="slidenum">
              <a:rPr b="0" lang="en-US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3E0A18-4960-436B-9E5B-7C73E4023CAA}" type="slidenum">
              <a:rPr b="0" lang="en-US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584D73-20B4-43E3-B53E-92FAF27380DD}" type="slidenum">
              <a:rPr b="0" lang="en-US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89332E-6B2B-450C-BA83-9DD3FBE4D17C}" type="slidenum">
              <a:rPr b="0" lang="en-US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D0334D-DBC5-4FCC-A202-C801F10F01C1}" type="slidenum">
              <a:rPr b="0" lang="en-US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38FC40-5FAB-4960-B7FB-AEB562B52B6E}" type="slidenum">
              <a:rPr b="0" lang="en-US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750680" y="1299960"/>
            <a:ext cx="8690040" cy="25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  <a:ea typeface="Arial"/>
              </a:rPr>
              <a:t>НЕПРАВИЛЬНЫЕ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Arial"/>
                <a:ea typeface="Arial"/>
              </a:rPr>
              <a:t>ГЛАГОЛЫ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1750680" y="3886200"/>
            <a:ext cx="8690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ВАНОВА НАТАЛЬЯ ЕВГЕНЬЕВНА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АНГЛИЙСКОГО ЯЗЫКА ГБОУ ШКОЛА № 403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УШКИНСКОГО РАЙОНА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. САНКТ-ПЕТЕРБУРГА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4587840" y="214200"/>
            <a:ext cx="40276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ПРЯТАТЬСЯ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СЛЫШАТЬ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ИМЕТЬ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ВИСЕТЬ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РАСТИ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ИДТИ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ДАВАТЬ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ПОЛУЧАТЬ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ЗАМЕРЗАТЬ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ПРОЩА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8" name="Прямоугольник 3"/>
          <p:cNvSpPr/>
          <p:nvPr/>
        </p:nvSpPr>
        <p:spPr>
          <a:xfrm>
            <a:off x="1379160" y="754200"/>
            <a:ext cx="70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w Cen MT"/>
              </a:rPr>
              <a:t>11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4587840" y="214200"/>
            <a:ext cx="40276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ЫТЬ</a:t>
            </a: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ДАВАТЬ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БИРАТЬ</a:t>
            </a: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ОВИТЬ</a:t>
            </a: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И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ЧИНА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ОИ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ХОДИ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А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0" name="Прямоугольник 4"/>
          <p:cNvSpPr/>
          <p:nvPr/>
        </p:nvSpPr>
        <p:spPr>
          <a:xfrm>
            <a:off x="1309680" y="100656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w Cen MT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рямоугольник 5"/>
          <p:cNvSpPr/>
          <p:nvPr/>
        </p:nvSpPr>
        <p:spPr>
          <a:xfrm>
            <a:off x="1858680" y="20732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4587840" y="214200"/>
            <a:ext cx="40276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ЗНА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ХРАНИ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ПРИЧИНЯТЬ БОЛ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ДЕРЖА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УДАРЯТЬ, ПОРАЖА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ПРЯТАТЬСЯ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СЛЫША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ИМЕТЬ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ВИСЕТЬ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РАСТИ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3" name="Прямоугольник 4"/>
          <p:cNvSpPr/>
          <p:nvPr/>
        </p:nvSpPr>
        <p:spPr>
          <a:xfrm>
            <a:off x="1309680" y="100656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w Cen MT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Прямоугольник 5"/>
          <p:cNvSpPr/>
          <p:nvPr/>
        </p:nvSpPr>
        <p:spPr>
          <a:xfrm>
            <a:off x="1858680" y="20732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4587480" y="214200"/>
            <a:ext cx="47703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ПОЗВОЛЯТЬ, РАЗРЕША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ДАВАТЬ ВЗАЙМЫ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ПОКИДАТЬ, УЕЗЖА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УЧИТЬСЯ, УЗНАВА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ВЕСТИ, СОПРОВОЖДА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ЗНА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ХРАНИ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ПРИЧИНЯТЬ БОЛ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ДЕРЖА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УДАРЯТЬ, ПОРАЖА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6" name="Прямоугольник 4"/>
          <p:cNvSpPr/>
          <p:nvPr/>
        </p:nvSpPr>
        <p:spPr>
          <a:xfrm>
            <a:off x="1309680" y="100656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w Cen MT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Прямоугольник 5"/>
          <p:cNvSpPr/>
          <p:nvPr/>
        </p:nvSpPr>
        <p:spPr>
          <a:xfrm>
            <a:off x="1858680" y="20732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4587480" y="214200"/>
            <a:ext cx="47703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ВСТРЕЧА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ОЗНАЧА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ДЕЛА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ТЕРЯ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ЗАЖИГА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ПОЗВОЛЯТЬ, РАЗРЕША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ДАВАТЬ ВЗАЙМЫ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ПОКИДАТЬ, УЕЗЖА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УЧИТЬСЯ, УЗНАВА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ВЕСТИ, СОПРОВОЖДА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9" name="Прямоугольник 4"/>
          <p:cNvSpPr/>
          <p:nvPr/>
        </p:nvSpPr>
        <p:spPr>
          <a:xfrm>
            <a:off x="1303560" y="1006560"/>
            <a:ext cx="6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w Cen MT"/>
              </a:rPr>
              <a:t>11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Прямоугольник 5"/>
          <p:cNvSpPr/>
          <p:nvPr/>
        </p:nvSpPr>
        <p:spPr>
          <a:xfrm>
            <a:off x="1858680" y="20732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4587480" y="214200"/>
            <a:ext cx="47703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ЗВОНИ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ЕЗДИТЬ ВЕРХОМ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ЧИТА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ПОЛОЖИ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ПЛАТИ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ВСТРЕЧА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ОЗНАЧА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ДЕЛА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ТЕРЯ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ЗАЖИГА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2" name="Прямоугольник 4"/>
          <p:cNvSpPr/>
          <p:nvPr/>
        </p:nvSpPr>
        <p:spPr>
          <a:xfrm>
            <a:off x="1303560" y="1006560"/>
            <a:ext cx="6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w Cen MT"/>
              </a:rPr>
              <a:t>11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Прямоугольник 5"/>
          <p:cNvSpPr/>
          <p:nvPr/>
        </p:nvSpPr>
        <p:spPr>
          <a:xfrm>
            <a:off x="1858680" y="20732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4587480" y="214200"/>
            <a:ext cx="47703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ЗВОНИ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ЕЗДИТЬ ВЕРХОМ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ЧИТА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ПОЛОЖИ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ПЛАТИ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ПОДНИМАТЬСЯ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БЕГА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ГОВОРИ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ВИДЕ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ПРОДАВАТ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5" name="Прямоугольник 4"/>
          <p:cNvSpPr/>
          <p:nvPr/>
        </p:nvSpPr>
        <p:spPr>
          <a:xfrm>
            <a:off x="1303560" y="1006560"/>
            <a:ext cx="6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w Cen MT"/>
              </a:rPr>
              <a:t>11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Прямоугольник 5"/>
          <p:cNvSpPr/>
          <p:nvPr/>
        </p:nvSpPr>
        <p:spPr>
          <a:xfrm>
            <a:off x="1858680" y="20732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0T18:37:20Z</dcterms:created>
  <dc:creator>Хозяйка</dc:creator>
  <dc:description/>
  <dc:language>en-US</dc:language>
  <cp:lastModifiedBy>1</cp:lastModifiedBy>
  <dcterms:modified xsi:type="dcterms:W3CDTF">2020-01-09T17:21:05Z</dcterms:modified>
  <cp:revision>13</cp:revision>
  <dc:subject/>
  <dc:title>Презентация PowerPoint</dc:title>
</cp:coreProperties>
</file>