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81E-D053-4E88-8425-682DF920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253-EC33-40B7-A23C-B0B98FF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2E2-1604-4063-BF34-04FE017F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03A-E0CF-49B5-9D13-E77B256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AD3-D12D-434C-888B-F98CCE71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43C-404E-421E-8B32-9277140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1E4-B8CC-4D57-9033-3F920A23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B04-581A-412B-9E01-F95CA70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41F-BBB0-427E-92EB-18D8E5A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066-84F5-4E68-9862-CC8DAB9C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496-8601-46C5-9C77-CC63EF88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CD4-2108-432F-9347-A88EF51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61A-DEAA-48DB-8D29-51A75BB9E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бразовательн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 разновозрастном детском сообществе «СВЕТЛЯЧОК»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МБДОУ «Центр развития ребёнка – детский сад № 5 «Колокольчик» города Белёв Тульской области</a:t>
            </a:r>
            <a:br>
              <a:rPr sz="1400"/>
            </a:br>
            <a:br>
              <a:rPr sz="1400"/>
            </a:br>
            <a:r>
              <a:rPr b="1" i="1" lang="ru-RU" sz="1800" spc="-1" strike="noStrike">
                <a:solidFill>
                  <a:srgbClr val="339966"/>
                </a:solidFill>
                <a:latin typeface="Arial"/>
              </a:rPr>
              <a:t>Воспитатель Романова Ири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68360" y="5229360"/>
            <a:ext cx="6624720" cy="1495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ждое утро я  вместе с детьми  разновозрастного детского сообщества «СВЕТЛЯЧОК» собираюсь в свой семейный круг, чтобы пожелать друг другу доброго утра, поднять Государственный флаг Российской Федерации, побеседовать на интересующие детей темы, поупражняться в чтении чистоговорок и скороговорок, сделать пальчиковую и дыхательную гимнастику.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оманова И"/>
          <p:cNvPicPr/>
          <p:nvPr/>
        </p:nvPicPr>
        <p:blipFill>
          <a:blip r:embed="rId1"/>
          <a:stretch/>
        </p:blipFill>
        <p:spPr>
          <a:xfrm>
            <a:off x="6921360" y="1989000"/>
            <a:ext cx="197172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44" name="Picture 14" descr="Игры с пальцами"/>
          <p:cNvPicPr/>
          <p:nvPr/>
        </p:nvPicPr>
        <p:blipFill>
          <a:blip r:embed="rId2"/>
          <a:stretch/>
        </p:blipFill>
        <p:spPr>
          <a:xfrm>
            <a:off x="2484360" y="1952640"/>
            <a:ext cx="4248360" cy="3186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45" name="Picture 15" descr="Подём флага России"/>
          <p:cNvPicPr/>
          <p:nvPr/>
        </p:nvPicPr>
        <p:blipFill>
          <a:blip r:embed="rId3"/>
          <a:stretch/>
        </p:blipFill>
        <p:spPr>
          <a:xfrm>
            <a:off x="250920" y="2276640"/>
            <a:ext cx="1952640" cy="38890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179280" y="404640"/>
            <a:ext cx="4105440" cy="5277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 процессе образовательной деятельности, организованной таким образом, как представлено в презентации, дети в разновозрастном детском сообществе «Светлячок» успевают позаниматься с развивающими играми Б.П.Никитина, Н.А.Зайцева, других авторов,  учатся в ходе занятий не мешать друг другу, старшие выступают в роли «учителя», помощника для младших детей, малыши тянутся за старшими и хотят уметь делать то, чему уже научились старш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Романова И"/>
          <p:cNvPicPr/>
          <p:nvPr/>
        </p:nvPicPr>
        <p:blipFill>
          <a:blip r:embed="rId1"/>
          <a:stretch/>
        </p:blipFill>
        <p:spPr>
          <a:xfrm>
            <a:off x="4500720" y="260280"/>
            <a:ext cx="4228920" cy="63374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5280" y="333360"/>
            <a:ext cx="4032360" cy="3111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тренние встречи на кругу «Светлячков» способствуют благоприятному эмоциональному самочувствию каждого ребёнка.  Ребёнок ощущает к себе внимание, он чувствует себя нужным всем взрослым и детям разновозрастного детского сообщества «Светлячок» – а это залог физического и психического здоровья воспитан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Динамическая пауза"/>
          <p:cNvPicPr/>
          <p:nvPr/>
        </p:nvPicPr>
        <p:blipFill>
          <a:blip r:embed="rId1"/>
          <a:stretch/>
        </p:blipFill>
        <p:spPr>
          <a:xfrm>
            <a:off x="539640" y="3603600"/>
            <a:ext cx="3888000" cy="29178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48" name="Picture 10" descr="Романова И"/>
          <p:cNvPicPr/>
          <p:nvPr/>
        </p:nvPicPr>
        <p:blipFill>
          <a:blip r:embed="rId2"/>
          <a:stretch/>
        </p:blipFill>
        <p:spPr>
          <a:xfrm>
            <a:off x="4592520" y="189000"/>
            <a:ext cx="4229280" cy="6335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Непосредственно образовательная деятельность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913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468360" y="5229360"/>
            <a:ext cx="82072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сле семейного круга дети подходят к шкафчику и каждый ребёнок в своей ячейке находит задание, которое он обязан выполнить. Для старших дошкольников - это развивающие игры Б.П.Никитина, пособия по обучению грамоте и счёту Н.А.Зайцева, математические тетради, вкладыши для заштриховки и другие развивающие игры и пособ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5292720" y="189000"/>
            <a:ext cx="3384720" cy="283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арианной провожу индивидуально-развивающее заня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 развивающей игры Б.П.Никитина «Сложи узо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анна складывает узор по образцу (развивающая игра Б.П.Никитина «Сложи узо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11280" y="3860640"/>
            <a:ext cx="3384360" cy="283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 и Ярослав выкладывают числовой ряд с помощью карточек развивающей игры «Стосчёт» Н.А.Зайцева. Наблюдаю как мальчики справляются с заданием и задаю вопросы по последовательности выполнени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Развивающая игра Б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3492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4" name="Picture 13" descr="Разложи числа по порядку"/>
          <p:cNvPicPr/>
          <p:nvPr/>
        </p:nvPicPr>
        <p:blipFill>
          <a:blip r:embed="rId2"/>
          <a:stretch/>
        </p:blipFill>
        <p:spPr>
          <a:xfrm>
            <a:off x="4140360" y="3241800"/>
            <a:ext cx="4627440" cy="33163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4859280" y="4941720"/>
            <a:ext cx="4032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Составь слово из кубиков»  (педагогическая технология Н.А.Зайц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2 составление слов"/>
          <p:cNvPicPr/>
          <p:nvPr/>
        </p:nvPicPr>
        <p:blipFill>
          <a:blip r:embed="rId1"/>
          <a:stretch/>
        </p:blipFill>
        <p:spPr>
          <a:xfrm>
            <a:off x="4716360" y="549360"/>
            <a:ext cx="4213440" cy="3940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7" name="Picture 9" descr="Чтение по складам Зайцева"/>
          <p:cNvPicPr/>
          <p:nvPr/>
        </p:nvPicPr>
        <p:blipFill>
          <a:blip r:embed="rId2"/>
          <a:stretch/>
        </p:blipFill>
        <p:spPr>
          <a:xfrm>
            <a:off x="250920" y="2421000"/>
            <a:ext cx="4321080" cy="4103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58" name="Text Box 10"/>
          <p:cNvSpPr/>
          <p:nvPr/>
        </p:nvSpPr>
        <p:spPr>
          <a:xfrm>
            <a:off x="250920" y="333360"/>
            <a:ext cx="432108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грамоте с использование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ой технологии Н.А.Зайцева. Использую учебно-методический комплект Н.А.Зайцева: складовые таблицы, звучащие кубики, сто двадцать карт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Лиза работает в математической тетради"/>
          <p:cNvPicPr/>
          <p:nvPr/>
        </p:nvPicPr>
        <p:blipFill>
          <a:blip r:embed="rId1"/>
          <a:stretch/>
        </p:blipFill>
        <p:spPr>
          <a:xfrm>
            <a:off x="6156360" y="260280"/>
            <a:ext cx="2762280" cy="42674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0" name="Text Box 8"/>
          <p:cNvSpPr/>
          <p:nvPr/>
        </p:nvSpPr>
        <p:spPr>
          <a:xfrm>
            <a:off x="3924360" y="765000"/>
            <a:ext cx="2089080" cy="1554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под цифрами раскладывает карточки с точками и проверяет правильно ли он выполнил за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50920" y="5950080"/>
            <a:ext cx="8642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настольно-печатной игры «Русское лото» дети знакомятся с числами от одного до 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003640" y="4653000"/>
            <a:ext cx="3816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за выполняет задан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ой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оманова И"/>
          <p:cNvPicPr/>
          <p:nvPr/>
        </p:nvPicPr>
        <p:blipFill>
          <a:blip r:embed="rId2"/>
          <a:stretch/>
        </p:blipFill>
        <p:spPr>
          <a:xfrm>
            <a:off x="468360" y="2560680"/>
            <a:ext cx="4390920" cy="3294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64" name="Picture 12" descr="3 точки"/>
          <p:cNvPicPr/>
          <p:nvPr/>
        </p:nvPicPr>
        <p:blipFill>
          <a:blip r:embed="rId3"/>
          <a:stretch/>
        </p:blipFill>
        <p:spPr>
          <a:xfrm>
            <a:off x="179280" y="260280"/>
            <a:ext cx="3600720" cy="2700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324000" y="5661000"/>
            <a:ext cx="84960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группой старших детей считаем по таблице «Стосчёт» от 1 до 100 и обратно, называем соседей числа, используем порядковый счёт (педагогическая технология Н.А.Зайце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Стосчёт Зайцев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256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250920" y="4653000"/>
            <a:ext cx="309708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старшие дети выполняют задания,  малышам читаю полюбившиеся рассказы и сказки. Малыши любят слушать, сидя на ко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716360" y="423720"/>
            <a:ext cx="41054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следовательской лаборатории «Хочу всё знать» расположила материалы для проведения опытов и знакомлю детей с материалами  окружающей природной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В лаборатории"/>
          <p:cNvPicPr/>
          <p:nvPr/>
        </p:nvPicPr>
        <p:blipFill>
          <a:blip r:embed="rId1"/>
          <a:stretch/>
        </p:blipFill>
        <p:spPr>
          <a:xfrm>
            <a:off x="3635280" y="2120760"/>
            <a:ext cx="5329440" cy="44881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0" name="Picture 14" descr="Романова И"/>
          <p:cNvPicPr/>
          <p:nvPr/>
        </p:nvPicPr>
        <p:blipFill>
          <a:blip r:embed="rId2"/>
          <a:stretch/>
        </p:blipFill>
        <p:spPr>
          <a:xfrm>
            <a:off x="179280" y="260280"/>
            <a:ext cx="4321440" cy="40561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Малыши любят заниматься с водой"/>
          <p:cNvPicPr/>
          <p:nvPr/>
        </p:nvPicPr>
        <p:blipFill>
          <a:blip r:embed="rId1"/>
          <a:stretch/>
        </p:blipFill>
        <p:spPr>
          <a:xfrm>
            <a:off x="250920" y="260280"/>
            <a:ext cx="5041800" cy="41324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2" name="Picture 6" descr="НПИ ассоцияция Спорт"/>
          <p:cNvPicPr/>
          <p:nvPr/>
        </p:nvPicPr>
        <p:blipFill>
          <a:blip r:embed="rId2"/>
          <a:stretch/>
        </p:blipFill>
        <p:spPr>
          <a:xfrm>
            <a:off x="3995640" y="3033720"/>
            <a:ext cx="4699080" cy="35244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4427640" y="1000080"/>
            <a:ext cx="43210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алыши Настя и Саша любят играть с водой. Игра «Тонет – не тонет». Простейшие опыты с во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0920" y="5176800"/>
            <a:ext cx="38894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Катя и Максим в ходе настольно-печатной игры  «Спорт» знакомятся с различными видами 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9:31:37Z</dcterms:created>
  <dc:creator>Customer</dc:creator>
  <dc:description/>
  <dc:language>en-US</dc:language>
  <cp:lastModifiedBy>Аdmin</cp:lastModifiedBy>
  <dcterms:modified xsi:type="dcterms:W3CDTF">2020-01-09T08:59:09Z</dcterms:modified>
  <cp:revision>4</cp:revision>
  <dc:subject/>
  <dc:title>Образовательная деятельность в разновозрастном детском сообществе «СВЕТЛЯЧОК»  МБДОУ «Центр развития ребёнка – детский сад № 5 «Колокольчик» города Белёв Тульской области  Воспитатель Сычёва Наталья Викторовна</dc:title>
</cp:coreProperties>
</file>