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7BF2-E7CA-4E82-A002-5F9343B72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9B13-DF0E-45C0-8A99-EF817FC6E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10DA-18FA-4538-A819-BC41F800C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6B85-4C1B-4E2A-88C1-98D7C2BF1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DF053-024D-407A-8E91-69C3C44E2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2EB8D-DF50-4A95-ACA8-D62252BD3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2CAC3-0B38-4EF2-BA74-E983693E6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8875E-140B-4CE8-9223-462956DAE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70702-526E-443F-80EE-3DD65981F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BF11C-D3EA-45A6-9E00-6FA782079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464C8-14D9-42D4-B061-E0E8D4FB4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CCA4-4D57-4DF2-A7FA-F32DE2F05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BE561-3032-4C08-83E6-66759E9C3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975AB-1A9A-44FC-80AF-A2B859F63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061B0-2DED-4A35-8873-15FCF1973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72AAF-B4B1-4D58-AB1C-6CAF1139A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6E3AD-2D06-4783-A130-708BA55BB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749B-D0E5-40F2-A0F9-EB0738A35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2FC3-5871-4971-878D-114C2F5AD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B75B-3F5A-4BE0-B6B0-43C9CC9E6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6A41-49BB-44EC-8C27-6D54E994F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BA92-FE22-4F01-B2A2-5F8188D59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A517-AFA3-4283-9F74-EBAD100F0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28B0-9FFF-4F22-8A1B-492F4A718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0C75F-FBD3-4914-9F9F-72DD0A7E16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B177A-0F0B-440E-AC9E-034A4D002A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2205000"/>
            <a:ext cx="84960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Освоение приемов работы с инструментами и приспособлениями для ручных работ. Освоение приемов выполнения прямых и косых стежков.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971280" y="5805000"/>
            <a:ext cx="7777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Разработал мастер п/о Захарова О. Н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2454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2666880"/>
            <a:ext cx="1276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835280" y="549360"/>
          <a:ext cx="790560" cy="134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549360"/>
                    <a:ext cx="790560" cy="13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476360" y="404640"/>
          <a:ext cx="6624360" cy="1655640"/>
        </p:xfrm>
        <a:graphic>
          <a:graphicData uri="http://schemas.openxmlformats.org/drawingml/2006/table">
            <a:tbl>
              <a:tblPr/>
              <a:tblGrid>
                <a:gridCol w="1461600"/>
                <a:gridCol w="5162760"/>
              </a:tblGrid>
              <a:tr h="455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548dd4"/>
                      </a:solidFill>
                    </a:lnL>
                    <a:lnR w="5760">
                      <a:solidFill>
                        <a:srgbClr val="548dd4"/>
                      </a:solidFill>
                    </a:lnR>
                    <a:lnT w="18720">
                      <a:solidFill>
                        <a:srgbClr val="548dd4"/>
                      </a:solidFill>
                    </a:lnT>
                    <a:lnB w="18720">
                      <a:solidFill>
                        <a:srgbClr val="548dd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авительство Санкт-Петербург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8dd4"/>
                      </a:solidFill>
                    </a:lnL>
                    <a:lnR w="18720">
                      <a:solidFill>
                        <a:srgbClr val="548dd4"/>
                      </a:solidFill>
                    </a:lnR>
                    <a:lnT w="18720">
                      <a:solidFill>
                        <a:srgbClr val="548dd4"/>
                      </a:solidFill>
                    </a:lnT>
                    <a:lnB w="5760">
                      <a:solidFill>
                        <a:srgbClr val="548dd4"/>
                      </a:solidFill>
                    </a:lnB>
                    <a:noFill/>
                  </a:tcPr>
                </a:tc>
              </a:tr>
              <a:tr h="1200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митет по образованию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анкт-Петербургское государственное бюджетное профессиональное образовательное учреждение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Колледж Петербургской моды»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8dd4"/>
                      </a:solidFill>
                    </a:lnL>
                    <a:lnR w="18720">
                      <a:solidFill>
                        <a:srgbClr val="548dd4"/>
                      </a:solidFill>
                    </a:lnR>
                    <a:lnT w="5760">
                      <a:solidFill>
                        <a:srgbClr val="548dd4"/>
                      </a:solidFill>
                    </a:lnT>
                    <a:lnB w="18720">
                      <a:solidFill>
                        <a:srgbClr val="548dd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"/>
          <p:cNvSpPr/>
          <p:nvPr/>
        </p:nvSpPr>
        <p:spPr>
          <a:xfrm>
            <a:off x="0" y="4038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Таблица 3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Номера ножниц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79280" y="1700280"/>
          <a:ext cx="8785440" cy="5119560"/>
        </p:xfrm>
        <a:graphic>
          <a:graphicData uri="http://schemas.openxmlformats.org/drawingml/2006/table">
            <a:tbl>
              <a:tblPr/>
              <a:tblGrid>
                <a:gridCol w="1513080"/>
                <a:gridCol w="72723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омер ножниц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комендуемые виды рабо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- 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скрой тканей пальтовой группы (сукно, драп и др.), осноровочные работы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 - 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скрой тканей костюмной группы (трико, шевиот и др.), осноровочные работы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скрой хлопчатобумажных и шелковых тканей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 - 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дрезка мелких деталей из разных ткане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 - 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ыполнение разрезов при обработке издели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 – 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резка концов нито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"/>
          <p:cNvSpPr/>
          <p:nvPr/>
        </p:nvSpPr>
        <p:spPr>
          <a:xfrm>
            <a:off x="1800" y="5582880"/>
            <a:ext cx="2156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br>
              <a:rPr sz="1100"/>
            </a:b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427280" y="277560"/>
            <a:ext cx="425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Инструменты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965760" cy="28573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95280" y="3458160"/>
            <a:ext cx="8424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Сантиметровая лента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представляет собой мягкую прорезиненную ленту с нанесенными на нее сантиметровыми и миллиметровыми делениями. Она применяется для снятия мерок с фигуры человека и измерения деталей изделия. В процессе работы лента вытягивается, поэтому ее длину необходимо систематически проверять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51280" y="277560"/>
            <a:ext cx="511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Приспособления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3025800" cy="48243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348000" y="1477800"/>
            <a:ext cx="5600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Манекен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используется для проверки правильности изготовления изделий как в процессе их обработки, так и в готовом виде. На манекенах проверяют, например, положение боковых и плечевых швов изделия, правильность вметывания воротника в горловину и рукавов в проймы и т.д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Для удобства пользования манекен укрепляется на подставке, чтобы его можно было свободно поворачивать и поднимать. Высоту манекена регулируют упорным винт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51280" y="277560"/>
            <a:ext cx="511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Приспособления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79280" y="3016440"/>
            <a:ext cx="8683560" cy="31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Лекала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едставляют собой детали изделия, вырезанные из картона или других материалов. Различают лекала-эталоны, рабочие и вспомогательные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Лекала-эталоны не используют для очерчивания контуров деталей на ткани. Они служат только для изготовления и проверки комплектов лекал в массовом производстве. По рабочим лекалам, имеющим припуски на швы, усадку и уработку, очерчивают контуры деталей на ткани, наносят контрольные надсечки для правильного соединения деталей изделия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спомогательные лекала используют для намелки вытачек, петель, пуговиц, обмелки уголков бортов, воротник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http://www.classifieds24.ru/images/1628/1627456/large_3.jpg"/>
          <p:cNvPicPr/>
          <p:nvPr/>
        </p:nvPicPr>
        <p:blipFill>
          <a:blip r:embed="rId1"/>
          <a:stretch/>
        </p:blipFill>
        <p:spPr>
          <a:xfrm>
            <a:off x="179280" y="189000"/>
            <a:ext cx="37450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7280" y="277560"/>
            <a:ext cx="48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Приспособления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9640" y="4403880"/>
            <a:ext cx="8264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Линейки, угольники и лекала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в швейном производстве применяют при построении чертежей деталей изделий, а также при раскрое тканей и пошиве издел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4032360" cy="38894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Угольник"/>
          <p:cNvPicPr/>
          <p:nvPr/>
        </p:nvPicPr>
        <p:blipFill>
          <a:blip r:embed="rId2"/>
          <a:stretch/>
        </p:blipFill>
        <p:spPr>
          <a:xfrm>
            <a:off x="4427640" y="1341360"/>
            <a:ext cx="2857320" cy="12956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Линейка"/>
          <p:cNvPicPr/>
          <p:nvPr/>
        </p:nvPicPr>
        <p:blipFill>
          <a:blip r:embed="rId3"/>
          <a:stretch/>
        </p:blipFill>
        <p:spPr>
          <a:xfrm>
            <a:off x="7020000" y="2708280"/>
            <a:ext cx="191448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563640" y="25992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Приспособления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3168720" cy="28083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24000" y="2557080"/>
            <a:ext cx="856908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Булавк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в изготовлении одежды используют для скалывания деталей при переводе линий с одной половины изделия на другую, при уточнении конструктивных линий во время примерки. Длина булавок 3...4 см. Они должны быть тонкими, острыми, хорошо отшлифованными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516720" y="1413000"/>
            <a:ext cx="1923840" cy="18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634920" y="27756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Приспособления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529080" cy="29527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50920" y="3001320"/>
            <a:ext cx="864216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Мелом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наносят линии и знаки при раскрое тканей и примерке изделий. Для швейной промышленности мел выпускают разных цветов. Чтобы все проведенные линии были тонкими, края мела следует постоянно затачивать. Ширина мела должна быть от 0,5 до 1,5 мм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492360" y="27756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Приспособления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5" name="" descr="Распарыватель"/>
          <p:cNvPicPr/>
          <p:nvPr/>
        </p:nvPicPr>
        <p:blipFill>
          <a:blip r:embed="rId1"/>
          <a:stretch/>
        </p:blipFill>
        <p:spPr>
          <a:xfrm>
            <a:off x="250920" y="260280"/>
            <a:ext cx="3457440" cy="25923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324000" y="3387960"/>
            <a:ext cx="8569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Распарывател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- практичный помощник – ножичек для распарывания нужен для исправления (распарывания) неверно сделанных швов, но не только. Он часто используется для прорезывания петель и выполнения других прорезов, то есть тонкой и ответственной работ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Элементами ниточных соединений являются </a:t>
            </a:r>
            <a:r>
              <a:rPr b="1" i="1" lang="en-US" sz="3600" spc="-1" strike="noStrike">
                <a:solidFill>
                  <a:srgbClr val="feec94"/>
                </a:solidFill>
                <a:latin typeface="Times New Roman"/>
              </a:rPr>
              <a:t>стежок, строчка, шов.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87138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Стежок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— это один элемент структуры при ниточном способе соединения между двумя проколами материала иглой, полученный переплетением одной или нескольких ниток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Строчка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— это последовательный ряд повторяющихся однородных стежков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Шов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— соединение двух или нескольких слоев материалов строчкам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eec94"/>
                </a:solidFill>
                <a:latin typeface="Times New Roman"/>
              </a:rPr>
              <a:t>Технологические параметры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стежков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87138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лина стежка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 выполняемого вручную, определяется длиной нити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сположенной на лицевой стороне материала, и длиной интервала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рис. 1.1, а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тежки, образуемые под углом к линии строчки, измеряются и по ширине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с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(рис. 1.1, б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строчках, где затруднено точное измерение длины одного стежка, указывают количество стежков в 10 мм строчки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(рис. 1.1, в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Цели урока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Образовательные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Ознакомить обучающихся с инструментами и приспособлениями для ручных работ, научить правильно пользоваться инструментами  и приспособлениями, сформировать навыки по технологически правильному выполнению прямых и косых стежк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Развивающие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Развивать у обучающихся интерес к выбранной профессии. 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Воспитательные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Воспитывать у обучающихся эстетический вкус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Технологические параметры стежков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 rot="60000">
            <a:off x="539640" y="1557000"/>
            <a:ext cx="8280360" cy="42498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565200" y="5920920"/>
            <a:ext cx="80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Рис. 1.1. Технологические параметры стежков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а – прямой ручной стежок;  б – косой ручной стежок; в – машинный стежо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Прямые стежки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рямые стежки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(рис. 1.2) образуют простые по строению легко распускающиеся строчки, поэтому их применяют для временного соединения и закрепления деталей при подготовке изделия к примерке, машинным работам, для фиксации меловых линий, образования сборок и т.д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ямыми стежками можно выполнить следующие строчки: сметочные, наметочные, заметочные, выметочные, копировальные и строчки для образования сборок (сборкообразующие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Прямые стежки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59497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Рис. 1.2. Прямой ручной стежок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547640" y="1557360"/>
            <a:ext cx="6264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35290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Применение прямых стежков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50920" y="3860280"/>
            <a:ext cx="316872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ис. 1.3. Строчки прямого стежка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 – сметочная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б – наметочная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 – заметочная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 – выметочная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 – копировальная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е – для образования сборок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 rot="60000">
            <a:off x="3706560" y="328320"/>
            <a:ext cx="5252760" cy="63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Косые стежки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Косые стежки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(рис. 1.4) образуют простые по строению, но более прочные и эластичные соединения, чем строчки прямого стежка, поэтому их используют для временного и постоянного скрепления деталей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 строчкам временного назначения относят наметочные и выметочные, а к строчкам постоянного назначения – обметочные, а также стегальные, подшивочные и штуковочные строчки, используемые для незаметного соединения детале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Косые стежки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6021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Рис. 1.4. Косой стежок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 rot="60000">
            <a:off x="1402920" y="1696680"/>
            <a:ext cx="6623280" cy="38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78920" y="277920"/>
            <a:ext cx="3745080" cy="25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Применение косых стежков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4012920"/>
            <a:ext cx="3384720" cy="26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ис.2.5. Строчки косого стежка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 – наметочная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б – выметочная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 – обметочная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 – стегальная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, е – подшивочная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ж –  штуковочна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3851280" y="189000"/>
            <a:ext cx="510696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eec94"/>
                </a:solidFill>
                <a:uFillTx/>
                <a:latin typeface="Times New Roman"/>
              </a:rPr>
              <a:t>Технические условия на выполнение ручных рабо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8785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ри выполнении ручных работ необходимо соблюдать следующие технические условия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Толщина меловых линий не должна превышать 1,0 – 1,5 м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ри проверке кроя по лекалам внутренняя сторона меловых линий должна совпадать с контурами лекал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Концы надсечек и линий разреза не должны доходить до линий строчек на 1,0 – 1,5 м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ри подготовке изделия к примерке следует применять хлопчатобумажную крученую пряжу, а также нитки цветные или белого цвета соответствующих номеро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Все сметочные работы выполняют на расстоянии 1,0 – 1,5 мм от намеченной меловой линии в сторону среза детали с тем, чтобы сметочные строчки не попали при дальнейшей обработке под машинные строчки. Концы сметочных строчек закрепляют одним – четырьмя обратными стежками. Чтобы облегчить и ускорить сметывание, а также улучшить качество выполняемой операции, предварительно скалывают булавками вытачки, складки, детали с фигурными срезами, боковые части спинки или переда по срезам и т. п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Для удаления ниток сметывания необходимо нитки строчки разрезать ножницами через каждые 10 – 15 см, а затем вытягивают концы ниток из ткан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eec94"/>
                </a:solidFill>
                <a:uFillTx/>
                <a:latin typeface="Times New Roman"/>
              </a:rPr>
              <a:t>Оценка качества приемов выполнения прямых и косых стежков.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457200" y="1600200"/>
          <a:ext cx="8435520" cy="5068440"/>
        </p:xfrm>
        <a:graphic>
          <a:graphicData uri="http://schemas.openxmlformats.org/drawingml/2006/table">
            <a:tbl>
              <a:tblPr/>
              <a:tblGrid>
                <a:gridCol w="4218840"/>
                <a:gridCol w="1405440"/>
                <a:gridCol w="1405440"/>
                <a:gridCol w="1405800"/>
              </a:tblGrid>
              <a:tr h="1103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ребова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бствен-ная оцен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ценка одногруппни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ценка мастера п/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) Строчки стежков параллельны между собой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3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) Начало и конец строчек на одном уровне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3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) Длина стежков одинаковая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3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) Узлы и закрепки выполнены аккуратно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3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) Влажно-тепловая обработка образца выполнена качественно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Спасибо за внимание!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4360" y="1484280"/>
            <a:ext cx="79200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ec94"/>
                </a:solidFill>
                <a:latin typeface="Times New Roman"/>
              </a:rPr>
              <a:t>Контрольные вопросы по пройденной теме</a:t>
            </a:r>
            <a:br>
              <a:rPr sz="2000"/>
            </a:br>
            <a:r>
              <a:rPr b="1" lang="en-US" sz="2000" spc="-1" strike="noStrike">
                <a:solidFill>
                  <a:srgbClr val="feec94"/>
                </a:solidFill>
                <a:latin typeface="Times New Roman"/>
              </a:rPr>
              <a:t> (безопасные условия труда и терминология ручных работ)</a:t>
            </a:r>
            <a:br>
              <a:rPr sz="2000"/>
            </a:b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. Выберите правильный вариант ответа. Ножницы передают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. лезвиями от работающего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2. кольцами от работающего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2. Напишите правильный ответ. Где должны храниться иглы и булавки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_______________________________________________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3. Назовите термин, соответствующий работе по соединению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мелкой детали с крупной,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стежками временного назначения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. наметывание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3. вметывание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4. Назовите термин, соответствующий работе по прикреплению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подогнутого края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детали, стежками постоянного назначения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. заметывание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2. приметывание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2. выметывание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3. подшивание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5. Назовите термин, соответствующий работе по соединению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двух  равных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по величине деталей, стежками временного назначения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. приметывание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2. сметывание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3. вметывание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Инструменты и приспособления для ручных рабо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К инструментам для ручных работ относятся: ручные иглы, наперсток, ножницы, сантиметровая лента;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К приспособлениям – манекен, лекала, линейки, портновские булавки, мел, распарыватель и т.д..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27280" y="277920"/>
            <a:ext cx="425916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Инструменты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263700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Ручные иглы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 зависимости от длины и диаметра подразделяют по номерам от № 1 (самые тонкие) до № 12 (самые толстые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Характеристика игл приводится в табл. 2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Игла должна быть острой, упругой, неломкой, хорошо отполированной, без заусенцев в ушке, которые вызывают ослабление и обрывы ниток. </a:t>
            </a:r>
            <a:br>
              <a:rPr sz="2800"/>
            </a:br>
            <a:br>
              <a:rPr sz="24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" descr="http://cs3.livemaster.ru/zhurnalfoto/2/f/5/140623164931.jpg"/>
          <p:cNvPicPr/>
          <p:nvPr/>
        </p:nvPicPr>
        <p:blipFill>
          <a:blip r:embed="rId1"/>
          <a:stretch/>
        </p:blipFill>
        <p:spPr>
          <a:xfrm>
            <a:off x="250920" y="333360"/>
            <a:ext cx="403200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Таблица 1</a:t>
            </a:r>
            <a:br>
              <a:rPr sz="32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Размеры и назначение игл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58960" y="965880"/>
            <a:ext cx="223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58960" y="566352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3520" y="184680"/>
            <a:ext cx="223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50920" y="1413000"/>
          <a:ext cx="8642160" cy="5479920"/>
        </p:xfrm>
        <a:graphic>
          <a:graphicData uri="http://schemas.openxmlformats.org/drawingml/2006/table">
            <a:tbl>
              <a:tblPr/>
              <a:tblGrid>
                <a:gridCol w="1278000"/>
                <a:gridCol w="1323720"/>
                <a:gridCol w="998640"/>
                <a:gridCol w="50418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ме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л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метр,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ина,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кан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гкие хлопчатобумажные, шелковые и шерстяны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гкие хлопчатобумажные, шелковые и шерстяные, а также средней толщины — трико, легкие камвольные и т. п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й толщины — трико, легкие камвольные и т. п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льтовые ткани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шковина и т. п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76360" y="277560"/>
            <a:ext cx="5616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Инструменты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Наперсток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нужен для проталкивания иглы в ткань; надевают его на средний палец правой рук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ля правшей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перстки бывают двух видов: без донышка и с донышком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 работе иглу проталкивают боковой частью наперстка.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" descr="Наперстки"/>
          <p:cNvPicPr/>
          <p:nvPr/>
        </p:nvPicPr>
        <p:blipFill>
          <a:blip r:embed="rId1"/>
          <a:stretch/>
        </p:blipFill>
        <p:spPr>
          <a:xfrm>
            <a:off x="250920" y="189000"/>
            <a:ext cx="35290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Таблица 2</a:t>
            </a:r>
            <a:br>
              <a:rPr sz="32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Основные размеры наперстка по номерам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457200" y="1989000"/>
          <a:ext cx="8229240" cy="4679640"/>
        </p:xfrm>
        <a:graphic>
          <a:graphicData uri="http://schemas.openxmlformats.org/drawingml/2006/table">
            <a:tbl>
              <a:tblPr/>
              <a:tblGrid>
                <a:gridCol w="1693800"/>
                <a:gridCol w="1498680"/>
                <a:gridCol w="1707840"/>
                <a:gridCol w="3328920"/>
              </a:tblGrid>
              <a:tr h="4795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мер наперст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метр, м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та, м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40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о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0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..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..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9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..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9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..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0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..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9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140000" y="277560"/>
            <a:ext cx="454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Инструменты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3213000"/>
            <a:ext cx="843588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Ножницы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применяемые в швейном производстве, выпускают разных номеров. Их подбирают в зависимости от выполняемой операции и обрабатываемой ткани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Ножницы должны закрываться без резкого звука; их лезвия должны одинаково хорошо резать по всей своей длине. Для обрезки концов ниток применяют специальные ножниц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352728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7-28T15:19:13Z</dcterms:created>
  <dc:creator>Олечка</dc:creator>
  <dc:description/>
  <dc:language>en-US</dc:language>
  <cp:lastModifiedBy>Олечка</cp:lastModifiedBy>
  <dcterms:modified xsi:type="dcterms:W3CDTF">2020-01-09T12:15:42Z</dcterms:modified>
  <cp:revision>24</cp:revision>
  <dc:subject/>
  <dc:title>Освоение приемов работы с инструментами и приспособлениями для ручных работ. Освоение приемов выполнения прямых и косых стежков.</dc:title>
</cp:coreProperties>
</file>