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97F-7B54-4FA2-9B45-7B721434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FEF-63EB-456C-805C-51CF0367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03DE0-1A76-4972-88A8-5D3C50C6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F11F4-547A-4901-B3EA-C74B6B49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795BD-837B-4445-967D-0EED92C2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E1021-7D1D-402C-8E44-40808980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F4F84-E650-418B-AF29-D9AEDC97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2FCE4-B39B-4AF8-9221-377D2A9B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DB21B-3EA2-4B63-958D-1BD243A5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81956-2B75-4276-BF46-A9C851A4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58682-94FB-47D8-9C60-836F9950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42ECE-2E59-40C2-B9E2-D02A8D88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BAD7-D071-4092-ACC9-67E976BE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7393D-33DF-425A-A504-2124E1F2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2AFA6-187D-4B30-AA17-290B3F2B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6D183-6C05-437D-BE11-4DB9ED20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3792E-5672-48DB-BD9C-28D7D33C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85643-1735-4E28-BBD8-B718205B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DE5A9-F950-4A1C-85B0-D0474BB7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2B710-D3C8-47F8-B5A8-0B316032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520A0-3015-4924-9DC4-81FA7678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37688-8AB2-41BF-84F7-2C1A4C0A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BAFB3-C73E-41FC-B97C-F6AFA790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897-3BEE-4B2C-9BD5-F3F69D6D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2713D-1EE7-4385-A093-23E1E57F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13F23-C7E6-475E-8C13-BBEACE47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83A5B-4416-4023-9C63-5773CAC4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E092C-7951-4745-9D1C-4FC2614F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5B3C3-C348-48A7-864D-3F056754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5CA2C-149E-44CB-AFA0-CDAE4240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A4A0B-9507-4198-ABB8-D4CF2450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3C390-E5F2-4714-AEA7-458A3863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89703-51BF-414D-BB04-BAAB17AF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3F192-47B3-4F5D-B5C5-F4673177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84FF-1418-4EB1-98E4-EDACDAD9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009CE-5BA9-4E9B-BA11-F4C11D7F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28F05-EEDF-433D-8EBB-80F841DB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4860D-F5A6-415C-9384-FEC7050E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667D9-2664-4698-B8B0-ECCDF914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F2244-E4D8-412E-BE87-0562CCC3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42F9A-E8EC-4175-8085-D77A6C9B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04715-B49E-44E7-B4E2-03ECF403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75B47-5111-4284-B15A-5FD3DF1C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DBE0C-7EEA-4205-9046-1BE38884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C1AEF-3811-49F9-80ED-B170C97D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F7B0-CA4E-4219-AD4D-7B3C9812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870CD-9EDD-446F-A140-8C3AD313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343EB-DD50-4328-9194-624AD7C2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F0BB0-E76D-4B27-846F-F529E11E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4BB4A-952A-4A94-B562-D8BBA6FB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DDDFB-F011-4AFE-9E90-25800655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36EE1-1FBB-47DF-957D-639B9533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11320-48B6-4DB9-BE00-4FD57EE7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B7685-C5D1-4625-935C-0F23E9B9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2AB57-E54A-4E39-8256-4ED1921E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61DD9-5FD9-4124-8BA2-70ECD6C1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DFBE-8D8D-4506-ABA6-BF28B7A4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2687A-244E-4E27-8118-8B1F7EC0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591EC-9BE9-4E36-B48F-81DE3664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A8E05-8791-4311-A03D-EFF65104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A7961-9147-427E-B6C6-6B6D9176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76FC95-882C-4261-9C99-B2B3334D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144DB-37B4-43EC-BB49-77C1196C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6E716-9D7A-41E9-8E7F-03876D4D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2E2BA-52A1-465E-AED5-35797475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E884C0-9647-400D-A156-0CE75118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1DEF3-0F5A-49F0-803B-82F21D9C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4140-3C13-4E71-9CD3-6882B562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D2FE3-E35B-44E4-9AA4-3A0565CC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607742-50A1-4BA2-B772-C489C291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3AF7FC-5DBF-415D-84FE-1E26D318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8063A-B6C2-4273-853A-6E6FCD76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DE1DDC-4A9C-4824-B501-4037637E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5E2ADF-5B3D-46A1-B9F0-71B5AFC2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12FD25-AA6E-40EF-98F8-797BDB20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9AAAFE-7EB7-4171-80A0-836FA6C8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191C17-F01D-4DD8-AB2F-83C02280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87D350-A8F0-41CD-9DCE-BE7DF8DC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C3E0-D7B5-4D05-AF97-547A2D11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2C15CC-9C79-4273-B57E-313778BF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F63B8-28A5-4580-BE98-3663F237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078880-D1B8-4ADC-ABAA-3312F8A5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416977-B08B-4009-AAC4-FA581D99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122E60-B1F1-4091-87A8-CAB56A41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BF103C-0D99-4311-B147-3E21B930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FB6538-FD69-4DDA-B845-A82915C4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919D78-7805-4DF3-AA6D-6CE8E975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3EF495-9E16-4E4B-8E9A-0345C883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21E7F-C846-4E8E-AAD9-CC279DE3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58FC-7FBA-4E19-8DA8-BC995E43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82875B-C1AF-42ED-84CA-F8961426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BD7EB3-F8E2-4F37-9813-A4F3FF5D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DE0BF3-044D-4F9A-933B-AE22AF0C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890CC-E0EB-4D3D-8D91-9F425E49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59AD33-B476-4C76-843C-EB70D8A1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E88FA8-3601-44F1-997E-A7CDD03B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752635-A5F0-4F41-8DCE-C1B724CC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013AE9-280F-4411-A2EC-8457E6D7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9036AE-45DC-461A-8028-7707830D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662E20-423A-434C-BEC3-B68BF22F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8438-9188-47ED-8665-9A5C8972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4C9B10-EFAB-49E0-9EC8-C55731B9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2D28CF-535F-4FAB-AD99-69550C07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C8957F-EB21-42E1-BA80-685E7BBB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1A9D47-B71B-469D-9C3B-9AAA5E73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F65FED-3C64-4C46-B759-CF104806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A1C872-A76A-49A6-94C6-51DC8BA9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DC02AA-4B7B-473D-9A86-24661B34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A1D4DE-61C5-41AB-9794-BBB62917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85CC62-1C10-40F5-8EBB-C8367980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2C3556-70E2-442F-8E34-082E9468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DD2-FDEA-40E6-A778-C5B7E522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C748-A20C-4869-BA5F-DCA54E05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1452BE-22FE-4E8D-BCA0-B7D0E384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D0E019-63B3-4AF5-A979-D802AAE3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88531B-3F7B-42FA-92F7-50FBC535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D720DE-8952-4EE5-BA39-4A20B474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C3728D-1ED1-4B4F-AB64-E7BBA0A7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ADA29C-C3A8-4231-887C-6DB76C5D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BEE7DB-8170-454D-8EF0-232AF0D5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38533D-E25B-4BD5-BFF6-264C3809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2005CF-062E-4A5A-95F5-80F0C37F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F34522-1F18-4223-86B9-BCA3C432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3358-A55F-435C-A696-073F3954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91CE97-D2F9-4AA9-A04C-77106442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463557-67F4-4C21-A735-E86CAEE4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97E8E5-BB79-4872-8835-7C9A619B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6F97D0-6EB9-4B86-8737-35DE29F4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782D4A-6ACF-486C-823B-C8958F5D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56F5C2-BF76-4354-9078-269D0F11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BD629B-EAA2-4B2F-B64F-B58F4998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2A364E-6140-47C7-8BD1-1BCF624E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5C585D-D055-48F1-9871-99BD81E6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A38455-7BCE-4190-AC94-AEA88490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624A-E213-492B-ACAB-1898E6C2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D629E5-1D94-4A7E-A047-2C6DB937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6B0AF7-260C-4B71-BC94-FC57A838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73496A-D70A-4D90-837C-EC74FCEF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097AAB-44CE-4216-AEAB-E743FB55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50E94F-55E4-4693-8A09-E9D7237D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0ECB5E-06C9-49FD-ADD4-300DED23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4605C8-402E-4B05-9498-3C82DB00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8589CB-DC03-46E2-8499-501D3D03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AA034B-5A03-4B1D-9CD0-34400C68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2D7D51-B80A-4A2F-8C6D-6A238DB7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F404-189A-4142-A828-BB9FDF38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9E6E33-5FE5-4F1B-BEE1-1A1E0ECF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709F11-C419-496F-A74D-D6163591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04DC17-36C6-4C02-A021-AB25D23D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8702FB-1195-42FC-A555-C827CAE1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369C9B-3CA3-4C60-9BC5-62D2B163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0E07B9-08C4-41A2-AF81-200A7FB7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DBE4A6-81A2-46F6-B858-9A82C992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DA4CE9-2504-4C90-80D8-D8876C99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48CF1D-4877-4E34-A00C-74328CC7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84AF54-E7AE-41E5-87A2-E10894C7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E0E1-3771-44E0-997A-87BFDA80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95DC01-B557-452B-A833-0D840A86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C3F880-ECD2-4A68-A043-DD9AD55C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407D94-3E12-4F77-A685-4B2BD1E5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351BFA-39F7-479E-B99B-7BA7B918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89335D-03BB-4F0C-92EE-800000AE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80E3C7-5650-4018-8C8D-B80E51F9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33CB93-164B-40A9-909A-4F7069DE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C4BDC0-0FB1-4B96-A4F6-36D7626F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D83444-2A18-4783-80E8-925BA629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5B845D-8525-4BB6-B0AC-4713089C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61BF1-5524-4AE4-9F0A-2640AA5C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ED109C-9BF3-4643-963A-502B7032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4481D2-23F9-48F8-8D5D-CA9BC995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A91864-9F34-433D-B31C-2E02C5A4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C84E0B-51C3-4392-B3CD-BE9D0AEF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80C39A-AA3F-44F4-8C85-87D31E4C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4F46C6-07F2-478B-A413-6EB45BF1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9572A0-6ADA-45BD-B182-4F82A2D2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224111-E3D5-4689-8005-5CD7C962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5DB5B9-8E52-4C66-9C2D-DD75297B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C171BA-D590-4ACF-97FC-C744EC9E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9D213-5E90-4E59-8E66-012B2007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776BC9-000F-4830-A38C-16788B13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78FEFA-BB74-4E19-B21A-81D4EE5D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79A8FF-815A-4B40-B017-D713C3AE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43FA95-9A96-439C-84FA-8DD26287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6E9D8F-CF2A-480A-9B7E-B3CCC4E4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9DF32A-5B03-408A-B63E-4E73EF8D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8B8B0F-B38D-438C-962C-9A651B61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04A70B-2B25-4C41-B13B-66F288DC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7C9CA7-9B7F-41FF-868E-AE6764F7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174453-277B-4365-86EF-DFC2D167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E2FB5-4E02-481D-A512-144BC2F6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4CADB2-A703-47FD-A115-E3E11E5F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B86178-E029-44DF-B06B-EDEEFCC5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5EB4BF-E2A0-4094-B2D6-16E555E0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EAA6C6-B877-4B95-A0AD-BC81D402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25355D-E698-4CED-BFD0-7C477639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B1C2A9-B36A-4071-AE0F-6DBBD6A5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746698-4148-4C54-AAED-A0137ABC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FD2983-75D3-4076-ACEF-D2C4E5FF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D3B415-68A3-4EF3-A494-E3F23AF5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611A3A-74DE-4CBE-895E-10C13311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48068-8D40-4D55-AB2D-41DC85E7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5408C8-76FD-4054-96C5-5D67C9DB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EB5C86-9D54-4353-99CE-B017BFD1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726434-C90C-4713-BB68-9077BBDE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B610DE-2FC5-47B0-933B-C07185D7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2CFA86-7F3D-45CC-B5BF-6C2BF702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C37806-8BC5-497C-83EB-D317BC2F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825BBE-2FD3-4AEA-82C3-2D621AA3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6D791E-7AD8-4E30-8CB2-EF9D207D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29EF5C-1F44-4135-97E5-C9780F8B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1FE23B-676C-4EA6-B21C-A2DF7789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F3323-2271-4967-BA7E-E056A603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34F3A4-CB53-44C4-941A-478B7155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F06CB7-FD7E-44D6-804A-441C05BF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15670F-B93E-4F44-BF4B-4FBBC953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025075-FFE8-4BF6-8C20-34D5CDD7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5E35A3-8562-4A61-A276-9469FC9F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9D8C46-1D3C-4CC7-B5BB-D7A7CCC5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667B5D-613D-4412-88D5-0BC05651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21B029-7F8F-44B8-B8B3-98CB3B1E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713AAF-F492-4DF1-BD4B-75703654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933492-DAF2-42A7-9F50-1140EBA2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0A5-2B23-4FBD-B210-21B4301F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13E61-F876-4E18-B260-9ABA81A1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FBAAA6-7AE2-4ACC-AC6A-7024C8A7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BB5ACD-7C73-46AD-BA8B-8219D109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71D9B5-DADC-4878-AE59-55A28C63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D2381C-670F-43B1-823E-8E74E0DB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CA777A-D083-498C-B377-341667FC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F311CC-DC11-4D17-94C4-AD637067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DEBA60-0209-4266-9199-E434D7DF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9A5D87-F088-4F4E-800F-830CF4E1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F34E8A-B400-47ED-A22E-CA006140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B3B491-6209-4E3C-AC56-DD0099BB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D189A-34DF-4650-83A0-D14BB062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88E023-FCF7-4777-9E12-E81E8776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566284-7661-4E79-9394-20E25409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62A48E-8855-4618-BD2B-7B4A2DDF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828F21-208C-41B6-AF06-5FE64F21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4D9038-7FFE-426C-AA6B-6758C822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85D6B5-BF22-45C0-B3AE-EBDF7CB0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8B6216-9E3B-4F97-B5DF-97BDFC4C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F8F4CC-716C-44E1-B24F-3D192DE0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949C08-42A2-461F-A32C-DFE9CEB8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B9CF5E-2B19-429B-BC81-78B0D9FB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611A-8448-4009-B8B5-E5570550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9B9E93-2125-40D3-973C-6664FFC0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E66D7B-0112-47DA-8975-200D6ED0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86B8D6-FF43-4BCD-8A1D-FE0C9E11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90A035-FF9B-4989-842C-0F157444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DAC762-75B2-412F-AA7C-89C531C9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57AA6-FE38-43CB-9C41-5A8F0378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EA1AE-079E-4F4B-9D42-28D113D9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7C88D-4B0A-4B1E-800D-6FBA1D0C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F6C8E-EA5A-45AC-8EC1-D4048B19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0B702-3403-4C74-AB4A-C0EF92DE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471EA-5B12-406E-AE9B-1D5CE5F8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3CFB1-8DF8-4DF5-B323-8544FBC3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59E-C35E-4634-82F6-733CAA75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07600-40EB-4E2F-AA6F-90487132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7B449-9E23-4108-A51B-BD452941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61428-1DAB-4726-9946-2E280D58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722C8-7439-4080-A88F-7FB3EAB1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E1421-0724-416E-B854-0B54A4CD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3A6F1-20B2-4347-A122-622191BC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DD7BA-E533-4BD9-B290-8E106BDA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5D0F3-8DA8-43E1-8484-8E21E482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B807B-B2EE-47E9-8717-0B40AD6B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0B789-14CE-4E21-BCDB-53A1BE2E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BEB-CB15-4C0C-8B1E-4405CF36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4B3E9-A1CB-4523-B797-80565EDB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74A65-D5A0-4418-A21C-12680001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1D23A-0275-43BB-AF36-6CC98A7F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EC24D-42D2-4FA1-BC1C-33288CA6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E299B-7657-40A1-A846-5A7346DD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28FE6-8B5C-4DB5-8246-04E42CD7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773A0-66FF-467B-AEEB-86FAFD05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29948-67FE-4130-963F-4F107E15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95FB3-F84D-4208-954B-AB103BEF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B245F-D3AE-4950-A3F6-E65DDFD5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D55-2118-49AF-ACBC-2642C5FA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D9519-D364-4C53-BDEC-CD4B8E03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2D86B-9EA7-470D-9306-5F4B063E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E3C35-6A27-41BC-93A3-E2A7F1ED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34609-6979-45B2-A0B1-8FF8E146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143F3-A7DC-4BD6-B6BA-01B4A52B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EA918-ED7D-4CC6-915E-199799FF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FCA2D-6E3D-4364-9CDB-D8EC22A9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C3D50-AA65-4F87-A0CD-E609B361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81C46-7D86-41E7-BF06-39177C18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8A35D-6CFC-4F72-8075-DAA87C0C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A2C-6AFE-409B-987C-8CEE6B19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BD53A-C0C5-4C5F-A9A1-C7281099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F1488-12CF-49A6-98F6-D7032E43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8B7CE-70FF-4117-A102-8BF188E0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2C222-C636-4E71-A2FE-14F20A30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5D980-4039-4819-B1D0-06B3F973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F0597-3F92-4CAC-8939-6EDFD335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17234-8314-4347-8928-8342F2D2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50AEC-7145-4FE5-AFBA-10EB5AA9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0F3AF-BBA9-4220-9FFD-04AD2B83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4FE9C-F701-4161-AB97-9B4A437D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BC5-5C1A-41B1-A01C-773BF782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9E867-AB16-4E4B-9DF7-024DBA5B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C3A37-20ED-4C07-A36B-1186EA7D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E683C-6025-48B3-B1AA-49039A15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BBE18-DE35-4EE2-A362-1FABBF27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7C3E4-339E-4D35-9976-9B3A3AE6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5CB4D-1A1A-4323-B7A0-99B3063F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A9438-541F-4D6A-AB6F-CE3C3CE6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7B88F-F473-4012-AE57-555CBFB5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6F4D8-7606-4E82-9D3C-515D1805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1ADDC-C901-4C06-81C3-BDA485AB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2D5-882E-4CC2-9C65-BE993E05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F0E55-3497-47CF-8D79-0D0014D9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C7D6D-896A-4E16-83AA-8B3FC165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CBDD9-9117-4D5E-B2B9-D965907F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E15BE-29A2-4443-A059-5D54D4FD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CBBBF-B862-4D13-BF72-32596372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FC4C1-3524-48DA-9D72-EC6019C1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AD293-5FCE-49A9-85D7-0B1C3976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EC272-7CDF-41CB-9AE2-10B517DA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1A7DF-0EAC-41B7-8504-575D56A1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39D3A-F8E8-4891-9857-9F352FF9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9E927-514F-4224-B8CF-2201BCBAEC0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80E7A6-DDE2-4088-9D87-853E0BC982B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E923A6-F582-47E7-9060-FAB2E6647B7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1414BA-9050-4BFF-A11C-E4A9AD1900C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3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3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7D09CD-A5D1-419F-8FB8-A0575418403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AA8FE9-2665-41F0-AD42-B7CA988C6C9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2A27A3-E6A9-4D42-BA1E-346FD2D420B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71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71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72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4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4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4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286573-3AAE-4F78-A10E-5B71F92E921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4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5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5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85C36C-4006-49B4-B038-A297D15C2A4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FEC91B-A3C6-460D-A714-AD9FE3A8E8D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5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5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5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248595-FC3F-48A0-900A-7037CE46720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0D3E-A0B0-44FC-AA56-354E3918183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EF7AE8-2E92-480D-9717-BB4CBAFFB2F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6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6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169684-0B5B-4075-9FBF-7C7A05F1276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6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6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6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75C245-2A9E-4AFE-8A96-3A01A930842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6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6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6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0B3C73-EDE5-4DC5-8EED-892C8CF4797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7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7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EEA3E7-B1B2-4F5B-B08E-C20E2A11510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7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7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7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9F58E8-827C-4F4D-8CF3-05AC2BFBA35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dt" idx="7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ftr" idx="7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 type="sldNum" idx="7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005E87-5C6F-463E-B64E-317FF430157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 type="dt" idx="7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 type="ftr" idx="8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 type="sldNum" idx="8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6149CD-0C38-4148-99F0-D621B2864D1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DB17-3A08-4433-B729-57ACBED56E5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3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4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1B0C87-4FD8-417A-9A18-3EE75A84B3F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3F76B9-63BF-4BD3-B173-1F64B4ED454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069062-BC57-444F-BF05-DE67C8F518A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01C47C-D545-4774-884B-216899B705C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B2634B-3CEC-4935-A0EF-79AB58E1CD8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999ECB-B26C-4CC6-94BA-63CA10D0657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212724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1042920" y="2205000"/>
            <a:ext cx="7020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Прямоугольник 1"/>
          <p:cNvSpPr/>
          <p:nvPr/>
        </p:nvSpPr>
        <p:spPr>
          <a:xfrm>
            <a:off x="339840" y="677880"/>
            <a:ext cx="842616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тавь пропущенные сло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хи появились на нашей планете __________ млн. лет назад. Их предками были___________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ховидные – это многолетние растения, обычно__________, приспособленные к обитанию во __________мест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хи вызывают _____________почвы. Отмирая, они образуют__________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ная особенность мхов – чередование поколений. Половое поколение - ___________, представляющий собой________   _________, образующий _________клетки _______, более выражен, чем бесполое __________, на котором формируются  _______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е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1" name="Рисунок 2" descr="1302599586_12.jpg"/>
          <p:cNvPicPr/>
          <p:nvPr/>
        </p:nvPicPr>
        <p:blipFill>
          <a:blip r:embed="rId1"/>
          <a:srcRect l="4704" t="28066" r="8659" b="18737"/>
          <a:stretch/>
        </p:blipFill>
        <p:spPr>
          <a:xfrm>
            <a:off x="971640" y="1844640"/>
            <a:ext cx="72738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нешнее строение плаун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3" name="Picture 4" descr="http://biology.my-school8.info/uploads/posts/2011-04/1303909356_lycopodium.jpg"/>
          <p:cNvPicPr/>
          <p:nvPr/>
        </p:nvPicPr>
        <p:blipFill>
          <a:blip r:embed="rId1"/>
          <a:srcRect l="0" t="0" r="1854" b="4408"/>
          <a:stretch/>
        </p:blipFill>
        <p:spPr>
          <a:xfrm>
            <a:off x="2643120" y="2571840"/>
            <a:ext cx="4857840" cy="3357360"/>
          </a:xfrm>
          <a:prstGeom prst="rect">
            <a:avLst/>
          </a:prstGeom>
          <a:ln w="0">
            <a:noFill/>
          </a:ln>
        </p:spPr>
      </p:pic>
      <p:sp>
        <p:nvSpPr>
          <p:cNvPr id="1324" name="TextBox 6"/>
          <p:cNvSpPr/>
          <p:nvPr/>
        </p:nvSpPr>
        <p:spPr>
          <a:xfrm>
            <a:off x="500040" y="3000240"/>
            <a:ext cx="25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стоячий побег со спороносными колос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TextBox 7"/>
          <p:cNvSpPr/>
          <p:nvPr/>
        </p:nvSpPr>
        <p:spPr>
          <a:xfrm>
            <a:off x="1143000" y="592920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зучий стебель с крохотными листьями -чешуй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Хвощ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2143080" y="1999800"/>
            <a:ext cx="6858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хвоща полевого имеет некоторые особенности. Он имеет длинное ползучее черное корневище, на котором образуются шаровидные клубеньки. Корневище достигает в длину 5-7 м и располагается в грунте на глубине 0,5-1 м. Весной появляются надземные побеги хвоща полевого бледно-бурого цвета, иногда с красноватым оттенком высотой до 20 см. На конце такого сочного неразветвленного стебля формируется крупный колосок спорангий. Эти спороносные стебли после созревания спор погибают. В летнее время корневища дают начало бесплодным зеленым стеблям с обильным ветвлением. Ветви расположены мутовками по всему стеблю. Такие стебли с ветвями имеют жесткую и шероховатую поверхность из-за отложения в них кристаллов кремниевой кислоты. Побеги хвоща полевого имеют недоразвитые листья, формирующие на стебле цилиндрические трубчатые отростки. Таким образом, весенние побеги хвоща полевого спороносные, а летние побеги - бесплодные. Споры у хвоща полевого зеленого цвета, шаровидные, образуются в апреле-мае. Также растение способно размножаться вегетативным способом - отрезками корневищ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8" name="Picture 6" descr="Хвощ рис"/>
          <p:cNvPicPr/>
          <p:nvPr/>
        </p:nvPicPr>
        <p:blipFill>
          <a:blip r:embed="rId1"/>
          <a:stretch/>
        </p:blipFill>
        <p:spPr>
          <a:xfrm>
            <a:off x="285840" y="1906560"/>
            <a:ext cx="18572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81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22816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два прилага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три глаг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фраза/пред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) существительное-ит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2"/>
          <p:cNvSpPr/>
          <p:nvPr/>
        </p:nvSpPr>
        <p:spPr>
          <a:xfrm>
            <a:off x="1187280" y="2205000"/>
            <a:ext cx="5905800" cy="36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 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было интересно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ня удивило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было непонятно 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гче всего на уроке мне удалось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уднее всего было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81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457200" y="1778040"/>
            <a:ext cx="8228160" cy="36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чебник с. 57-6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опросы 1–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6 (с.60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ставить схемы жизненного цикла Хвощей и Плаунов в те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5985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омни то, что зна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5219280" y="4867200"/>
            <a:ext cx="360036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кажи о жизненном цикле мх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 Box 4"/>
          <p:cNvSpPr/>
          <p:nvPr/>
        </p:nvSpPr>
        <p:spPr>
          <a:xfrm>
            <a:off x="1042920" y="6119640"/>
            <a:ext cx="74883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гаметофит и спорофи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1" name="Picture 5" descr=""/>
          <p:cNvPicPr/>
          <p:nvPr/>
        </p:nvPicPr>
        <p:blipFill>
          <a:blip r:embed="rId1"/>
          <a:stretch/>
        </p:blipFill>
        <p:spPr>
          <a:xfrm>
            <a:off x="1692360" y="950760"/>
            <a:ext cx="5580000" cy="3959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 каких растениях идет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4" name="Picture 4" descr="http://biology.my-school8.info/uploads/posts/2011-04/1303909356_lycopodium.jpg"/>
          <p:cNvPicPr/>
          <p:nvPr/>
        </p:nvPicPr>
        <p:blipFill>
          <a:blip r:embed="rId1"/>
          <a:srcRect l="0" t="0" r="1854" b="4408"/>
          <a:stretch/>
        </p:blipFill>
        <p:spPr>
          <a:xfrm>
            <a:off x="108000" y="2708280"/>
            <a:ext cx="4340160" cy="300024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5" descr="http://www.nature.chita.ru/Plants/Ferns/Images/Big/lycopodium_annotinum2.jpg"/>
          <p:cNvPicPr/>
          <p:nvPr/>
        </p:nvPicPr>
        <p:blipFill>
          <a:blip r:embed="rId2"/>
          <a:stretch/>
        </p:blipFill>
        <p:spPr>
          <a:xfrm>
            <a:off x="4788000" y="2717640"/>
            <a:ext cx="40194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406404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3132000" y="2997360"/>
            <a:ext cx="1449360" cy="3619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5" descr=""/>
          <p:cNvPicPr/>
          <p:nvPr/>
        </p:nvPicPr>
        <p:blipFill>
          <a:blip r:embed="rId3"/>
          <a:stretch/>
        </p:blipFill>
        <p:spPr>
          <a:xfrm>
            <a:off x="4849920" y="0"/>
            <a:ext cx="429408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27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 Отдел Плауновидные и Хвощевидные. Особенности строения и жизне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Text Box 7"/>
          <p:cNvSpPr/>
          <p:nvPr/>
        </p:nvSpPr>
        <p:spPr>
          <a:xfrm>
            <a:off x="3692520" y="620640"/>
            <a:ext cx="16430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НЕВИЩ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Text Box 8"/>
          <p:cNvSpPr/>
          <p:nvPr/>
        </p:nvSpPr>
        <p:spPr>
          <a:xfrm>
            <a:off x="3692520" y="2554200"/>
            <a:ext cx="1490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РОФ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Text Box 12"/>
          <p:cNvSpPr/>
          <p:nvPr/>
        </p:nvSpPr>
        <p:spPr>
          <a:xfrm>
            <a:off x="3692520" y="1538280"/>
            <a:ext cx="1595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РАН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Text Box 8"/>
          <p:cNvSpPr/>
          <p:nvPr/>
        </p:nvSpPr>
        <p:spPr>
          <a:xfrm>
            <a:off x="3692520" y="3416400"/>
            <a:ext cx="1490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МЕТОФ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 Box 8"/>
          <p:cNvSpPr/>
          <p:nvPr/>
        </p:nvSpPr>
        <p:spPr>
          <a:xfrm>
            <a:off x="3132000" y="4437000"/>
            <a:ext cx="2613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РОНО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ОС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733320" y="0"/>
            <a:ext cx="82216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учебником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  58 (1гр) Хвощ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 57 (2 гр.) Пла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Box 2"/>
          <p:cNvSpPr/>
          <p:nvPr/>
        </p:nvSpPr>
        <p:spPr>
          <a:xfrm>
            <a:off x="250920" y="2997360"/>
            <a:ext cx="669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Я это зна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 Интересно и неожидан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-  Противоречит моим взгляд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-  Спросить у учите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TextBox 3"/>
          <p:cNvSpPr/>
          <p:nvPr/>
        </p:nvSpPr>
        <p:spPr>
          <a:xfrm>
            <a:off x="5940360" y="61815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готовить клас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е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9" name="Рисунок 4" descr="1302599551_11.jpg"/>
          <p:cNvPicPr/>
          <p:nvPr/>
        </p:nvPicPr>
        <p:blipFill>
          <a:blip r:embed="rId1"/>
          <a:srcRect l="5501" t="27209" r="5619" b="17264"/>
          <a:stretch/>
        </p:blipFill>
        <p:spPr>
          <a:xfrm>
            <a:off x="1258920" y="2060640"/>
            <a:ext cx="69469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5:46:50Z</dcterms:created>
  <dc:creator>Galina</dc:creator>
  <dc:description/>
  <dc:language>en-US</dc:language>
  <cp:lastModifiedBy>Компьютер</cp:lastModifiedBy>
  <dcterms:modified xsi:type="dcterms:W3CDTF">2019-11-11T18:24:05Z</dcterms:modified>
  <cp:revision>19</cp:revision>
  <dc:subject/>
  <dc:title> Presentation 6k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