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75F05-9872-49D7-B76A-AF13654A08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04150-E57E-450A-B1B7-05AA775DA0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333399"/>
                </a:solidFill>
                <a:latin typeface="Arial"/>
              </a:rPr>
              <a:t>Определяем проекции грани, на которых находятся проекции точки 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81526-669A-4DA3-874C-D545CC29EE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Линию связи сначала проводим к той проекции, на которой грань изображается в виде отрезка прям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2AF08-FDC2-4CA6-881A-4AB2F78928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роводим вертикальную линию связи из точки а. Находим фронтальную проекцию точки А – а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`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34767-36A2-4A6B-8CCD-4C582CB83D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Для нахождения профильной проекции точки А необходим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1. Из точки а провести горизонтальную линию связи до пересечения с постоянной прямо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19E29-FA10-42FA-9A2A-F2D8E5769B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2. Из полученной точки провести  вертикальную линию связи к профильной проекции предме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B9D64-DCFE-4658-99A7-352B91B5D1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3. Из точки а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'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провести горизонтальную линию связи к профильной проекции предм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17193-CC2B-4CE6-B0C4-0321952AFD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рофильная проекция точки А-а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"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 расположена в пересечении горизонтальной и вертикальной линий связи на профильной проекции предм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EEFBD-5361-471D-8B2B-5F46676DD1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Фронтальная а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'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и профильная а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"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проекции точки А построе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C2EF1-F115-40B3-B1A5-7F1C4306C8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" spc="-1" strike="noStrike">
                <a:solidFill>
                  <a:srgbClr val="333399"/>
                </a:solidFill>
                <a:latin typeface="Arial"/>
              </a:rPr>
              <a:t>Для построения воспользуемся </a:t>
            </a:r>
            <a:r>
              <a:rPr b="1" i="1" lang="ru-RU" sz="500" spc="-1" strike="noStrike" u="sng">
                <a:solidFill>
                  <a:srgbClr val="333399"/>
                </a:solidFill>
                <a:uFillTx/>
                <a:latin typeface="Arial"/>
              </a:rPr>
              <a:t>постоянной прямой</a:t>
            </a:r>
            <a:r>
              <a:rPr b="1" i="1" lang="ru-RU" sz="500" spc="-1" strike="noStrike">
                <a:solidFill>
                  <a:srgbClr val="333399"/>
                </a:solidFill>
                <a:latin typeface="Arial"/>
              </a:rPr>
              <a:t>.  Это прямая, проведенная справа от вида сверху под углом 45</a:t>
            </a:r>
            <a:r>
              <a:rPr b="1" i="1" lang="ru-RU" sz="500" spc="-1" strike="noStrike" baseline="30000">
                <a:solidFill>
                  <a:srgbClr val="333399"/>
                </a:solidFill>
                <a:latin typeface="Arial"/>
              </a:rPr>
              <a:t>о</a:t>
            </a:r>
            <a:r>
              <a:rPr b="1" i="1" lang="ru-RU" sz="500" spc="-1" strike="noStrike">
                <a:solidFill>
                  <a:srgbClr val="333399"/>
                </a:solidFill>
                <a:latin typeface="Arial"/>
              </a:rPr>
              <a:t> к рамке чертежа.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41146-E74C-4E63-8A6A-39E62688EB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Для построения профильной проекции проводим линии связи: горизонтальные и вертикальны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8787-2059-44A2-B8AE-1464DA602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F2FA-0E78-4E0B-BF49-C9736908C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EF58-822F-4DE9-BE99-2FDC566B8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D473-17D2-4B42-9AA9-6F1A456B8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578C-A893-45AB-B4EF-492FDA826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CF70-0CEC-426E-9F0F-CA41D6236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AE80-6DD5-4EA6-B7EB-CFDD633EF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420F-3D8B-4956-89B9-342AE1C39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6193-E335-42AB-9213-A7A4175BE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C19D-A589-4AC5-B56E-4AF71030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10AE-3CFA-488D-A340-0EF789AA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227B-F619-4EC0-B04C-0074EFD8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8D3A3-B1E2-445C-A1CE-29638F36F5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4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точка на пл корел15"/>
          <p:cNvPicPr/>
          <p:nvPr/>
        </p:nvPicPr>
        <p:blipFill>
          <a:blip r:embed="rId1"/>
          <a:stretch/>
        </p:blipFill>
        <p:spPr>
          <a:xfrm>
            <a:off x="2222640" y="1600200"/>
            <a:ext cx="4698720" cy="45259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Построение профильной проекции </a:t>
            </a:r>
            <a:br>
              <a:rPr sz="2800"/>
            </a:b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предмета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точка на пл корел16"/>
          <p:cNvPicPr/>
          <p:nvPr/>
        </p:nvPicPr>
        <p:blipFill>
          <a:blip r:embed="rId1"/>
          <a:stretch/>
        </p:blipFill>
        <p:spPr>
          <a:xfrm>
            <a:off x="2222640" y="1600200"/>
            <a:ext cx="4698720" cy="45259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Построение профильной проекции </a:t>
            </a:r>
            <a:br>
              <a:rPr sz="2800"/>
            </a:b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предмета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Построение проекций точки 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точка на пл корел16"/>
          <p:cNvPicPr/>
          <p:nvPr/>
        </p:nvPicPr>
        <p:blipFill>
          <a:blip r:embed="rId1"/>
          <a:stretch/>
        </p:blipFill>
        <p:spPr>
          <a:xfrm>
            <a:off x="2222640" y="1600200"/>
            <a:ext cx="469872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Построение фронтальной проекции точки 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точка на пл корел17"/>
          <p:cNvPicPr/>
          <p:nvPr/>
        </p:nvPicPr>
        <p:blipFill>
          <a:blip r:embed="rId1"/>
          <a:stretch/>
        </p:blipFill>
        <p:spPr>
          <a:xfrm>
            <a:off x="2222640" y="1600200"/>
            <a:ext cx="469872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точка на пл корел18"/>
          <p:cNvPicPr/>
          <p:nvPr/>
        </p:nvPicPr>
        <p:blipFill>
          <a:blip r:embed="rId1"/>
          <a:stretch/>
        </p:blipFill>
        <p:spPr>
          <a:xfrm>
            <a:off x="2222640" y="1600200"/>
            <a:ext cx="4698720" cy="452592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Построение фронтальной проекции точки 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точка на пл корел18"/>
          <p:cNvPicPr/>
          <p:nvPr/>
        </p:nvPicPr>
        <p:blipFill>
          <a:blip r:embed="rId1"/>
          <a:stretch/>
        </p:blipFill>
        <p:spPr>
          <a:xfrm>
            <a:off x="2222640" y="1600200"/>
            <a:ext cx="4698720" cy="452592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Построение фронтальной проекции точки 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точка на пл корел19"/>
          <p:cNvPicPr/>
          <p:nvPr/>
        </p:nvPicPr>
        <p:blipFill>
          <a:blip r:embed="rId1"/>
          <a:stretch/>
        </p:blipFill>
        <p:spPr>
          <a:xfrm>
            <a:off x="2222640" y="1600200"/>
            <a:ext cx="4698720" cy="45259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Построение  профильной проекций точки 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точка на пл корел19"/>
          <p:cNvPicPr/>
          <p:nvPr/>
        </p:nvPicPr>
        <p:blipFill>
          <a:blip r:embed="rId1"/>
          <a:stretch/>
        </p:blipFill>
        <p:spPr>
          <a:xfrm>
            <a:off x="2222640" y="1600200"/>
            <a:ext cx="4698720" cy="45259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Построение  профильной проекций точки 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точка на пл корел19"/>
          <p:cNvPicPr/>
          <p:nvPr/>
        </p:nvPicPr>
        <p:blipFill>
          <a:blip r:embed="rId1"/>
          <a:stretch/>
        </p:blipFill>
        <p:spPr>
          <a:xfrm>
            <a:off x="2222640" y="1600200"/>
            <a:ext cx="4698720" cy="45259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Построение  профильной проекций точки 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точка на пл корел19"/>
          <p:cNvPicPr/>
          <p:nvPr/>
        </p:nvPicPr>
        <p:blipFill>
          <a:blip r:embed="rId1"/>
          <a:stretch/>
        </p:blipFill>
        <p:spPr>
          <a:xfrm>
            <a:off x="2190600" y="1600200"/>
            <a:ext cx="4762800" cy="45259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Построение  профильной проекций точки 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Наглядное изображение предмета</a:t>
            </a:r>
            <a:br>
              <a:rPr sz="2800"/>
            </a:b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и точки на его поверх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точка на пл корел10"/>
          <p:cNvPicPr/>
          <p:nvPr/>
        </p:nvPicPr>
        <p:blipFill>
          <a:blip r:embed="rId1"/>
          <a:stretch/>
        </p:blipFill>
        <p:spPr>
          <a:xfrm>
            <a:off x="3133800" y="2438280"/>
            <a:ext cx="2874960" cy="28497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точка на пл корел20"/>
          <p:cNvPicPr/>
          <p:nvPr/>
        </p:nvPicPr>
        <p:blipFill>
          <a:blip r:embed="rId1"/>
          <a:stretch/>
        </p:blipFill>
        <p:spPr>
          <a:xfrm>
            <a:off x="2190600" y="1600200"/>
            <a:ext cx="4762800" cy="45259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Построение  профильной проекций точки 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ание урока и базовый черте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твинников А.Д., Виноградов В.Н., Вышнепольский И.С. Черчение. Учебник для 7-8 классов общеобразовательных учреждений. – М.: Астель АСТ,-2011,-С.74-7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ллюстративный материал разработан автором презен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Литерату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Грань, которой принадлежит точ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точка на пл корел9"/>
          <p:cNvPicPr/>
          <p:nvPr/>
        </p:nvPicPr>
        <p:blipFill>
          <a:blip r:embed="rId1"/>
          <a:stretch/>
        </p:blipFill>
        <p:spPr>
          <a:xfrm>
            <a:off x="3133800" y="2438280"/>
            <a:ext cx="2874960" cy="28497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3035160" cy="6035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333399"/>
                </a:solidFill>
                <a:uFillTx/>
                <a:latin typeface="Arial"/>
              </a:rPr>
              <a:t>Задача</a:t>
            </a:r>
            <a:br>
              <a:rPr sz="3200"/>
            </a:b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Дано:</a:t>
            </a:r>
            <a:br>
              <a:rPr sz="2800"/>
            </a:b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-  фронтальная проекция предмета;</a:t>
            </a:r>
            <a:br>
              <a:rPr sz="1800"/>
            </a:br>
            <a:br>
              <a:rPr sz="1800"/>
            </a:b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-  горизонтальная проекция предмета;</a:t>
            </a:r>
            <a:br>
              <a:rPr sz="1800"/>
            </a:br>
            <a:br>
              <a:rPr sz="1800"/>
            </a:b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-  а – горизонтальная проекция точки А.</a:t>
            </a:r>
            <a:br>
              <a:rPr sz="1800"/>
            </a:br>
            <a:br>
              <a:rPr sz="1800"/>
            </a:b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Построить:</a:t>
            </a:r>
            <a:br>
              <a:rPr sz="1800"/>
            </a:b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-  а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` - 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фронтальную проекцию точки А;</a:t>
            </a:r>
            <a:br>
              <a:rPr sz="1800"/>
            </a:br>
            <a:br>
              <a:rPr sz="1800"/>
            </a:b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-  а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``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 - профильную проекцию точки А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точка на пл корел11"/>
          <p:cNvPicPr/>
          <p:nvPr/>
        </p:nvPicPr>
        <p:blipFill>
          <a:blip r:embed="rId1"/>
          <a:stretch/>
        </p:blipFill>
        <p:spPr>
          <a:xfrm>
            <a:off x="4859280" y="1557360"/>
            <a:ext cx="174960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224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Построение профильной проекции </a:t>
            </a:r>
            <a:br>
              <a:rPr sz="2800"/>
            </a:b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предмета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точка на пл корел13"/>
          <p:cNvPicPr/>
          <p:nvPr/>
        </p:nvPicPr>
        <p:blipFill>
          <a:blip r:embed="rId1"/>
          <a:stretch/>
        </p:blipFill>
        <p:spPr>
          <a:xfrm>
            <a:off x="2212920" y="1600200"/>
            <a:ext cx="471816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точка на пл корел12"/>
          <p:cNvPicPr/>
          <p:nvPr/>
        </p:nvPicPr>
        <p:blipFill>
          <a:blip r:embed="rId1"/>
          <a:stretch/>
        </p:blipFill>
        <p:spPr>
          <a:xfrm>
            <a:off x="2212920" y="1600200"/>
            <a:ext cx="4718160" cy="45259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Построение профильной проекции </a:t>
            </a:r>
            <a:br>
              <a:rPr sz="2800"/>
            </a:b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предмета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точка на пл корел14"/>
          <p:cNvPicPr/>
          <p:nvPr/>
        </p:nvPicPr>
        <p:blipFill>
          <a:blip r:embed="rId1"/>
          <a:stretch/>
        </p:blipFill>
        <p:spPr>
          <a:xfrm>
            <a:off x="2217600" y="1600200"/>
            <a:ext cx="4708800" cy="45259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Построение профильной проекции </a:t>
            </a:r>
            <a:br>
              <a:rPr sz="2800"/>
            </a:b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предмета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точка на пл корел14"/>
          <p:cNvPicPr/>
          <p:nvPr/>
        </p:nvPicPr>
        <p:blipFill>
          <a:blip r:embed="rId1"/>
          <a:stretch/>
        </p:blipFill>
        <p:spPr>
          <a:xfrm>
            <a:off x="2217600" y="1600200"/>
            <a:ext cx="4708800" cy="45259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Построение профильной проекции </a:t>
            </a:r>
            <a:br>
              <a:rPr sz="2800"/>
            </a:b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предмета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точка на пл корел14"/>
          <p:cNvPicPr/>
          <p:nvPr/>
        </p:nvPicPr>
        <p:blipFill>
          <a:blip r:embed="rId1"/>
          <a:stretch/>
        </p:blipFill>
        <p:spPr>
          <a:xfrm>
            <a:off x="2217600" y="1600200"/>
            <a:ext cx="4708800" cy="45259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Построение профильной проекции </a:t>
            </a:r>
            <a:br>
              <a:rPr sz="2800"/>
            </a:b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предмета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0T20:14:21Z</dcterms:created>
  <dc:creator>COMP</dc:creator>
  <dc:description/>
  <dc:language>en-US</dc:language>
  <cp:lastModifiedBy>USER</cp:lastModifiedBy>
  <dcterms:modified xsi:type="dcterms:W3CDTF">2019-12-30T18:46:01Z</dcterms:modified>
  <cp:revision>40</cp:revision>
  <dc:subject/>
  <dc:title>Слайд 1</dc:title>
</cp:coreProperties>
</file>