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4774-1CCD-4D67-B809-237A9252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992-AF03-4123-A5FE-4D00244B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7F5-DD0D-4446-9DEA-91C0FC2C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AEE-98DF-40F0-9316-52D94B9D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0BC-9397-41E5-A67C-2184624A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25E-778E-426C-A064-8F82581F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DC1-9BAD-4E93-939E-048DA7E9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BFE4-B53F-4F1E-A840-7C99A9C4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AC1-C849-479A-9798-FCE00A3E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837-D541-4D8B-8919-CF820219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805-569F-4ED1-A8DA-004655C3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22E-9EEF-4335-8D5E-0571419C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3560-7D43-46D2-B107-52102245E4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341360"/>
            <a:ext cx="6912000" cy="22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cc00"/>
                </a:solidFill>
                <a:latin typeface="Times New Roman"/>
              </a:rPr>
              <a:t>Фразеологизмы</a:t>
            </a:r>
            <a:br>
              <a:rPr sz="6600"/>
            </a:b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урок-исследование </a:t>
            </a:r>
            <a:br>
              <a:rPr sz="3200"/>
            </a:b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6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560" y="4149720"/>
            <a:ext cx="5040360" cy="2016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Урок подготовлен учител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МАОУ СОШ №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Яруллиной Ксенией Леонидов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201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549000"/>
            <a:ext cx="6624720" cy="934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Times New Roman"/>
              </a:rPr>
              <a:t>Лингвистическая лаборат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7272360" cy="4525920"/>
          </a:xfrm>
          <a:prstGeom prst="rect">
            <a:avLst/>
          </a:prstGeom>
          <a:solidFill>
            <a:srgbClr val="bae8b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cc00"/>
                </a:solidFill>
                <a:latin typeface="Times New Roman"/>
              </a:rPr>
              <a:t>Работа  в группа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115640" y="620280"/>
            <a:ext cx="7201080" cy="5472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Группа№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Цель:   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выяснить, где можно узнать значение фразеологизм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Группа№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Цель: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выяснить, чем отличаются фразеологизмы от свободных словосочетани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Группа№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Цель: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выяснить, можно ли заменять слова в составе фразеологизм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Группа№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Цель: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выяснить, является ли фразеологизм членом предложения, если да, то каки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1258920" y="1197000"/>
            <a:ext cx="7200720" cy="2663640"/>
          </a:xfrm>
          <a:prstGeom prst="wedgeRectCallout">
            <a:avLst>
              <a:gd name="adj1" fmla="val -42967"/>
              <a:gd name="adj2" fmla="val 749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Значение фразеологизмов разъясняются в       Толковом словар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Фразеологизмы  обозначаются значк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Значение фразеологизмов разъясняются во фразеологических словар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826920" y="4581360"/>
            <a:ext cx="1800360" cy="11430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66ff"/>
                </a:solidFill>
                <a:uFillTx/>
                <a:latin typeface="Times New Roman"/>
              </a:rPr>
              <a:t>Вывод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8028000" y="1989000"/>
            <a:ext cx="287280" cy="792360"/>
          </a:xfrm>
          <a:prstGeom prst="diamond">
            <a:avLst/>
          </a:prstGeom>
          <a:solidFill>
            <a:srgbClr val="ffcc99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da3508"/>
                </a:solidFill>
                <a:uFillTx/>
                <a:latin typeface="Times New Roman"/>
              </a:rPr>
              <a:t>Лингвистическая лаборатор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16000" y="1197000"/>
          <a:ext cx="7632720" cy="5446800"/>
        </p:xfrm>
        <a:graphic>
          <a:graphicData uri="http://schemas.openxmlformats.org/drawingml/2006/table">
            <a:tbl>
              <a:tblPr/>
              <a:tblGrid>
                <a:gridCol w="2128680"/>
                <a:gridCol w="2840040"/>
                <a:gridCol w="2664000"/>
              </a:tblGrid>
              <a:tr h="17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Призна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Лексическое 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Свободное с/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Каждое слово имеет своё лексическое 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Фразеологиз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Лексическое значение имеет </a:t>
                      </a:r>
                      <a:r>
                        <a:rPr b="1" i="1" lang="ru-RU" sz="2000" spc="-1" strike="noStrike" u="sng">
                          <a:solidFill>
                            <a:srgbClr val="008000"/>
                          </a:solidFill>
                          <a:uFillTx/>
                          <a:latin typeface="Times New Roman"/>
                        </a:rPr>
                        <a:t>весь фразеологизм</a:t>
                      </a:r>
                      <a:r>
                        <a:rPr b="1" i="1" lang="ru-RU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Прямое и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переносное 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ям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еренос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труктура с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Слова можно заменять, употреблять отде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Нельзя заменять слова. Фразеологизм  устойчивое сочетание сл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интаксическая роль в предло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Разными членами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Весь фразеологизм является одним членом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Line 30"/>
          <p:cNvSpPr/>
          <p:nvPr/>
        </p:nvSpPr>
        <p:spPr>
          <a:xfrm>
            <a:off x="1116000" y="1773360"/>
            <a:ext cx="748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80"/>
          <p:cNvSpPr/>
          <p:nvPr/>
        </p:nvSpPr>
        <p:spPr>
          <a:xfrm>
            <a:off x="3348000" y="1773360"/>
            <a:ext cx="2664000" cy="1079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1"/>
          <p:cNvSpPr/>
          <p:nvPr/>
        </p:nvSpPr>
        <p:spPr>
          <a:xfrm>
            <a:off x="6156360" y="1773360"/>
            <a:ext cx="244800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2"/>
          <p:cNvSpPr/>
          <p:nvPr/>
        </p:nvSpPr>
        <p:spPr>
          <a:xfrm>
            <a:off x="3348000" y="2997360"/>
            <a:ext cx="2664000" cy="10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3"/>
          <p:cNvSpPr/>
          <p:nvPr/>
        </p:nvSpPr>
        <p:spPr>
          <a:xfrm>
            <a:off x="6156360" y="2997360"/>
            <a:ext cx="2448000" cy="10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4"/>
          <p:cNvSpPr/>
          <p:nvPr/>
        </p:nvSpPr>
        <p:spPr>
          <a:xfrm>
            <a:off x="3419640" y="4292640"/>
            <a:ext cx="2592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5"/>
          <p:cNvSpPr/>
          <p:nvPr/>
        </p:nvSpPr>
        <p:spPr>
          <a:xfrm>
            <a:off x="6227640" y="4292640"/>
            <a:ext cx="2376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86"/>
          <p:cNvSpPr/>
          <p:nvPr/>
        </p:nvSpPr>
        <p:spPr>
          <a:xfrm>
            <a:off x="3348000" y="5734080"/>
            <a:ext cx="266400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87"/>
          <p:cNvSpPr/>
          <p:nvPr/>
        </p:nvSpPr>
        <p:spPr>
          <a:xfrm>
            <a:off x="6156360" y="5734080"/>
            <a:ext cx="251928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70675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Times New Roman"/>
              </a:rPr>
              <a:t>Фразеологизмы</a:t>
            </a:r>
            <a:r>
              <a:rPr b="1" i="1" lang="ru-RU" sz="3600" spc="-1" strike="noStrike">
                <a:solidFill>
                  <a:srgbClr val="da3508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- эт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908000" y="2060640"/>
            <a:ext cx="5759640" cy="1942920"/>
          </a:xfrm>
          <a:prstGeom prst="wedgeRectCallout">
            <a:avLst>
              <a:gd name="adj1" fmla="val -44375"/>
              <a:gd name="adj2" fmla="val 7720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устойчивые сочетания слов, лексическое значение имеет весь фразеологизм в цел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826920" y="4581360"/>
            <a:ext cx="1800360" cy="11430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66ff"/>
                </a:solidFill>
                <a:uFillTx/>
                <a:latin typeface="Times New Roman"/>
              </a:rPr>
              <a:t>Вывод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985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Times New Roman"/>
              </a:rPr>
              <a:t>Подберите</a:t>
            </a: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 к</a:t>
            </a:r>
            <a:r>
              <a:rPr b="1" i="1" lang="ru-RU" sz="4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6600"/>
                </a:solidFill>
                <a:latin typeface="Times New Roman"/>
              </a:rPr>
              <a:t>каждому слову фразеолог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476360" y="1197000"/>
          <a:ext cx="6912000" cy="4680000"/>
        </p:xfrm>
        <a:graphic>
          <a:graphicData uri="http://schemas.openxmlformats.org/drawingml/2006/table">
            <a:tbl>
              <a:tblPr/>
              <a:tblGrid>
                <a:gridCol w="2720880"/>
                <a:gridCol w="4191120"/>
              </a:tblGrid>
              <a:tr h="46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33cc33"/>
                          </a:solidFill>
                          <a:latin typeface="Times New Roman"/>
                        </a:rPr>
                        <a:t>Мет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33cc33"/>
                          </a:solidFill>
                          <a:latin typeface="Times New Roman"/>
                        </a:rPr>
                        <a:t>Неожидан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33cc33"/>
                          </a:solidFill>
                          <a:latin typeface="Times New Roman"/>
                        </a:rPr>
                        <a:t>Тес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33cc33"/>
                          </a:solidFill>
                          <a:latin typeface="Times New Roman"/>
                        </a:rPr>
                        <a:t>Тем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33cc33"/>
                          </a:solidFill>
                          <a:latin typeface="Times New Roman"/>
                        </a:rPr>
                        <a:t>Опыт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33cc33"/>
                          </a:solidFill>
                          <a:latin typeface="Times New Roman"/>
                        </a:rPr>
                        <a:t>Молч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33cc33"/>
                          </a:solidFill>
                          <a:latin typeface="Times New Roman"/>
                        </a:rPr>
                        <a:t>Обманы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33cc33"/>
                          </a:solidFill>
                          <a:latin typeface="Times New Roman"/>
                        </a:rPr>
                        <a:t>Б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33cc33"/>
                          </a:solidFill>
                          <a:latin typeface="Times New Roman"/>
                        </a:rPr>
                        <a:t>Исчез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da3508"/>
                          </a:solidFill>
                          <a:latin typeface="Times New Roman"/>
                        </a:rPr>
                        <a:t>Рассеиваться как д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da3508"/>
                          </a:solidFill>
                          <a:latin typeface="Times New Roman"/>
                        </a:rPr>
                        <a:t>Держать язык за зуб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da3508"/>
                          </a:solidFill>
                          <a:latin typeface="Times New Roman"/>
                        </a:rPr>
                        <a:t>Намять б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da3508"/>
                          </a:solidFill>
                          <a:latin typeface="Times New Roman"/>
                        </a:rPr>
                        <a:t>Как снег на голо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da3508"/>
                          </a:solidFill>
                          <a:latin typeface="Times New Roman"/>
                        </a:rPr>
                        <a:t>Хоть глаз вык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da3508"/>
                          </a:solidFill>
                          <a:latin typeface="Times New Roman"/>
                        </a:rPr>
                        <a:t>Не в бровь, а в гл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da3508"/>
                          </a:solidFill>
                          <a:latin typeface="Times New Roman"/>
                        </a:rPr>
                        <a:t>Яблоку негде уп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da3508"/>
                          </a:solidFill>
                          <a:latin typeface="Times New Roman"/>
                        </a:rPr>
                        <a:t>Стреляный вороб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da3508"/>
                          </a:solidFill>
                          <a:latin typeface="Times New Roman"/>
                        </a:rPr>
                        <a:t>Обводить вокруг паль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Line 22"/>
          <p:cNvSpPr/>
          <p:nvPr/>
        </p:nvSpPr>
        <p:spPr>
          <a:xfrm>
            <a:off x="2556000" y="1484280"/>
            <a:ext cx="1584360" cy="2017800"/>
          </a:xfrm>
          <a:prstGeom prst="line">
            <a:avLst/>
          </a:prstGeom>
          <a:ln w="38160">
            <a:solidFill>
              <a:srgbClr val="da35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3"/>
          <p:cNvSpPr/>
          <p:nvPr/>
        </p:nvSpPr>
        <p:spPr>
          <a:xfrm>
            <a:off x="3492360" y="1844640"/>
            <a:ext cx="863640" cy="1008000"/>
          </a:xfrm>
          <a:prstGeom prst="line">
            <a:avLst/>
          </a:prstGeom>
          <a:ln w="38160">
            <a:solidFill>
              <a:srgbClr val="da35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4"/>
          <p:cNvSpPr/>
          <p:nvPr/>
        </p:nvSpPr>
        <p:spPr>
          <a:xfrm>
            <a:off x="2411280" y="2349360"/>
            <a:ext cx="1873440" cy="1727280"/>
          </a:xfrm>
          <a:prstGeom prst="line">
            <a:avLst/>
          </a:prstGeom>
          <a:ln w="38160">
            <a:solidFill>
              <a:srgbClr val="da35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2843280" y="3213000"/>
            <a:ext cx="1224000" cy="1224000"/>
          </a:xfrm>
          <a:prstGeom prst="line">
            <a:avLst/>
          </a:prstGeom>
          <a:ln w="38160">
            <a:solidFill>
              <a:srgbClr val="da35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6"/>
          <p:cNvSpPr/>
          <p:nvPr/>
        </p:nvSpPr>
        <p:spPr>
          <a:xfrm flipV="1">
            <a:off x="2843280" y="1989000"/>
            <a:ext cx="1439640" cy="1656000"/>
          </a:xfrm>
          <a:prstGeom prst="line">
            <a:avLst/>
          </a:prstGeom>
          <a:ln w="38160">
            <a:solidFill>
              <a:srgbClr val="da35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7"/>
          <p:cNvSpPr/>
          <p:nvPr/>
        </p:nvSpPr>
        <p:spPr>
          <a:xfrm>
            <a:off x="3348000" y="4149720"/>
            <a:ext cx="863640" cy="865080"/>
          </a:xfrm>
          <a:prstGeom prst="line">
            <a:avLst/>
          </a:prstGeom>
          <a:ln w="38160">
            <a:solidFill>
              <a:srgbClr val="da35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8"/>
          <p:cNvSpPr/>
          <p:nvPr/>
        </p:nvSpPr>
        <p:spPr>
          <a:xfrm flipV="1">
            <a:off x="2411280" y="2349000"/>
            <a:ext cx="1871640" cy="2087640"/>
          </a:xfrm>
          <a:prstGeom prst="line">
            <a:avLst/>
          </a:prstGeom>
          <a:ln w="38160">
            <a:solidFill>
              <a:srgbClr val="da35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9"/>
          <p:cNvSpPr/>
          <p:nvPr/>
        </p:nvSpPr>
        <p:spPr>
          <a:xfrm flipV="1">
            <a:off x="2484360" y="1557000"/>
            <a:ext cx="1800360" cy="3384360"/>
          </a:xfrm>
          <a:prstGeom prst="line">
            <a:avLst/>
          </a:prstGeom>
          <a:ln w="38160">
            <a:solidFill>
              <a:srgbClr val="da35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0"/>
          <p:cNvSpPr/>
          <p:nvPr/>
        </p:nvSpPr>
        <p:spPr>
          <a:xfrm>
            <a:off x="2340000" y="2852640"/>
            <a:ext cx="1655640" cy="360360"/>
          </a:xfrm>
          <a:prstGeom prst="line">
            <a:avLst/>
          </a:prstGeom>
          <a:ln w="38160">
            <a:solidFill>
              <a:srgbClr val="da35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633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По определениям отгадайте фразеологиз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03280" y="907920"/>
            <a:ext cx="7283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Умышленно, намеренно не замечать чего-либ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Очень худой, изможде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Днем, на виду у все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еохотно, принудив себя к чему-либ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3780000" y="1341360"/>
            <a:ext cx="4176720" cy="6476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Закрывать глаза на что-либ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5508720" y="2492280"/>
            <a:ext cx="2735280" cy="576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Кожа да 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5651640" y="400536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Среди бела д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2843280" y="5445000"/>
            <a:ext cx="2952720" cy="503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Скрепя серд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70675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a3508"/>
                </a:solidFill>
                <a:latin typeface="Times New Roman"/>
              </a:rPr>
              <a:t>Фразеологиз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908000" y="2060640"/>
            <a:ext cx="5759640" cy="1942920"/>
          </a:xfrm>
          <a:prstGeom prst="wedgeRectCallout">
            <a:avLst>
              <a:gd name="adj1" fmla="val -44375"/>
              <a:gd name="adj2" fmla="val 77203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равны по значению либо одному слову, либо целому предлож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826920" y="4581360"/>
            <a:ext cx="1800360" cy="1143000"/>
          </a:xfrm>
          <a:prstGeom prst="horizontalScroll">
            <a:avLst>
              <a:gd name="adj" fmla="val 125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66ff"/>
                </a:solidFill>
                <a:uFillTx/>
                <a:latin typeface="Times New Roman"/>
              </a:rPr>
              <a:t>Вывод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427880" cy="1368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 u="sng">
                <a:solidFill>
                  <a:srgbClr val="da3508"/>
                </a:solidFill>
                <a:uFillTx/>
                <a:latin typeface="Times New Roman"/>
              </a:rPr>
              <a:t>Укажите фразеологизмы со значением:</a:t>
            </a:r>
            <a:br>
              <a:rPr sz="2400"/>
            </a:br>
            <a:r>
              <a:rPr b="1" i="1" lang="ru-RU" sz="2400" spc="-1" strike="noStrike" u="sng">
                <a:solidFill>
                  <a:srgbClr val="da3508"/>
                </a:solidFill>
                <a:uFillTx/>
                <a:latin typeface="Times New Roman"/>
              </a:rPr>
              <a:t> 1 ряд - «бездельничать»;</a:t>
            </a:r>
            <a:br>
              <a:rPr sz="2400"/>
            </a:br>
            <a:r>
              <a:rPr b="1" i="1" lang="ru-RU" sz="2400" spc="-1" strike="noStrike" u="sng">
                <a:solidFill>
                  <a:srgbClr val="da3508"/>
                </a:solidFill>
                <a:uFillTx/>
                <a:latin typeface="Times New Roman"/>
              </a:rPr>
              <a:t> 2 ряд - «обманывать»;</a:t>
            </a:r>
            <a:br>
              <a:rPr sz="2400"/>
            </a:br>
            <a:r>
              <a:rPr b="1" i="1" lang="ru-RU" sz="2400" spc="-1" strike="noStrike" u="sng">
                <a:solidFill>
                  <a:srgbClr val="da3508"/>
                </a:solidFill>
                <a:uFillTx/>
                <a:latin typeface="Times New Roman"/>
              </a:rPr>
              <a:t> 3 ряд - «быстро»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637000"/>
            <a:ext cx="676908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ломя голову, сидеть сложа руки, втирать очки, во все лопатки, лодыря гонять, бить баклуши, водить за нос, во весь дух, собак гонять, вводить в заблуждение, высунув язык, со всех н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a3508"/>
                </a:solidFill>
                <a:latin typeface="Times New Roman"/>
              </a:rPr>
              <a:t>Проверьт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16000" y="1557360"/>
          <a:ext cx="7570800" cy="4721040"/>
        </p:xfrm>
        <a:graphic>
          <a:graphicData uri="http://schemas.openxmlformats.org/drawingml/2006/table">
            <a:tbl>
              <a:tblPr/>
              <a:tblGrid>
                <a:gridCol w="2617920"/>
                <a:gridCol w="2430360"/>
                <a:gridCol w="252252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Бездельнич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бманы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быст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идеть сложа ру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Лодыря гон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Бить баклуш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обак гон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Втирать оч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Водить за н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Вводить в заблужд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ломя голов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Во все лопат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Во весь ду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Высунув язы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Со всех н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792000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Цель: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 формировать умения использовать фразеологизмы в речи для придания ей образности, выразительности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Задачи урок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предметные –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 формировать содержание понятия «фразеологизмы»; лексическое значение и грамматическое строение фразеологизма; способ обозначения фразеологизмов в толковом словаре, знание  о фразеологических словарях русского языка; о синонимии и антонимии фразеологизмов; отличать фразеологизмы от свободных сочетаний слов; употреблять фразеологизмы в речи; определять стилистическую роль фразеологизмов; определять синтаксическую функцию фразеологизм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личностные –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 осознавать лексическое богатство русского языка, гордость за русский язык; осознавать отражения материальной и духовной культуры русского народа; стремление к речевому самосовершенствован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метапредметные –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 совершенствовать информационно-коммуникативные умения (поиск информации в источнике, в словаре, развернутое обоснование своей позиции, приведение системы аргументов, анализ и редактирование текста, вычитывать информацию, представленную в форме рисунков).</a:t>
            </a:r>
            <a:r>
              <a:rPr b="1" i="1" lang="ru-RU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000" y="1628640"/>
            <a:ext cx="6767640" cy="2952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А могут ли у фразеологизмов быть антоним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43640" y="6021000"/>
            <a:ext cx="730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221600" cy="633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По определениям отгадайте фразеологиз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03280" y="907920"/>
            <a:ext cx="7283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браться си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Выйти из себ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Одержать побе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Лишиться чув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4788000" y="1773360"/>
            <a:ext cx="3384360" cy="576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Выбиться из с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4932360" y="2565360"/>
            <a:ext cx="3168720" cy="6476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Взять себя в ру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5148360" y="3789360"/>
            <a:ext cx="3311280" cy="6476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Потерпеть пора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5148360" y="4508640"/>
            <a:ext cx="3168720" cy="649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Прийти в чув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2195640" y="1197000"/>
            <a:ext cx="6264000" cy="2663640"/>
          </a:xfrm>
          <a:prstGeom prst="wedgeRectCallout">
            <a:avLst>
              <a:gd name="adj1" fmla="val -56865"/>
              <a:gd name="adj2" fmla="val 749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Фразеологизм может быть синонимом сл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У фразеологизма могут быть   фразеологизмы-синонимы и фразеологизмы-антони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826920" y="4581360"/>
            <a:ext cx="1800360" cy="11430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66ff"/>
                </a:solidFill>
                <a:uFillTx/>
                <a:latin typeface="Times New Roman"/>
              </a:rPr>
              <a:t>Вывод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2349000"/>
            <a:ext cx="6913440" cy="11559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Для чего нужны фразеологизм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282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очитайте предложения. Замените подчеркнутые слова фразеологизмами. Что изменилось? Предложения запишит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Вера Сергеевна объясняла решение задачи, но Петя </a:t>
            </a:r>
            <a:r>
              <a:rPr b="1" i="1" lang="ru-RU" sz="2800" spc="-1" strike="noStrike" u="sng">
                <a:solidFill>
                  <a:srgbClr val="d60093"/>
                </a:solidFill>
                <a:uFillTx/>
                <a:latin typeface="Times New Roman"/>
              </a:rPr>
              <a:t>не слушал</a:t>
            </a: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Кирилл целый день </a:t>
            </a:r>
            <a:r>
              <a:rPr b="1" i="1" lang="ru-RU" sz="2800" spc="-1" strike="noStrike" u="sng">
                <a:solidFill>
                  <a:srgbClr val="d60093"/>
                </a:solidFill>
                <a:uFillTx/>
                <a:latin typeface="Times New Roman"/>
              </a:rPr>
              <a:t>бездельничал</a:t>
            </a: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.</a:t>
            </a:r>
            <a:br>
              <a:rPr sz="2800"/>
            </a:b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Мы догадывались, что он нас </a:t>
            </a:r>
            <a:r>
              <a:rPr b="1" i="1" lang="ru-RU" sz="2800" spc="-1" strike="noStrike" u="sng">
                <a:solidFill>
                  <a:srgbClr val="d60093"/>
                </a:solidFill>
                <a:uFillTx/>
                <a:latin typeface="Times New Roman"/>
              </a:rPr>
              <a:t>обманывает</a:t>
            </a: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.</a:t>
            </a:r>
            <a:br>
              <a:rPr sz="2800"/>
            </a:b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Первого сентября Уля проснулас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d60093"/>
                </a:solidFill>
                <a:uFillTx/>
                <a:latin typeface="Times New Roman"/>
              </a:rPr>
              <a:t>очень рано</a:t>
            </a: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643280" y="2060640"/>
            <a:ext cx="2232360" cy="5047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Times New Roman"/>
              </a:rPr>
              <a:t>считал вор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5148360" y="2565360"/>
            <a:ext cx="3362400" cy="7542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Times New Roman"/>
              </a:rPr>
              <a:t>бил баклуш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1908000" y="3429000"/>
            <a:ext cx="3097440" cy="43164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Times New Roman"/>
              </a:rPr>
              <a:t>водит за н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1692360" y="4365720"/>
            <a:ext cx="3240000" cy="649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Times New Roman"/>
              </a:rPr>
              <a:t>ни свет ни зар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000" y="1268280"/>
            <a:ext cx="6551640" cy="868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Констру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19280" y="3068640"/>
            <a:ext cx="623412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Восстановите рассказ Незнайки, используя слова для справ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71640" y="404640"/>
            <a:ext cx="7864560" cy="5997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6666ff"/>
                </a:solidFill>
                <a:latin typeface="Times New Roman"/>
              </a:rPr>
              <a:t>Я проснулся ни свет ни заря. На душ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66ff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6666ff"/>
                </a:solidFill>
                <a:latin typeface="Times New Roman"/>
              </a:rPr>
              <a:t>кошки скребли. Пошёл  к Винтику, дол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66ff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6666ff"/>
                </a:solidFill>
                <a:latin typeface="Times New Roman"/>
              </a:rPr>
              <a:t>бил баклуши, тянул кота за хвост. Вернул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66ff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6666ff"/>
                </a:solidFill>
                <a:latin typeface="Times New Roman"/>
              </a:rPr>
              <a:t>ни жив ни мёртв. Съел с горем пополам суп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66ff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6666ff"/>
                </a:solidFill>
                <a:latin typeface="Times New Roman"/>
              </a:rPr>
              <a:t>Тут как снег на голову свалился Пилюлькин. Он метал гром и молнии. Велел зарубить на носу, что надо мыть руки перед едой. А м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66ff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6666ff"/>
                </a:solidFill>
                <a:latin typeface="Times New Roman"/>
              </a:rPr>
              <a:t>хоть кол на голове теш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Слова для справок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34d40e"/>
                </a:solidFill>
                <a:latin typeface="Times New Roman"/>
              </a:rPr>
              <a:t>неожиданно,  рано,  бездельничал,  скверно, злился,   запомнить,   плохо,   еле-еле,   хоть бы что,   усталый,  кое-как,   сильно сердилс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276720" y="404640"/>
            <a:ext cx="2519280" cy="503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Times New Roman"/>
              </a:rPr>
              <a:t>ра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258920" y="907920"/>
            <a:ext cx="2232000" cy="4334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cc00"/>
                </a:solidFill>
                <a:latin typeface="Times New Roman"/>
              </a:rPr>
              <a:t>сквер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1042920" y="1413000"/>
            <a:ext cx="5473800" cy="360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Times New Roman"/>
              </a:rPr>
              <a:t>бездельнича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1258920" y="198900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Times New Roman"/>
              </a:rPr>
              <a:t>устал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4859280" y="1916280"/>
            <a:ext cx="2521080" cy="433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Times New Roman"/>
              </a:rPr>
              <a:t>еле-е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1908000" y="2421000"/>
            <a:ext cx="2808360" cy="360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Times New Roman"/>
              </a:rPr>
              <a:t>неожида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1332000" y="2852640"/>
            <a:ext cx="3240000" cy="289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Times New Roman"/>
              </a:rPr>
              <a:t>злил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5651640" y="2781360"/>
            <a:ext cx="2663640" cy="4316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Times New Roman"/>
              </a:rPr>
              <a:t>запомни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1187280" y="3500280"/>
            <a:ext cx="3816360" cy="505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Times New Roman"/>
              </a:rPr>
              <a:t>хоть бы ч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14"/>
          <p:cNvSpPr/>
          <p:nvPr/>
        </p:nvSpPr>
        <p:spPr>
          <a:xfrm>
            <a:off x="1258920" y="4076640"/>
            <a:ext cx="7345440" cy="2160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195640" y="1197000"/>
            <a:ext cx="6264000" cy="1584360"/>
          </a:xfrm>
          <a:prstGeom prst="wedgeRectCallout">
            <a:avLst>
              <a:gd name="adj1" fmla="val -56865"/>
              <a:gd name="adj2" fmla="val 160018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Times New Roman"/>
              </a:rPr>
              <a:t>Фразеологизмы придают речи образность, выразительность</a:t>
            </a: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26920" y="4581360"/>
            <a:ext cx="1800360" cy="1143000"/>
          </a:xfrm>
          <a:prstGeom prst="horizontalScroll">
            <a:avLst>
              <a:gd name="adj" fmla="val 125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66ff"/>
                </a:solidFill>
                <a:uFillTx/>
                <a:latin typeface="Times New Roman"/>
              </a:rPr>
              <a:t>Вывод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840360" cy="863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Times New Roman"/>
              </a:rPr>
              <a:t>Творческая мастер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92360" y="2707920"/>
            <a:ext cx="6192720" cy="793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Сочинение-миниатю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403280" y="160020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Мы очень устойчи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И просим настойчив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а слова нас не менят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Прямо так употребля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Фразеологизмы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403280" y="160020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Классная раб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Мы очень устойчи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И просим настойчив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а слова нас не менят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Прямо так употребля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64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. 29 Фразеологизм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ставить кластер по теме     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«Фразеологизмы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Упражнения: 148 (всем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(на выбор -145,147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Дополнительно(по желанию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         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нарисовать фразеологиз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832720" cy="576000"/>
          </a:xfrm>
          <a:prstGeom prst="rect">
            <a:avLst/>
          </a:prstGeom>
          <a:solidFill>
            <a:srgbClr val="b3ebb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128000" cy="4857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Сегодня я узнал(а)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Я выполнял(а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Я понял(а), ч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Теперь я могу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Я могу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Меня удивил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Урок дал мне для жизни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1219320" y="3049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Оцени свою работ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4191120" y="5334120"/>
            <a:ext cx="396216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4800600" y="5257800"/>
            <a:ext cx="3124080" cy="6094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поте л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5029200" y="2743200"/>
            <a:ext cx="38862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5651640" y="2637000"/>
            <a:ext cx="3200400" cy="6858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Arial"/>
              </a:rPr>
              <a:t>Рука об ру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3733920" y="3657600"/>
            <a:ext cx="373356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3809880" y="3581280"/>
            <a:ext cx="29718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Через пень кол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5410080" y="981000"/>
            <a:ext cx="373392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10"/>
          <p:cNvSpPr/>
          <p:nvPr/>
        </p:nvSpPr>
        <p:spPr>
          <a:xfrm>
            <a:off x="6227640" y="981000"/>
            <a:ext cx="243864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Ни шатко ни вал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11"/>
          <p:cNvSpPr/>
          <p:nvPr/>
        </p:nvSpPr>
        <p:spPr>
          <a:xfrm>
            <a:off x="5715000" y="4419720"/>
            <a:ext cx="342900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659640" y="4365720"/>
            <a:ext cx="228600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Засучив рука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2771640" y="1989000"/>
            <a:ext cx="342900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14"/>
          <p:cNvSpPr/>
          <p:nvPr/>
        </p:nvSpPr>
        <p:spPr>
          <a:xfrm>
            <a:off x="3276720" y="1628640"/>
            <a:ext cx="2361960" cy="68580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Тяп да ля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15"/>
          <p:cNvSpPr/>
          <p:nvPr/>
        </p:nvSpPr>
        <p:spPr>
          <a:xfrm>
            <a:off x="304920" y="1066680"/>
            <a:ext cx="33526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6"/>
          <p:cNvSpPr/>
          <p:nvPr/>
        </p:nvSpPr>
        <p:spPr>
          <a:xfrm>
            <a:off x="1066680" y="1066680"/>
            <a:ext cx="2590920" cy="6858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Arial"/>
              </a:rPr>
              <a:t>Не покладая ру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17"/>
          <p:cNvSpPr/>
          <p:nvPr/>
        </p:nvSpPr>
        <p:spPr>
          <a:xfrm>
            <a:off x="324000" y="2852640"/>
            <a:ext cx="3429000" cy="2590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8"/>
          <p:cNvSpPr/>
          <p:nvPr/>
        </p:nvSpPr>
        <p:spPr>
          <a:xfrm>
            <a:off x="684360" y="3500280"/>
            <a:ext cx="3047760" cy="23623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Как  вы работа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на урок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402920" y="764640"/>
            <a:ext cx="67690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Мы сегодня не переливали из пустого в порожнее, а работали не покладая ру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402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И хоть к концу урока мы немного устали, но не вышли из себя, а продолжаем рабо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402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егодня на уроке  не было ни одного ученика, который бы бил баклуши или тянул кота за хвост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402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Молодцы, ребята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402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Спасибо за работу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Times New Roman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.И. Дубровин «Русские фразеологизмы в картинках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.Д. Курилова «Новый фразеологический словарь русского языка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усский язык: учеб. для 6 класса /(Т.А.Ладыженская, М.Т.Баранов и др.).-М.:Просвещение, 201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граммы по русскому языку для общеобразовательных учреждений. 5 – 11 класс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олковый словарь под ред. С.И.Ожег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.В.Волина Русский язык (Серия «Учимся играя»).-изд-во «Арго», 199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.В.Волина Фразеологический словарь: Популярное пособие.-М.: АСТ-ПРЕСС,199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Е.А. Быстрова Учебный фразеологический словарь русского языка.-М.:Издательство АСТ-ЛТД, 199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Е.П. Черногрудова Дидактические материалы по русскому языку:6класс .- М.: Издательство «Экзамен»,201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сточник шаблона: Ранько Елена Алексеевна //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8920" y="620640"/>
            <a:ext cx="6769080" cy="78264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А знаете ли вы, что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7139160" cy="452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что выражение это возникло на основе поговорки, зафиксированной В.И. Далем: «</a:t>
            </a:r>
            <a:r>
              <a:rPr b="1" i="1" lang="ru-RU" sz="2800" spc="-1" strike="noStrike">
                <a:solidFill>
                  <a:srgbClr val="00cc00"/>
                </a:solidFill>
                <a:latin typeface="Times New Roman"/>
              </a:rPr>
              <a:t>Собаку съел, а хвостом подавился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». Эта поговорка употребляется по отношению к человеку, который </a:t>
            </a:r>
            <a:r>
              <a:rPr b="1" i="1" lang="ru-RU" sz="2800" spc="-1" strike="noStrike">
                <a:solidFill>
                  <a:srgbClr val="00cc00"/>
                </a:solidFill>
                <a:latin typeface="Times New Roman"/>
              </a:rPr>
              <a:t>сделал что-то очень трудное и споткнулся на пустяке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. Современное же значение выражения:«</a:t>
            </a: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Мастер  своего дела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»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6840720" cy="1440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ff"/>
                </a:solidFill>
                <a:latin typeface="Times New Roman"/>
              </a:rPr>
              <a:t>Запишите, пользуясь шифром, слово, которое скрыто под следующими номерами, </a:t>
            </a:r>
            <a:br>
              <a:rPr sz="2400"/>
            </a:br>
            <a:r>
              <a:rPr b="1" i="1" lang="ru-RU" sz="2400" spc="-1" strike="noStrike">
                <a:solidFill>
                  <a:srgbClr val="6666ff"/>
                </a:solidFill>
                <a:latin typeface="Times New Roman"/>
              </a:rPr>
              <a:t>и вы узнаете тему нашего уро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32000" y="2133720"/>
          <a:ext cx="7056360" cy="2447640"/>
        </p:xfrm>
        <a:graphic>
          <a:graphicData uri="http://schemas.openxmlformats.org/drawingml/2006/table">
            <a:tbl>
              <a:tblPr/>
              <a:tblGrid>
                <a:gridCol w="592200"/>
                <a:gridCol w="379440"/>
                <a:gridCol w="376200"/>
                <a:gridCol w="382320"/>
                <a:gridCol w="379440"/>
                <a:gridCol w="381240"/>
                <a:gridCol w="380880"/>
                <a:gridCol w="377640"/>
                <a:gridCol w="449280"/>
                <a:gridCol w="312840"/>
                <a:gridCol w="380880"/>
                <a:gridCol w="381240"/>
                <a:gridCol w="379440"/>
                <a:gridCol w="382320"/>
                <a:gridCol w="379440"/>
                <a:gridCol w="381240"/>
                <a:gridCol w="379440"/>
                <a:gridCol w="380880"/>
              </a:tblGrid>
              <a:tr h="14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4d40e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4d40e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4d40e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4d40e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4d40e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4d40e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4d40e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4d40e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4d40e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4d40e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4d40e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4d40e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4d40e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4d40e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4d40e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4d40e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4d40e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4d40e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64"/>
          <p:cNvSpPr/>
          <p:nvPr/>
        </p:nvSpPr>
        <p:spPr>
          <a:xfrm>
            <a:off x="1403280" y="4724280"/>
            <a:ext cx="698508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6,  5,  7,  13,  1,  8,  12,  8,  14,  18,  13,  10,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331640" y="2491920"/>
            <a:ext cx="6985080" cy="136836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cc00"/>
                </a:solidFill>
                <a:latin typeface="Times New Roman"/>
              </a:rPr>
              <a:t>Фразеологизм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691344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Формулируем цель у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6000" y="1628640"/>
            <a:ext cx="7056360" cy="4525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Уточнить, что такое........, выяснить их особенности и синтаксическую функц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Узнать, как называется........ о языке, в котором изучаются....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Выяснить, где узнать лексическое значение..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Выяснить роль .......... в реч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640" y="1483920"/>
            <a:ext cx="6769440" cy="792360"/>
          </a:xfrm>
          <a:prstGeom prst="rect">
            <a:avLst/>
          </a:prstGeom>
          <a:solidFill>
            <a:srgbClr val="fee7a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Слова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ФРАЗЕОЛОГИЯ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и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фразеологиз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7640" y="2276280"/>
            <a:ext cx="6769440" cy="2447640"/>
          </a:xfrm>
          <a:prstGeom prst="rect">
            <a:avLst/>
          </a:prstGeom>
          <a:solidFill>
            <a:srgbClr val="fee7a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6666ff"/>
                </a:solidFill>
                <a:latin typeface="Times New Roman"/>
              </a:rPr>
              <a:t>восходят к двум словам др.-греч. я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phras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выражение, оборот речи, слово, понятие</a:t>
            </a:r>
            <a:r>
              <a:rPr b="1" lang="en-US" sz="2800" spc="-1" strike="noStrike">
                <a:solidFill>
                  <a:srgbClr val="da3508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logos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учение</a:t>
            </a:r>
            <a:r>
              <a:rPr b="1" lang="ru-RU" sz="2800" spc="-1" strike="noStrike">
                <a:solidFill>
                  <a:srgbClr val="da3508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58920" y="3212640"/>
            <a:ext cx="6913440" cy="2941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ни  могут употребляться в составе  свободных сочетаний слов, например: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d60093"/>
                </a:solidFill>
                <a:uFillTx/>
                <a:latin typeface="Times New Roman"/>
              </a:rPr>
              <a:t>большая собака</a:t>
            </a:r>
            <a:r>
              <a:rPr b="1" lang="ru-RU" sz="2400" spc="-1" strike="noStrike" u="sng">
                <a:solidFill>
                  <a:srgbClr val="d60093"/>
                </a:solidFill>
                <a:uFillTx/>
                <a:latin typeface="Times New Roman"/>
              </a:rPr>
              <a:t>, </a:t>
            </a:r>
            <a:r>
              <a:rPr b="1" i="1" lang="ru-RU" sz="2400" spc="-1" strike="noStrike" u="sng">
                <a:solidFill>
                  <a:srgbClr val="d60093"/>
                </a:solidFill>
                <a:uFillTx/>
                <a:latin typeface="Times New Roman"/>
              </a:rPr>
              <a:t>съесть яблоко</a:t>
            </a:r>
            <a:r>
              <a:rPr b="1" lang="ru-RU" sz="2400" spc="-1" strike="noStrike" u="sng">
                <a:solidFill>
                  <a:srgbClr val="d60093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о только выражение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собаку съел(а)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является фразеологизмом со значением:  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</a:rPr>
              <a:t>стать мастером в каком – либо де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2532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971640" y="2276640"/>
            <a:ext cx="187308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b64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соба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2843280" y="2276640"/>
            <a:ext cx="2087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b64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съе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003640" y="2276640"/>
            <a:ext cx="31687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b64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баку съел(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Эдуард</cp:lastModifiedBy>
  <dcterms:modified xsi:type="dcterms:W3CDTF">2020-01-09T15:16:18Z</dcterms:modified>
  <cp:revision>252</cp:revision>
  <dc:subject/>
  <dc:title>Слайд 1</dc:title>
</cp:coreProperties>
</file>