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gif" ContentType="image/gif"/>
  <Override PartName="/ppt/media/image7.gif" ContentType="image/gif"/>
  <Override PartName="/ppt/media/image5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8.gif" ContentType="image/gif"/>
  <Override PartName="/ppt/media/image4.jpeg" ContentType="image/jpeg"/>
  <Override PartName="/ppt/media/image2.png" ContentType="image/png"/>
  <Override PartName="/ppt/media/image25.png" ContentType="image/png"/>
  <Override PartName="/ppt/media/image12.png" ContentType="image/png"/>
  <Override PartName="/ppt/media/image3.gif" ContentType="image/gif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0DE6-D902-4AC2-9E66-1852D4F3C4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237B-8AB3-4A4F-ADEC-6AF604CC1C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F73-33B3-4C96-9E9F-72B2FAA1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E70E-A320-4928-9186-604B884F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4507-ECCC-4DBE-8EC3-CC0AD17C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B7CD-CA53-4B16-BE86-D47B73F0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AE3-59C8-4F0D-854A-6445C497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DB9D-6DCF-488E-B9CD-98E0AC33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4096-F7C8-4C58-8CCE-79EC3AF7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048-B713-4D4C-AB66-C8B34E8F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C923-C0B0-42E7-8F58-BF8FDF56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AAC5-0B79-4DA9-9972-54905F7E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517-B4FD-4978-8C1C-74A6B586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7A0A-397A-4765-89D5-568E92C6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52C1-7D33-435D-87C7-3259BB53BA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8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7.gi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6320" y="2666880"/>
          <a:ext cx="8929440" cy="914400"/>
        </p:xfrm>
        <a:graphic>
          <a:graphicData uri="http://schemas.openxmlformats.org/drawingml/2006/table">
            <a:tbl>
              <a:tblPr/>
              <a:tblGrid>
                <a:gridCol w="744480"/>
                <a:gridCol w="743040"/>
                <a:gridCol w="744480"/>
                <a:gridCol w="742680"/>
                <a:gridCol w="744840"/>
                <a:gridCol w="742680"/>
                <a:gridCol w="744840"/>
                <a:gridCol w="744480"/>
                <a:gridCol w="744480"/>
                <a:gridCol w="744480"/>
                <a:gridCol w="744480"/>
                <a:gridCol w="74448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-120600" y="2373480"/>
            <a:ext cx="1531800" cy="153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706320" y="2344680"/>
            <a:ext cx="1570320" cy="1532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1630440" y="2311560"/>
            <a:ext cx="1319040" cy="1649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4"/>
          <a:stretch/>
        </p:blipFill>
        <p:spPr>
          <a:xfrm>
            <a:off x="6997680" y="2317680"/>
            <a:ext cx="1585800" cy="1586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5"/>
          <a:stretch/>
        </p:blipFill>
        <p:spPr>
          <a:xfrm>
            <a:off x="3641760" y="2311560"/>
            <a:ext cx="946080" cy="1680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6"/>
          <a:stretch/>
        </p:blipFill>
        <p:spPr>
          <a:xfrm>
            <a:off x="4267080" y="2322360"/>
            <a:ext cx="1378080" cy="1722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7"/>
          <a:stretch/>
        </p:blipFill>
        <p:spPr>
          <a:xfrm>
            <a:off x="5499000" y="2373480"/>
            <a:ext cx="1079640" cy="1618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8"/>
          <a:stretch/>
        </p:blipFill>
        <p:spPr>
          <a:xfrm>
            <a:off x="6413400" y="2251080"/>
            <a:ext cx="955800" cy="168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9"/>
          <a:stretch/>
        </p:blipFill>
        <p:spPr>
          <a:xfrm>
            <a:off x="2311560" y="2278080"/>
            <a:ext cx="1712880" cy="1714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10"/>
          <a:stretch/>
        </p:blipFill>
        <p:spPr>
          <a:xfrm>
            <a:off x="7791480" y="2344680"/>
            <a:ext cx="1616040" cy="16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228600" y="4114800"/>
          <a:ext cx="8763120" cy="762120"/>
        </p:xfrm>
        <a:graphic>
          <a:graphicData uri="http://schemas.openxmlformats.org/drawingml/2006/table">
            <a:tbl>
              <a:tblPr/>
              <a:tblGrid>
                <a:gridCol w="876240"/>
                <a:gridCol w="874800"/>
                <a:gridCol w="876240"/>
                <a:gridCol w="876240"/>
                <a:gridCol w="876240"/>
                <a:gridCol w="876600"/>
                <a:gridCol w="876240"/>
                <a:gridCol w="876240"/>
                <a:gridCol w="878040"/>
                <a:gridCol w="876240"/>
              </a:tblGrid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-120600" y="2373480"/>
            <a:ext cx="1531800" cy="153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706320" y="2344680"/>
            <a:ext cx="1570320" cy="1532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3"/>
          <a:stretch/>
        </p:blipFill>
        <p:spPr>
          <a:xfrm>
            <a:off x="1630440" y="2311560"/>
            <a:ext cx="1319040" cy="1649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/>
          <a:stretch/>
        </p:blipFill>
        <p:spPr>
          <a:xfrm>
            <a:off x="6997680" y="2317680"/>
            <a:ext cx="1585800" cy="1586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5"/>
          <a:stretch/>
        </p:blipFill>
        <p:spPr>
          <a:xfrm>
            <a:off x="3641760" y="2311560"/>
            <a:ext cx="946080" cy="1680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6"/>
          <a:stretch/>
        </p:blipFill>
        <p:spPr>
          <a:xfrm>
            <a:off x="4267080" y="2322360"/>
            <a:ext cx="1378080" cy="1722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7"/>
          <a:stretch/>
        </p:blipFill>
        <p:spPr>
          <a:xfrm>
            <a:off x="5499000" y="2373480"/>
            <a:ext cx="1079640" cy="1618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8"/>
          <a:stretch/>
        </p:blipFill>
        <p:spPr>
          <a:xfrm>
            <a:off x="6413400" y="2251080"/>
            <a:ext cx="955800" cy="1687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9"/>
          <a:stretch/>
        </p:blipFill>
        <p:spPr>
          <a:xfrm>
            <a:off x="2311560" y="2278080"/>
            <a:ext cx="1712880" cy="171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228600" y="4114800"/>
          <a:ext cx="8763120" cy="762120"/>
        </p:xfrm>
        <a:graphic>
          <a:graphicData uri="http://schemas.openxmlformats.org/drawingml/2006/table">
            <a:tbl>
              <a:tblPr/>
              <a:tblGrid>
                <a:gridCol w="876240"/>
                <a:gridCol w="874800"/>
                <a:gridCol w="876240"/>
                <a:gridCol w="876240"/>
                <a:gridCol w="876240"/>
                <a:gridCol w="876600"/>
                <a:gridCol w="876240"/>
                <a:gridCol w="876240"/>
                <a:gridCol w="878040"/>
                <a:gridCol w="876240"/>
              </a:tblGrid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+ 1 = 9                10 – 1 = 9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+ 1 = 10                9 – 1 = 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3657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ави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685800" y="2971800"/>
            <a:ext cx="31240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е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Заголовок 1"/>
          <p:cNvSpPr/>
          <p:nvPr/>
        </p:nvSpPr>
        <p:spPr>
          <a:xfrm>
            <a:off x="4599000" y="5040360"/>
            <a:ext cx="41148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ыдуще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Заголовок 1"/>
          <p:cNvSpPr/>
          <p:nvPr/>
        </p:nvSpPr>
        <p:spPr>
          <a:xfrm>
            <a:off x="609480" y="5038560"/>
            <a:ext cx="35816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е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Прямая со стрелкой 5"/>
          <p:cNvCxnSpPr/>
          <p:nvPr/>
        </p:nvCxnSpPr>
        <p:spPr>
          <a:xfrm>
            <a:off x="4191120" y="1371240"/>
            <a:ext cx="9705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Прямая со стрелкой 10"/>
          <p:cNvCxnSpPr/>
          <p:nvPr/>
        </p:nvCxnSpPr>
        <p:spPr>
          <a:xfrm>
            <a:off x="3809520" y="3485880"/>
            <a:ext cx="9709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083 -0.02569 L 0.3375 -0.02569 C 0.41198 -0.02569 0.50417 -0.19166 0.50417 -0.32569 L 0.50417 -0.62569 E">
                                      <p:cBhvr>
                                        <p:cTn id="135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38 -0.01111 L 0.02743 -0.3037 E">
                                      <p:cBhvr>
                                        <p:cTn id="144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8894880" cy="12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Овал 2"/>
          <p:cNvSpPr/>
          <p:nvPr/>
        </p:nvSpPr>
        <p:spPr>
          <a:xfrm>
            <a:off x="3684600" y="457200"/>
            <a:ext cx="1752480" cy="16765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3803760" y="2590920"/>
            <a:ext cx="1774800" cy="1699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3803760" y="4651200"/>
            <a:ext cx="1774800" cy="16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s://forum.pushkino.org/uploads/monthly_01_2017/post-43602-0-46410400-1484562253.jpg"/>
          <p:cNvPicPr/>
          <p:nvPr/>
        </p:nvPicPr>
        <p:blipFill>
          <a:blip r:embed="rId1"/>
          <a:stretch/>
        </p:blipFill>
        <p:spPr>
          <a:xfrm>
            <a:off x="228600" y="2057400"/>
            <a:ext cx="5029200" cy="4473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5410080" y="152280"/>
            <a:ext cx="3581640" cy="464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74520" y="549360"/>
            <a:ext cx="4851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5002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На забор влетел пету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Повстречал ещё там дву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Сколько стало пету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У кого ответ го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971640" y="3933720"/>
            <a:ext cx="7345080" cy="2710080"/>
            <a:chOff x="971640" y="3933720"/>
            <a:chExt cx="7345080" cy="2710080"/>
          </a:xfrm>
        </p:grpSpPr>
        <p:pic>
          <p:nvPicPr>
            <p:cNvPr id="53" name="Picture 4" descr="мульт петух клюет"/>
            <p:cNvPicPr/>
            <p:nvPr/>
          </p:nvPicPr>
          <p:blipFill>
            <a:blip r:embed="rId1"/>
            <a:stretch/>
          </p:blipFill>
          <p:spPr>
            <a:xfrm flipH="1">
              <a:off x="5292360" y="4221000"/>
              <a:ext cx="3024360" cy="242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5" descr="мульт петух клюет"/>
            <p:cNvPicPr/>
            <p:nvPr/>
          </p:nvPicPr>
          <p:blipFill>
            <a:blip r:embed="rId2"/>
            <a:stretch/>
          </p:blipFill>
          <p:spPr>
            <a:xfrm>
              <a:off x="971640" y="3933720"/>
              <a:ext cx="3024000" cy="242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4859280" y="404640"/>
            <a:ext cx="4249800" cy="345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фон обл"/>
          <p:cNvPicPr/>
          <p:nvPr/>
        </p:nvPicPr>
        <p:blipFill>
          <a:blip r:embed="rId1"/>
          <a:stretch/>
        </p:blipFill>
        <p:spPr>
          <a:xfrm>
            <a:off x="324000" y="0"/>
            <a:ext cx="8885160" cy="6719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фон обл"/>
          <p:cNvPicPr/>
          <p:nvPr/>
        </p:nvPicPr>
        <p:blipFill>
          <a:blip r:embed="rId2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4100400" y="4290480"/>
            <a:ext cx="50439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Семь гусей пустились в путь. </a:t>
            </a:r>
            <a:br>
              <a:rPr sz="2400"/>
            </a:b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Два решили отдохнуть.</a:t>
            </a:r>
            <a:br>
              <a:rPr sz="2400"/>
            </a:b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Сколько их под облаками?</a:t>
            </a:r>
            <a:br>
              <a:rPr sz="2400"/>
            </a:b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Сосчитайте, дети, 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мульт гусь2"/>
          <p:cNvPicPr/>
          <p:nvPr/>
        </p:nvPicPr>
        <p:blipFill>
          <a:blip r:embed="rId3"/>
          <a:stretch/>
        </p:blipFill>
        <p:spPr>
          <a:xfrm>
            <a:off x="7451640" y="692280"/>
            <a:ext cx="1114560" cy="857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утка ныряет"/>
          <p:cNvPicPr/>
          <p:nvPr/>
        </p:nvPicPr>
        <p:blipFill>
          <a:blip r:embed="rId4"/>
          <a:stretch/>
        </p:blipFill>
        <p:spPr>
          <a:xfrm>
            <a:off x="2268360" y="5300640"/>
            <a:ext cx="1905120" cy="552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мульт утка"/>
          <p:cNvPicPr/>
          <p:nvPr/>
        </p:nvPicPr>
        <p:blipFill>
          <a:blip r:embed="rId5"/>
          <a:stretch/>
        </p:blipFill>
        <p:spPr>
          <a:xfrm>
            <a:off x="3348000" y="0"/>
            <a:ext cx="1152720" cy="976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утка ныряет"/>
          <p:cNvPicPr/>
          <p:nvPr/>
        </p:nvPicPr>
        <p:blipFill>
          <a:blip r:embed="rId6"/>
          <a:stretch/>
        </p:blipFill>
        <p:spPr>
          <a:xfrm flipH="1">
            <a:off x="250560" y="6021360"/>
            <a:ext cx="1904760" cy="552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мульт гусь2"/>
          <p:cNvPicPr/>
          <p:nvPr/>
        </p:nvPicPr>
        <p:blipFill>
          <a:blip r:embed="rId7"/>
          <a:stretch/>
        </p:blipFill>
        <p:spPr>
          <a:xfrm>
            <a:off x="5003640" y="333360"/>
            <a:ext cx="1114560" cy="857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мульт гусь2"/>
          <p:cNvPicPr/>
          <p:nvPr/>
        </p:nvPicPr>
        <p:blipFill>
          <a:blip r:embed="rId8"/>
          <a:stretch/>
        </p:blipFill>
        <p:spPr>
          <a:xfrm>
            <a:off x="6227640" y="404640"/>
            <a:ext cx="1114560" cy="857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мульт утка"/>
          <p:cNvPicPr/>
          <p:nvPr/>
        </p:nvPicPr>
        <p:blipFill>
          <a:blip r:embed="rId9"/>
          <a:stretch/>
        </p:blipFill>
        <p:spPr>
          <a:xfrm>
            <a:off x="4211640" y="765000"/>
            <a:ext cx="1081080" cy="91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мульт утка"/>
          <p:cNvPicPr/>
          <p:nvPr/>
        </p:nvPicPr>
        <p:blipFill>
          <a:blip r:embed="rId10"/>
          <a:stretch/>
        </p:blipFill>
        <p:spPr>
          <a:xfrm>
            <a:off x="5292720" y="1125360"/>
            <a:ext cx="1295280" cy="1097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мульт гусь2"/>
          <p:cNvPicPr/>
          <p:nvPr/>
        </p:nvPicPr>
        <p:blipFill>
          <a:blip r:embed="rId11"/>
          <a:stretch/>
        </p:blipFill>
        <p:spPr>
          <a:xfrm>
            <a:off x="6516720" y="1628640"/>
            <a:ext cx="111456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8.33333E-007 1.96532E-006 C -0.00903 -0.00393 -0.02274 0.00092 -0.03177 0.00208 C -0.04323 0.01225 -0.04496 0.01364 -0.05712 0.01896 C -0.06041 0.02543 -0.06423 0.02844 -0.06979 0.03167 C -0.07291 0.03352 -0.07621 0.03445 -0.07934 0.03584 C -0.0809 0.03653 -0.0842 0.03792 -0.0842 0.03792 C -0.08906 0.04254 -0.09635 0.04925 -0.10156 0.05271 C -0.10451 0.0548 -0.11111 0.05711 -0.11111 0.05711 C -0.12222 0.0719 -0.11632 0.06844 -0.12708 0.0719 C -0.13785 0.08647 -0.13264 0.08138 -0.14132 0.08878 C -0.14774 0.10173 -0.15642 0.1126 -0.16354 0.12462 C -0.16545 0.12786 -0.16649 0.13202 -0.16823 0.13526 C -0.17482 0.14751 -0.1868 0.16162 -0.19531 0.1711 C -0.20035 0.17664 -0.19739 0.17618 -0.20312 0.18381 C -0.20781 0.19006 -0.21354 0.19792 -0.2191 0.203 C -0.2243 0.21341 -0.22587 0.21734 -0.23333 0.22404 C -0.23489 0.22751 -0.23611 0.23144 -0.23819 0.23468 C -0.23941 0.23653 -0.24184 0.23676 -0.24288 0.23884 C -0.25 0.25248 -0.25278 0.26728 -0.26354 0.27699 C -0.26545 0.28763 -0.26996 0.29133 -0.27465 0.30011 C -0.28021 0.31052 -0.28611 0.32162 -0.29531 0.32555 C -0.29826 0.33711 -0.29462 0.32786 -0.30486 0.33618 C -0.30937 0.33988 -0.31319 0.34497 -0.31753 0.34867 C -0.32378 0.36162 -0.33472 0.37133 -0.34288 0.38266 C -0.34444 0.38497 -0.34462 0.38844 -0.346 0.39098 C -0.34774 0.39422 -0.35052 0.3963 -0.35243 0.39954 C -0.35816 0.40948 -0.3625 0.42127 -0.36823 0.43121 C -0.37344 0.44 -0.37448 0.4363 -0.3809 0.44601 C -0.38437 0.45133 -0.38732 0.45711 -0.39045 0.46289 C -0.39583 0.47283 -0.39965 0.48393 -0.40642 0.49248 C -0.40816 0.49734 -0.40885 0.50289 -0.41111 0.50728 C -0.4158 0.51653 -0.42378 0.5237 -0.42864 0.53271 C -0.4375 0.54959 -0.43264 0.54427 -0.44132 0.55167 C -0.44323 0.55954 -0.44566 0.56439 -0.4493 0.57063 C -0.45156 0.5748 -0.45555 0.58335 -0.45555 0.58335 C -0.4592 0.59884 -0.45434 0.58196 -0.46041 0.59399 C -0.46128 0.59584 -0.46458 0.60693 -0.46666 0.60878 C -0.46857 0.6104 -0.471 0.61017 -0.47309 0.61086 C -0.47621 0.61503 -0.48125 0.6178 -0.48264 0.62358 C -0.48472 0.63214 -0.48281 0.62867 -0.48889 0.63422 C -0.49236 0.64138 -0.49062 0.63884 -0.49375 0.64254 E">
                                      <p:cBhvr>
                                        <p:cTn id="5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61111E-006 -1.50289E-006 C -0.0132 0.0007 -0.02656 0.00047 -0.03976 0.00209 C -0.04306 0.00255 -0.04601 0.00532 -0.04931 0.00648 C -0.06233 0.01087 -0.0757 0.0155 -0.08889 0.01896 C -0.10087 0.0296 -0.11077 0.03006 -0.12379 0.04024 C -0.15087 0.06151 -0.17847 0.0807 -0.20486 0.10359 C -0.22309 0.11931 -0.23716 0.14266 -0.254 0.1607 C -0.25955 0.16671 -0.26736 0.16972 -0.27153 0.17758 C -0.27587 0.18567 -0.27952 0.19122 -0.28577 0.19654 C -0.28681 0.19862 -0.28733 0.20139 -0.28889 0.20301 C -0.29028 0.2044 -0.29254 0.20347 -0.29375 0.20509 C -0.29775 0.21041 -0.3 0.21781 -0.30313 0.22405 C -0.30643 0.23052 -0.31268 0.24324 -0.31268 0.24324 C -0.31563 0.26729 -0.31129 0.24671 -0.3191 0.2622 C -0.32448 0.27284 -0.32795 0.28833 -0.33177 0.30012 C -0.33768 0.31769 -0.34393 0.33526 -0.34931 0.35307 C -0.35052 0.35723 -0.35 0.36255 -0.35243 0.36579 C -0.36042 0.37642 -0.36511 0.38937 -0.37309 0.39954 C -0.37865 0.4148 -0.38629 0.42891 -0.39202 0.44394 C -0.39445 0.45041 -0.4 0.46289 -0.4 0.46289 C -0.40209 0.47145 -0.40608 0.47399 -0.40955 0.48209 C -0.41129 0.48625 -0.41233 0.49087 -0.41424 0.4948 C -0.41771 0.5022 -0.42379 0.50798 -0.42709 0.51584 E">
                                      <p:cBhvr>
                                        <p:cTn id="6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940360" y="4149720"/>
            <a:ext cx="3024360" cy="2521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954720" y="196560"/>
            <a:ext cx="397692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Т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ри цыпленка стоят </a:t>
            </a:r>
            <a:br>
              <a:rPr sz="2400"/>
            </a:b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На скорлупки гляд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Три  яичка в гнезде </a:t>
            </a:r>
            <a:br>
              <a:rPr sz="2400"/>
            </a:b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У наседки лежат.</a:t>
            </a:r>
            <a:br>
              <a:rPr sz="2400"/>
            </a:b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Сосчитай поверней,</a:t>
            </a:r>
            <a:br>
              <a:rPr sz="2400"/>
            </a:b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Отвечай поскорей: </a:t>
            </a:r>
            <a:br>
              <a:rPr sz="2400"/>
            </a:b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Сколько будет цыплят </a:t>
            </a:r>
            <a:br>
              <a:rPr sz="2400"/>
            </a:b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У наседки моей?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6227640" y="836640"/>
            <a:ext cx="2444760" cy="3263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3"/>
          <a:srcRect l="9058" t="2816" r="10905" b="2872"/>
          <a:stretch/>
        </p:blipFill>
        <p:spPr>
          <a:xfrm>
            <a:off x="971640" y="3429000"/>
            <a:ext cx="1657440" cy="1281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4"/>
          <a:stretch/>
        </p:blipFill>
        <p:spPr>
          <a:xfrm>
            <a:off x="2124000" y="5300640"/>
            <a:ext cx="1657440" cy="1281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5"/>
          <a:srcRect l="9058" t="2816" r="10905" b="2872"/>
          <a:stretch/>
        </p:blipFill>
        <p:spPr>
          <a:xfrm>
            <a:off x="324000" y="5300640"/>
            <a:ext cx="1657080" cy="12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53476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+ 1 = 4                7 – 2 = 5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+ 2 = 3                3 + 3 = 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57200" y="1905120"/>
          <a:ext cx="8229600" cy="761760"/>
        </p:xfrm>
        <a:graphic>
          <a:graphicData uri="http://schemas.openxmlformats.org/drawingml/2006/table">
            <a:tbl>
              <a:tblPr/>
              <a:tblGrid>
                <a:gridCol w="822240"/>
                <a:gridCol w="822240"/>
                <a:gridCol w="822600"/>
                <a:gridCol w="822240"/>
                <a:gridCol w="824040"/>
                <a:gridCol w="822240"/>
                <a:gridCol w="823680"/>
                <a:gridCol w="824040"/>
                <a:gridCol w="822240"/>
                <a:gridCol w="824040"/>
              </a:tblGrid>
              <a:tr h="761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57200" y="4419720"/>
          <a:ext cx="8229600" cy="839520"/>
        </p:xfrm>
        <a:graphic>
          <a:graphicData uri="http://schemas.openxmlformats.org/drawingml/2006/table">
            <a:tbl>
              <a:tblPr/>
              <a:tblGrid>
                <a:gridCol w="822240"/>
                <a:gridCol w="822240"/>
                <a:gridCol w="822600"/>
                <a:gridCol w="822240"/>
                <a:gridCol w="824040"/>
                <a:gridCol w="822240"/>
                <a:gridCol w="823680"/>
                <a:gridCol w="824040"/>
                <a:gridCol w="822240"/>
                <a:gridCol w="824040"/>
              </a:tblGrid>
              <a:tr h="839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-120600" y="2373480"/>
            <a:ext cx="1531800" cy="1530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706320" y="2344680"/>
            <a:ext cx="1570320" cy="1532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1630440" y="2311560"/>
            <a:ext cx="1319040" cy="1649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4"/>
          <a:stretch/>
        </p:blipFill>
        <p:spPr>
          <a:xfrm>
            <a:off x="6997680" y="2317680"/>
            <a:ext cx="1585800" cy="1586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5"/>
          <a:stretch/>
        </p:blipFill>
        <p:spPr>
          <a:xfrm>
            <a:off x="3641760" y="2311560"/>
            <a:ext cx="946080" cy="1680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6"/>
          <a:stretch/>
        </p:blipFill>
        <p:spPr>
          <a:xfrm>
            <a:off x="4267080" y="2322360"/>
            <a:ext cx="1378080" cy="1722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7"/>
          <a:stretch/>
        </p:blipFill>
        <p:spPr>
          <a:xfrm>
            <a:off x="5499000" y="2373480"/>
            <a:ext cx="1079640" cy="1618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8"/>
          <a:stretch/>
        </p:blipFill>
        <p:spPr>
          <a:xfrm>
            <a:off x="6413400" y="2251080"/>
            <a:ext cx="955800" cy="1687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9"/>
          <a:stretch/>
        </p:blipFill>
        <p:spPr>
          <a:xfrm>
            <a:off x="2311560" y="2278080"/>
            <a:ext cx="1712880" cy="171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228600" y="4114800"/>
          <a:ext cx="8763120" cy="762120"/>
        </p:xfrm>
        <a:graphic>
          <a:graphicData uri="http://schemas.openxmlformats.org/drawingml/2006/table">
            <a:tbl>
              <a:tblPr/>
              <a:tblGrid>
                <a:gridCol w="876240"/>
                <a:gridCol w="874800"/>
                <a:gridCol w="876240"/>
                <a:gridCol w="876240"/>
                <a:gridCol w="876240"/>
                <a:gridCol w="876600"/>
                <a:gridCol w="876240"/>
                <a:gridCol w="876240"/>
                <a:gridCol w="878040"/>
                <a:gridCol w="876240"/>
              </a:tblGrid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-120600" y="2373480"/>
            <a:ext cx="1531800" cy="1530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706320" y="2344680"/>
            <a:ext cx="1570320" cy="153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1630440" y="2311560"/>
            <a:ext cx="1319040" cy="1649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4"/>
          <a:stretch/>
        </p:blipFill>
        <p:spPr>
          <a:xfrm>
            <a:off x="6997680" y="2317680"/>
            <a:ext cx="1585800" cy="1586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5"/>
          <a:stretch/>
        </p:blipFill>
        <p:spPr>
          <a:xfrm>
            <a:off x="3641760" y="2311560"/>
            <a:ext cx="946080" cy="1680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6"/>
          <a:stretch/>
        </p:blipFill>
        <p:spPr>
          <a:xfrm>
            <a:off x="4267080" y="2322360"/>
            <a:ext cx="1378080" cy="1722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7"/>
          <a:stretch/>
        </p:blipFill>
        <p:spPr>
          <a:xfrm>
            <a:off x="5499000" y="2373480"/>
            <a:ext cx="1079640" cy="1618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8"/>
          <a:stretch/>
        </p:blipFill>
        <p:spPr>
          <a:xfrm>
            <a:off x="6413400" y="2251080"/>
            <a:ext cx="955800" cy="1687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9"/>
          <a:stretch/>
        </p:blipFill>
        <p:spPr>
          <a:xfrm>
            <a:off x="2311560" y="2278080"/>
            <a:ext cx="1712880" cy="1714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10"/>
          <a:stretch/>
        </p:blipFill>
        <p:spPr>
          <a:xfrm>
            <a:off x="7791480" y="2344680"/>
            <a:ext cx="1616040" cy="16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228600" y="4114800"/>
          <a:ext cx="8763120" cy="762120"/>
        </p:xfrm>
        <a:graphic>
          <a:graphicData uri="http://schemas.openxmlformats.org/drawingml/2006/table">
            <a:tbl>
              <a:tblPr/>
              <a:tblGrid>
                <a:gridCol w="876240"/>
                <a:gridCol w="874800"/>
                <a:gridCol w="876240"/>
                <a:gridCol w="876240"/>
                <a:gridCol w="876240"/>
                <a:gridCol w="876600"/>
                <a:gridCol w="876240"/>
                <a:gridCol w="876240"/>
                <a:gridCol w="878040"/>
                <a:gridCol w="876240"/>
              </a:tblGrid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lia</dc:creator>
  <dc:description/>
  <dc:language>en-US</dc:language>
  <cp:lastModifiedBy>Учитель</cp:lastModifiedBy>
  <dcterms:modified xsi:type="dcterms:W3CDTF">2019-11-20T14:37:49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