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7.jpeg" ContentType="image/jpeg"/>
  <Override PartName="/ppt/media/image6.wmf" ContentType="image/x-wmf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A9192-FAC0-42CC-8D2F-CF689D481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630BE-59B0-4E85-9684-E734B2E9E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86F47-580D-427B-9074-A6EDCC5FE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1EC85-57EA-4150-8D19-DD9CEE137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C48DE-87E8-443B-9099-FF28A2A52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CFED9-B46B-48B0-B0E9-C04115DDE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E7C1E-C591-4546-A024-D95BB19C3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D04E4-072E-4656-AA9B-A9DB56F95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CC148-D441-4D0E-A127-C7A9EF212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74CC7-0181-4167-B595-2700E301A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4DA08-719D-463C-AB59-268F93305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8D596-1949-4EF5-A5C1-34ED091D1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8DC09-AED0-42B4-93FF-5AC033F9B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42C67-2C6C-4396-9F7A-43308FE70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0F338-2C8B-422E-950D-E996A525C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24183-6D95-44E6-9CBD-BEA23A631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90CD6-44D9-43DD-8342-2827783E5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BB4C61-7C51-44A4-85D2-399626EA8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D0671F-4475-42AE-AB66-9361A2CD9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4ED25D-9DC9-43D5-8554-9F34A87A8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4EA8C4-3F2F-4E17-94AE-F2085EF5A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42F819-98D3-4364-89CE-9A36C83B1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FBE05-2511-4523-A529-F58FB4A86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6C1227-E159-4FF3-BA43-22502D755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FEC883-450F-4024-8C0F-37F55C2B1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3D5B0E-0013-44D0-A900-F049B66BE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9D99B7-34A8-46CE-999F-4FEAD0110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A44BC1-16F9-4B4D-BEDE-3336AFEB7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87E1D3-556F-4F79-99E5-FCE7BB1C4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9C74B4-58FC-477A-94F3-6AC5E5A65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E9D0EA-3968-4734-BAD3-F003D2A2C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B41009-E2F1-4EA4-9407-60370FE6E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2DD3FD-7827-4BF1-8BE4-E375A151F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4444B-5415-4771-935F-011243508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73FE6A-113A-48B6-80E5-EF2E88CA5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C6FC64-5504-44E7-A9CF-B1F40AC99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F4FABD-2227-4357-A2E5-66C4E79D3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FCEEF3-3836-4707-92FE-D9854063C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8B5F96-38E2-40F9-ABC0-6794F87D2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AB74D0-65AB-485D-8EE3-82FD98116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A4BCE6-C23A-4B39-9A5E-BB6D7FFAA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7A5DF3-7992-4B04-BC00-CC81D89E5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FFECB0-86AB-40C5-BBC7-7DC9AA3E8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C5FE2-32ED-4C7B-B7C2-D0BB7FE2B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B87C6-CDA6-4E47-A15E-962A3C000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0BE1A-2902-448C-A078-5423681DF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D9E0F-7850-44EF-858D-92B74C7AB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8E92A-B1E9-4732-B3A2-1FF2D3107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2C497-28C5-4775-B724-0C3428009CA9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16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54" name="Straight Connector 17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55" name="Freeform 18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56" name="Freeform 19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57" name="Freeform 2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58" name="Freeform 2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60" name="Freeform 23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640" cy="569772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EEC62-29AE-44B4-8757-EF708C6B3D60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0B04B-8957-4A73-A1C9-EF962A1AD943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B0ACF-646F-4048-A7BB-F57E183B609A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755640" y="1915920"/>
            <a:ext cx="6624720" cy="2135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ЕМЬЯ - важнейший институт воспитания детей</a:t>
            </a:r>
            <a:endParaRPr b="0" lang="en-US" sz="5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4140360" y="4941720"/>
            <a:ext cx="4032000" cy="110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2a5010"/>
                </a:solidFill>
                <a:latin typeface="Trebuchet MS"/>
              </a:rPr>
              <a:t> 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4" name="Прямоугольник 1"/>
          <p:cNvSpPr/>
          <p:nvPr/>
        </p:nvSpPr>
        <p:spPr>
          <a:xfrm>
            <a:off x="900000" y="41400"/>
            <a:ext cx="4572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5" name="Picture 5" descr="http://woman.forumdaily.com/wp-content/uploads/2018/01/Depositphotos_75166099_m-2015.jpg"/>
          <p:cNvPicPr/>
          <p:nvPr/>
        </p:nvPicPr>
        <p:blipFill>
          <a:blip r:embed="rId1"/>
          <a:stretch/>
        </p:blipFill>
        <p:spPr>
          <a:xfrm>
            <a:off x="468360" y="4437000"/>
            <a:ext cx="3163680" cy="21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6554880" cy="36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90c226"/>
                </a:solidFill>
                <a:latin typeface="Trebuchet MS"/>
              </a:rPr>
              <a:t>Муфазалова Р.Р. 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onstantia"/>
                <a:ea typeface="Times New Roman"/>
              </a:rPr>
              <a:t>  «Условия воспитания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onstantia"/>
                <a:ea typeface="Times New Roman"/>
              </a:rPr>
              <a:t>                          детей в семье»</a:t>
            </a:r>
            <a:br>
              <a:rPr sz="4800"/>
            </a:b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609120" y="4292280"/>
            <a:ext cx="5907240" cy="174924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1"/>
          <p:cNvSpPr/>
          <p:nvPr/>
        </p:nvSpPr>
        <p:spPr>
          <a:xfrm>
            <a:off x="1800" y="90360"/>
            <a:ext cx="22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6554880" cy="36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90c226"/>
                </a:solidFill>
                <a:latin typeface="Trebuchet MS"/>
              </a:rPr>
              <a:t>Юнусова И.А.</a:t>
            </a:r>
            <a:r>
              <a:rPr b="0" lang="ru-RU" sz="3600" spc="-1" strike="noStrike">
                <a:solidFill>
                  <a:srgbClr val="000000"/>
                </a:solidFill>
                <a:latin typeface="Constantia"/>
                <a:ea typeface="Times New Roman"/>
              </a:rPr>
              <a:t>  «Буллинг»</a:t>
            </a:r>
            <a:br>
              <a:rPr sz="4800"/>
            </a:b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609120" y="4292280"/>
            <a:ext cx="5907240" cy="1749240"/>
          </a:xfrm>
          <a:prstGeom prst="rect">
            <a:avLst/>
          </a:prstGeom>
          <a:ln w="0">
            <a:noFill/>
          </a:ln>
        </p:spPr>
      </p:pic>
      <p:sp>
        <p:nvSpPr>
          <p:cNvPr id="255" name="Rectangle 1"/>
          <p:cNvSpPr/>
          <p:nvPr/>
        </p:nvSpPr>
        <p:spPr>
          <a:xfrm>
            <a:off x="1800" y="90360"/>
            <a:ext cx="22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Monotype Corsiva"/>
              </a:rPr>
              <a:t>Спасибо за внимание</a:t>
            </a:r>
            <a:endParaRPr b="0" lang="en-US" sz="6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-6840" y="-360"/>
            <a:ext cx="518508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500" spc="-1" strike="noStrike">
                <a:solidFill>
                  <a:srgbClr val="c00000"/>
                </a:solidFill>
                <a:latin typeface="Trebuchet MS"/>
              </a:rPr>
              <a:t>«Только вместе с родителями, общими усилиями, учителя могут дать детям большое человеческое счастье»</a:t>
            </a:r>
            <a:br>
              <a:rPr sz="2500"/>
            </a:br>
            <a:r>
              <a:rPr b="0" lang="ru-RU" sz="2500" spc="-1" strike="noStrike">
                <a:solidFill>
                  <a:srgbClr val="c00000"/>
                </a:solidFill>
                <a:latin typeface="Trebuchet MS"/>
              </a:rPr>
              <a:t> В.А. Сухомлинский</a:t>
            </a:r>
            <a:endParaRPr b="0" lang="en-US" sz="25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50560" y="2349360"/>
            <a:ext cx="7705800" cy="41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18" name="Picture 2" descr="&quot;ÐÐµÐ±ÐµÐ´Ñ,ÑÐ°Ðº Ð¸ ÑÑÐºÐ°&quot;"/>
          <p:cNvPicPr/>
          <p:nvPr/>
        </p:nvPicPr>
        <p:blipFill>
          <a:blip r:embed="rId1"/>
          <a:srcRect l="3685" t="5613" r="4121" b="16142"/>
          <a:stretch/>
        </p:blipFill>
        <p:spPr>
          <a:xfrm>
            <a:off x="4140360" y="2349360"/>
            <a:ext cx="3887640" cy="4289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9" name="Группа 136"/>
          <p:cNvGrpSpPr/>
          <p:nvPr/>
        </p:nvGrpSpPr>
        <p:grpSpPr>
          <a:xfrm>
            <a:off x="762120" y="304920"/>
            <a:ext cx="7561080" cy="6984720"/>
            <a:chOff x="762120" y="304920"/>
            <a:chExt cx="7561080" cy="6984720"/>
          </a:xfrm>
        </p:grpSpPr>
        <p:grpSp>
          <p:nvGrpSpPr>
            <p:cNvPr id="220" name="Группа 20"/>
            <p:cNvGrpSpPr/>
            <p:nvPr/>
          </p:nvGrpSpPr>
          <p:grpSpPr>
            <a:xfrm>
              <a:off x="762120" y="304920"/>
              <a:ext cx="7561080" cy="6984720"/>
              <a:chOff x="762120" y="304920"/>
              <a:chExt cx="7561080" cy="6984720"/>
            </a:xfrm>
          </p:grpSpPr>
          <p:sp>
            <p:nvSpPr>
              <p:cNvPr id="221" name="WordArt 3"/>
              <p:cNvSpPr txBox="1"/>
              <p:nvPr/>
            </p:nvSpPr>
            <p:spPr>
              <a:xfrm rot="20583000">
                <a:off x="1122480" y="2968200"/>
                <a:ext cx="1871640" cy="639720"/>
              </a:xfrm>
              <a:prstGeom prst="rect">
                <a:avLst/>
              </a:prstGeom>
            </p:spPr>
            <p:txBody>
              <a:bodyPr wrap="none" lIns="90000" rIns="90000" tIns="46800" bIns="46800" anchor="t">
                <a:prstTxWarp prst="textCurveDown">
                  <a:avLst>
                    <a:gd name="adj" fmla="val 45833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3366ff"/>
                      </a:solidFill>
                      <a:miter/>
                    </a:ln>
                    <a:solidFill>
                      <a:srgbClr val="0000ff"/>
                    </a:solidFill>
                    <a:latin typeface="Arial"/>
                  </a:rPr>
                  <a:t>Учителя</a:t>
                </a:r>
                <a:endParaRPr b="1" lang="en-US" sz="1800" spc="1" strike="noStrike">
                  <a:ln w="9360">
                    <a:solidFill>
                      <a:srgbClr val="3366ff"/>
                    </a:solidFill>
                    <a:miter/>
                  </a:ln>
                  <a:solidFill>
                    <a:srgbClr val="0000ff"/>
                  </a:solidFill>
                  <a:latin typeface="Arial"/>
                  <a:ea typeface="Arial"/>
                </a:endParaRPr>
              </a:p>
            </p:txBody>
          </p:sp>
          <p:sp>
            <p:nvSpPr>
              <p:cNvPr id="222" name="WordArt 4"/>
              <p:cNvSpPr txBox="1"/>
              <p:nvPr/>
            </p:nvSpPr>
            <p:spPr>
              <a:xfrm rot="1740600">
                <a:off x="6090840" y="2823840"/>
                <a:ext cx="1893600" cy="774360"/>
              </a:xfrm>
              <a:prstGeom prst="rect">
                <a:avLst/>
              </a:prstGeom>
            </p:spPr>
            <p:txBody>
              <a:bodyPr wrap="none" lIns="90000" rIns="90000" tIns="46800" bIns="46800" anchor="t">
                <a:prstTxWarp prst="textCurveUp">
                  <a:avLst>
                    <a:gd name="adj" fmla="val 45833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3366ff"/>
                      </a:solidFill>
                      <a:miter/>
                    </a:ln>
                    <a:solidFill>
                      <a:srgbClr val="0000ff"/>
                    </a:solidFill>
                    <a:latin typeface="Arial"/>
                  </a:rPr>
                  <a:t>Родители</a:t>
                </a:r>
                <a:endParaRPr b="1" lang="en-US" sz="1800" spc="1" strike="noStrike">
                  <a:ln w="9360">
                    <a:solidFill>
                      <a:srgbClr val="3366ff"/>
                    </a:solidFill>
                    <a:miter/>
                  </a:ln>
                  <a:solidFill>
                    <a:srgbClr val="0000ff"/>
                  </a:solidFill>
                  <a:latin typeface="Arial"/>
                  <a:ea typeface="Arial"/>
                </a:endParaRPr>
              </a:p>
            </p:txBody>
          </p:sp>
          <p:sp>
            <p:nvSpPr>
              <p:cNvPr id="223" name="WordArt 5"/>
              <p:cNvSpPr txBox="1"/>
              <p:nvPr/>
            </p:nvSpPr>
            <p:spPr>
              <a:xfrm>
                <a:off x="3209760" y="2536920"/>
                <a:ext cx="2376360" cy="576000"/>
              </a:xfrm>
              <a:prstGeom prst="rect">
                <a:avLst/>
              </a:prstGeom>
            </p:spPr>
            <p:txBody>
              <a:bodyPr wrap="none" lIns="90000" rIns="90000" tIns="46800" bIns="46800" anchor="t">
                <a:prstTxWarp prst="textCanUp">
                  <a:avLst>
                    <a:gd name="adj" fmla="val 72454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3366ff"/>
                      </a:solidFill>
                      <a:miter/>
                    </a:ln>
                    <a:solidFill>
                      <a:srgbClr val="0000ff"/>
                    </a:solidFill>
                    <a:latin typeface="Arial"/>
                  </a:rPr>
                  <a:t>УчащиесЯ</a:t>
                </a:r>
                <a:endParaRPr b="1" lang="en-US" sz="1800" spc="1" strike="noStrike">
                  <a:ln w="9360">
                    <a:solidFill>
                      <a:srgbClr val="3366ff"/>
                    </a:solidFill>
                    <a:miter/>
                  </a:ln>
                  <a:solidFill>
                    <a:srgbClr val="0000ff"/>
                  </a:solidFill>
                  <a:latin typeface="Arial"/>
                  <a:ea typeface="Arial"/>
                </a:endParaRPr>
              </a:p>
            </p:txBody>
          </p:sp>
          <p:sp>
            <p:nvSpPr>
              <p:cNvPr id="224" name="AutoShape 6"/>
              <p:cNvSpPr/>
              <p:nvPr/>
            </p:nvSpPr>
            <p:spPr>
              <a:xfrm rot="18228000">
                <a:off x="1338120" y="3760560"/>
                <a:ext cx="863280" cy="1726920"/>
              </a:xfrm>
              <a:custGeom>
                <a:avLst/>
                <a:gdLst>
                  <a:gd name="textAreaLeft" fmla="*/ 115560 w 863280"/>
                  <a:gd name="textAreaRight" fmla="*/ 747720 w 863280"/>
                  <a:gd name="textAreaTop" fmla="*/ 327600 h 1726920"/>
                  <a:gd name="textAreaBottom" fmla="*/ 1180800 h 1726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arcTo wR="21600" hR="8197" stAng="-5400000" swAng="-5400000"/>
                    <a:lnTo>
                      <a:pt x="0" y="10672"/>
                    </a:lnTo>
                    <a:arcTo wR="21600" hR="8197" stAng="10800000" swAng="-2876657"/>
                    <a:lnTo>
                      <a:pt x="14604" y="21158"/>
                    </a:lnTo>
                    <a:lnTo>
                      <a:pt x="21600" y="17631"/>
                    </a:lnTo>
                    <a:lnTo>
                      <a:pt x="14604" y="13219"/>
                    </a:lnTo>
                    <a:lnTo>
                      <a:pt x="14604" y="15951"/>
                    </a:lnTo>
                    <a:arcTo wR="21600" hR="8197" stAng="7923343" swAng="2677642"/>
                    <a:lnTo>
                      <a:pt x="248" y="9434"/>
                    </a:lnTo>
                    <a:arcTo wR="21600" hR="8197" stAng="-10600985" swAng="5200985"/>
                    <a:close/>
                  </a:path>
                  <a:path fill="darkenLess" w="21600" h="21600">
                    <a:moveTo>
                      <a:pt x="21600" y="0"/>
                    </a:moveTo>
                    <a:arcTo wR="21600" hR="8197" stAng="-5400000" swAng="-5400000"/>
                    <a:lnTo>
                      <a:pt x="0" y="8197"/>
                    </a:lnTo>
                    <a:arcTo wR="21600" hR="8197" stAng="10800000" swAng="-199015"/>
                    <a:lnTo>
                      <a:pt x="248" y="9434"/>
                    </a:lnTo>
                    <a:arcTo wR="21600" hR="8197" stAng="-10600985" swAng="5200985"/>
                    <a:close/>
                  </a:path>
                </a:pathLst>
              </a:cu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  <p:sp>
            <p:nvSpPr>
              <p:cNvPr id="225" name="AutoShape 7"/>
              <p:cNvSpPr/>
              <p:nvPr/>
            </p:nvSpPr>
            <p:spPr>
              <a:xfrm rot="3250200">
                <a:off x="6858360" y="3785040"/>
                <a:ext cx="855360" cy="1670040"/>
              </a:xfrm>
              <a:custGeom>
                <a:avLst/>
                <a:gdLst>
                  <a:gd name="textAreaLeft" fmla="*/ 114480 w 855360"/>
                  <a:gd name="textAreaRight" fmla="*/ 740880 w 855360"/>
                  <a:gd name="textAreaTop" fmla="*/ 331560 h 1670040"/>
                  <a:gd name="textAreaBottom" fmla="*/ 1171440 h 16700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arcTo wR="21600" hR="8578" stAng="-5400000" swAng="5400000"/>
                    <a:lnTo>
                      <a:pt x="21600" y="10863"/>
                    </a:lnTo>
                    <a:arcTo wR="21600" hR="8578" stAng="0" swAng="2899234"/>
                    <a:lnTo>
                      <a:pt x="7200" y="21109"/>
                    </a:lnTo>
                    <a:lnTo>
                      <a:pt x="0" y="18298"/>
                    </a:lnTo>
                    <a:lnTo>
                      <a:pt x="7200" y="14504"/>
                    </a:lnTo>
                    <a:lnTo>
                      <a:pt x="7200" y="16664"/>
                    </a:lnTo>
                    <a:arcTo wR="21600" hR="8578" stAng="2899234" swAng="-2715938"/>
                    <a:lnTo>
                      <a:pt x="21408" y="9720"/>
                    </a:lnTo>
                    <a:arcTo wR="21600" hR="8578" stAng="-183295" swAng="-5216705"/>
                    <a:close/>
                  </a:path>
                  <a:path fill="darkenLess" w="21600" h="21600">
                    <a:moveTo>
                      <a:pt x="0" y="0"/>
                    </a:moveTo>
                    <a:arcTo wR="21600" hR="8578" stAng="-5400000" swAng="5400000"/>
                    <a:lnTo>
                      <a:pt x="21600" y="10863"/>
                    </a:lnTo>
                    <a:arcTo wR="21600" hR="8578" stAng="0" swAng="-183295"/>
                    <a:lnTo>
                      <a:pt x="21408" y="9720"/>
                    </a:lnTo>
                    <a:arcTo wR="21600" hR="8578" stAng="-183295" swAng="-5216705"/>
                    <a:close/>
                  </a:path>
                </a:pathLst>
              </a:cu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  <p:sp>
            <p:nvSpPr>
              <p:cNvPr id="226" name="AutoShape 8"/>
              <p:cNvSpPr/>
              <p:nvPr/>
            </p:nvSpPr>
            <p:spPr>
              <a:xfrm rot="10800000">
                <a:off x="4291200" y="3039840"/>
                <a:ext cx="358560" cy="431640"/>
              </a:xfrm>
              <a:prstGeom prst="upArrow">
                <a:avLst>
                  <a:gd name="adj1" fmla="val 42481"/>
                  <a:gd name="adj2" fmla="val 27665"/>
                </a:avLst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  <p:sp>
            <p:nvSpPr>
              <p:cNvPr id="227" name="Oval 9"/>
              <p:cNvSpPr/>
              <p:nvPr/>
            </p:nvSpPr>
            <p:spPr>
              <a:xfrm>
                <a:off x="2706840" y="3687840"/>
                <a:ext cx="3600360" cy="1655640"/>
              </a:xfrm>
              <a:prstGeom prst="ellipse">
                <a:avLst/>
              </a:prstGeom>
              <a:solidFill>
                <a:srgbClr val="92d05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000000"/>
                    </a:solidFill>
                    <a:latin typeface="Comic Sans MS"/>
                  </a:rPr>
                  <a:t>Взаимопонимание сотрудничество</a:t>
                </a:r>
                <a:endParaRPr b="0" lang="en-US" sz="20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  <p:sp>
            <p:nvSpPr>
              <p:cNvPr id="228" name="AutoShape 10"/>
              <p:cNvSpPr/>
              <p:nvPr/>
            </p:nvSpPr>
            <p:spPr>
              <a:xfrm>
                <a:off x="3859200" y="5416560"/>
                <a:ext cx="1223640" cy="431640"/>
              </a:xfrm>
              <a:prstGeom prst="downArrow">
                <a:avLst>
                  <a:gd name="adj1" fmla="val 50000"/>
                  <a:gd name="adj2" fmla="val 25000"/>
                </a:avLst>
              </a:prstGeom>
              <a:solidFill>
                <a:srgbClr val="6d644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  <p:sp>
            <p:nvSpPr>
              <p:cNvPr id="229" name="WordArt 11"/>
              <p:cNvSpPr txBox="1"/>
              <p:nvPr/>
            </p:nvSpPr>
            <p:spPr>
              <a:xfrm>
                <a:off x="762120" y="304920"/>
                <a:ext cx="7561080" cy="698472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>
                <a:prstTxWarp prst="textButton">
                  <a:avLst>
                    <a:gd name="adj" fmla="val 11596269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993300"/>
                      </a:solidFill>
                      <a:miter/>
                    </a:ln>
                    <a:solidFill>
                      <a:srgbClr val="800000"/>
                    </a:solidFill>
                    <a:latin typeface="Comic Sans MS"/>
                  </a:rPr>
                  <a:t>К л а с с н ы й    р у к о в о д и т е л ь</a:t>
                </a:r>
                <a:endParaRPr b="1" lang="en-US" sz="1800" spc="1" strike="noStrike">
                  <a:ln w="9360">
                    <a:solidFill>
                      <a:srgbClr val="993300"/>
                    </a:solidFill>
                    <a:miter/>
                  </a:ln>
                  <a:solidFill>
                    <a:srgbClr val="800000"/>
                  </a:solidFill>
                  <a:latin typeface="Comic Sans MS"/>
                  <a:ea typeface="Comic Sans MS"/>
                </a:endParaRPr>
              </a:p>
            </p:txBody>
          </p:sp>
          <p:sp>
            <p:nvSpPr>
              <p:cNvPr id="230" name="WordArt 12"/>
              <p:cNvSpPr txBox="1"/>
              <p:nvPr/>
            </p:nvSpPr>
            <p:spPr>
              <a:xfrm>
                <a:off x="1770120" y="5705640"/>
                <a:ext cx="5925960" cy="836280"/>
              </a:xfrm>
              <a:prstGeom prst="rect">
                <a:avLst/>
              </a:prstGeom>
            </p:spPr>
            <p:txBody>
              <a:bodyPr wrap="none" lIns="90000" rIns="90000" tIns="46800" bIns="46800" anchor="t">
                <a:prstTxWarp prst="textCanDown">
                  <a:avLst>
                    <a:gd name="adj" fmla="val 33333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19080">
                      <a:solidFill>
                        <a:srgbClr val="993366"/>
                      </a:solidFill>
                      <a:miter/>
                    </a:ln>
                    <a:solidFill>
                      <a:srgbClr val="800000"/>
                    </a:solidFill>
                    <a:latin typeface="Comic Sans MS"/>
                  </a:rPr>
                  <a:t>Хороший результат!</a:t>
                </a:r>
                <a:endParaRPr b="1" lang="en-US" sz="1800" spc="1" strike="noStrike">
                  <a:ln w="19080">
                    <a:solidFill>
                      <a:srgbClr val="993366"/>
                    </a:solidFill>
                    <a:miter/>
                  </a:ln>
                  <a:solidFill>
                    <a:srgbClr val="800000"/>
                  </a:solidFill>
                  <a:latin typeface="Comic Sans MS"/>
                  <a:ea typeface="Comic Sans MS"/>
                </a:endParaRPr>
              </a:p>
            </p:txBody>
          </p:sp>
          <p:pic>
            <p:nvPicPr>
              <p:cNvPr id="231" name="Picture 13" descr="PE02293_"/>
              <p:cNvPicPr/>
              <p:nvPr/>
            </p:nvPicPr>
            <p:blipFill>
              <a:blip r:embed="rId1"/>
              <a:stretch/>
            </p:blipFill>
            <p:spPr>
              <a:xfrm rot="1329600">
                <a:off x="6451200" y="1887120"/>
                <a:ext cx="1230120" cy="1301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2" name="Picture 14" descr="J0301252"/>
              <p:cNvPicPr/>
              <p:nvPr/>
            </p:nvPicPr>
            <p:blipFill>
              <a:blip r:embed="rId2"/>
              <a:stretch/>
            </p:blipFill>
            <p:spPr>
              <a:xfrm flipH="1" rot="20833200">
                <a:off x="1337760" y="1960560"/>
                <a:ext cx="1441440" cy="1231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3" name="Рисунок 19" descr="j0349097.wmf"/>
              <p:cNvPicPr/>
              <p:nvPr/>
            </p:nvPicPr>
            <p:blipFill>
              <a:blip r:embed="rId3"/>
              <a:stretch/>
            </p:blipFill>
            <p:spPr>
              <a:xfrm>
                <a:off x="3429000" y="838080"/>
                <a:ext cx="947880" cy="147672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234" name="Рисунок 21" descr="j0349131.wmf"/>
            <p:cNvPicPr/>
            <p:nvPr/>
          </p:nvPicPr>
          <p:blipFill>
            <a:blip r:embed="rId4"/>
            <a:stretch/>
          </p:blipFill>
          <p:spPr>
            <a:xfrm>
              <a:off x="4575960" y="901440"/>
              <a:ext cx="986400" cy="1384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5" name="AutoShape 20"/>
          <p:cNvSpPr/>
          <p:nvPr/>
        </p:nvSpPr>
        <p:spPr>
          <a:xfrm>
            <a:off x="4576680" y="901800"/>
            <a:ext cx="98604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" name="AutoShape 78"/>
          <p:cNvSpPr/>
          <p:nvPr/>
        </p:nvSpPr>
        <p:spPr>
          <a:xfrm>
            <a:off x="4576680" y="901800"/>
            <a:ext cx="98604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2" descr="https://ds05.infourok.ru/uploads/ex/07e5/0002b37c-35e6bcf3/img5.jpg"/>
          <p:cNvPicPr/>
          <p:nvPr/>
        </p:nvPicPr>
        <p:blipFill>
          <a:blip r:embed="rId1"/>
          <a:srcRect l="3416" t="0" r="4004" b="0"/>
          <a:stretch/>
        </p:blipFill>
        <p:spPr>
          <a:xfrm>
            <a:off x="0" y="0"/>
            <a:ext cx="9126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23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90c226"/>
                </a:solidFill>
                <a:latin typeface="Trebuchet MS"/>
              </a:rPr>
              <a:t>Дильмухаметова Э.У.</a:t>
            </a:r>
            <a:r>
              <a:rPr b="0" lang="ru-RU" sz="3600" spc="-1" strike="noStrike">
                <a:solidFill>
                  <a:srgbClr val="000000"/>
                </a:solidFill>
                <a:latin typeface="Constantia"/>
                <a:ea typeface="Times New Roman"/>
              </a:rPr>
              <a:t> «Влияние семьи на          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onstantia"/>
                <a:ea typeface="Times New Roman"/>
              </a:rPr>
              <a:t>          становление личности»</a:t>
            </a:r>
            <a:br>
              <a:rPr sz="4800"/>
            </a:b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609120" y="4292280"/>
            <a:ext cx="5907240" cy="1749240"/>
          </a:xfrm>
          <a:prstGeom prst="rect">
            <a:avLst/>
          </a:prstGeom>
          <a:ln w="0">
            <a:noFill/>
          </a:ln>
        </p:spPr>
      </p:pic>
      <p:sp>
        <p:nvSpPr>
          <p:cNvPr id="240" name="Rectangle 1"/>
          <p:cNvSpPr/>
          <p:nvPr/>
        </p:nvSpPr>
        <p:spPr>
          <a:xfrm>
            <a:off x="1800" y="90360"/>
            <a:ext cx="22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6554880" cy="36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90c226"/>
                </a:solidFill>
                <a:latin typeface="Trebuchet MS"/>
              </a:rPr>
              <a:t>Багаутдинова А.П.</a:t>
            </a:r>
            <a:r>
              <a:rPr b="0" lang="ru-RU" sz="3600" spc="-1" strike="noStrike">
                <a:solidFill>
                  <a:srgbClr val="000000"/>
                </a:solidFill>
                <a:latin typeface="Constantia"/>
                <a:ea typeface="Times New Roman"/>
              </a:rPr>
              <a:t>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onstantia"/>
                <a:ea typeface="Times New Roman"/>
              </a:rPr>
              <a:t>  «Проблемы семейного воспитания и взаимодействие семьи и школы»</a:t>
            </a:r>
            <a:br>
              <a:rPr sz="4800"/>
            </a:b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609120" y="4292280"/>
            <a:ext cx="5907240" cy="1749240"/>
          </a:xfrm>
          <a:prstGeom prst="rect">
            <a:avLst/>
          </a:prstGeom>
          <a:ln w="0">
            <a:noFill/>
          </a:ln>
        </p:spPr>
      </p:pic>
      <p:sp>
        <p:nvSpPr>
          <p:cNvPr id="243" name="Rectangle 1"/>
          <p:cNvSpPr/>
          <p:nvPr/>
        </p:nvSpPr>
        <p:spPr>
          <a:xfrm>
            <a:off x="1800" y="90360"/>
            <a:ext cx="22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79280" y="609120"/>
            <a:ext cx="7345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90c226"/>
                </a:solidFill>
                <a:latin typeface="Trebuchet MS"/>
              </a:rPr>
              <a:t>Причины непонимания между учителем и родителем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179280" y="2160360"/>
            <a:ext cx="75614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rebuchet MS"/>
              </a:rPr>
              <a:t>Низкий (разный) уровень социально-психологической культуры родителей и педагогов.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rebuchet MS"/>
              </a:rPr>
              <a:t>Недостаточная информированность родителей об особенностях жизни и деятельности детей в школе, а учителей – об условиях и особенностях семейного воспитания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rebuchet MS"/>
              </a:rPr>
              <a:t>Отношение педагогов к родителям не как к субъектам воспитательной деятельности, а как к её объектам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rebuchet MS"/>
              </a:rPr>
              <a:t>Неумение родителей анализировать собственную воспитательную деятельность, находить причины своих ошибок.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6" name=""/>
          <p:cNvGraphicFramePr/>
          <p:nvPr/>
        </p:nvGraphicFramePr>
        <p:xfrm>
          <a:off x="179280" y="260280"/>
          <a:ext cx="7993080" cy="6656400"/>
        </p:xfrm>
        <a:graphic>
          <a:graphicData uri="http://schemas.openxmlformats.org/drawingml/2006/table">
            <a:tbl>
              <a:tblPr/>
              <a:tblGrid>
                <a:gridCol w="851040"/>
                <a:gridCol w="4495680"/>
                <a:gridCol w="852480"/>
                <a:gridCol w="897120"/>
                <a:gridCol w="896760"/>
              </a:tblGrid>
              <a:tr h="195480">
                <a:tc rowSpan="2">
                  <a:txBody>
                    <a:bodyPr lIns="45000" rIns="45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5000" rIns="45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опро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45000" rIns="45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ариант ответа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0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5000" rIns="45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е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е зна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9160">
                <a:tc>
                  <a:txBody>
                    <a:bodyPr lIns="45000" rIns="450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оброжелательны ли мы по отношению к родителям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240">
                <a:tc>
                  <a:txBody>
                    <a:bodyPr lIns="45000" rIns="450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Легко ли им попасть в школу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9160">
                <a:tc>
                  <a:txBody>
                    <a:bodyPr lIns="45000" rIns="450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остаточно ли чистый подъезд к школе и ее вход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480">
                <a:tc>
                  <a:txBody>
                    <a:bodyPr lIns="45000" rIns="450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Легко ли родителям найти учительскую, кабинет завуча и директора (понятны ли указатели к ним)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840">
                <a:tc>
                  <a:txBody>
                    <a:bodyPr lIns="45000" rIns="450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остеприимны ли люди, встречающие родителей, есть ли место, где родители могут посидеть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800">
                <a:tc>
                  <a:txBody>
                    <a:bodyPr lIns="45000" rIns="450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меем ли мы разговаривать с родителями по телефону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840">
                <a:tc>
                  <a:txBody>
                    <a:bodyPr lIns="45000" rIns="450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есь ли персонал школы доброжелателен по отношению к родителям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600">
                <a:tc>
                  <a:txBody>
                    <a:bodyPr lIns="45000" rIns="450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оводим ли мы обучение родителей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0000">
                <a:tc>
                  <a:txBody>
                    <a:bodyPr lIns="45000" rIns="450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оводим ли мы консультации или семинары для родителей по выполнению домашних заданий детьми, дисциплине, мотивации учения и др.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800">
                <a:tc>
                  <a:txBody>
                    <a:bodyPr lIns="45000" rIns="450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Есть ли у нас группы родителей, выполняющие функции наблюдателей (за качеством обучения, отношениями учеников и учителей и др.) в школе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760">
                <a:tc>
                  <a:txBody>
                    <a:bodyPr lIns="45000" rIns="450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частвуют ли родители в обсуждении финансовых вопросов и определении целей работы и развития школы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4280">
                <a:tc>
                  <a:txBody>
                    <a:bodyPr lIns="45000" rIns="450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се ли мы делаем для того, чтобы визиты родителей и представителей общественности в школу были регулярными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480">
                <a:tc>
                  <a:txBody>
                    <a:bodyPr lIns="45000" rIns="450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желали бы мы себе таких учителей (такой школы), как мы сами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7" name=""/>
          <p:cNvGraphicFramePr/>
          <p:nvPr/>
        </p:nvGraphicFramePr>
        <p:xfrm>
          <a:off x="468360" y="1874880"/>
          <a:ext cx="7143840" cy="4761000"/>
        </p:xfrm>
        <a:graphic>
          <a:graphicData uri="http://schemas.openxmlformats.org/drawingml/2006/table">
            <a:tbl>
              <a:tblPr/>
              <a:tblGrid>
                <a:gridCol w="2104920"/>
                <a:gridCol w="2559240"/>
                <a:gridCol w="2479680"/>
              </a:tblGrid>
              <a:tr h="15249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сихолого-педагогическое просвещение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одителе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овлечение родителей в учебно-воспитательный процес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частие родителей в управлении учебно-воспитательным процессо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04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одительские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нференции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ндивидуальные и тематические консультации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одительские собрания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ренинг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ни творчества детей и их родителей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ткрытые уроки и внеклассные мероприятия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мощь в организации и проведении внеклассных дел и укрепление материально-технической базы школы и класса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одительское общественное патрулирование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шефская помощ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частие родителей класса в работе совета школы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частие родителей класса в работе родительского комитета и комитета общественного контроля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частие в работе совета содействия семье и школ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8" name="Прямоугольник 2"/>
          <p:cNvSpPr/>
          <p:nvPr/>
        </p:nvSpPr>
        <p:spPr>
          <a:xfrm>
            <a:off x="395280" y="33336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Constantia"/>
              </a:rPr>
              <a:t>Формы </a:t>
            </a:r>
            <a:br>
              <a:rPr sz="3600"/>
            </a:br>
            <a:r>
              <a:rPr b="0" lang="ru-RU" sz="3600" spc="-1" strike="noStrike">
                <a:solidFill>
                  <a:srgbClr val="c00000"/>
                </a:solidFill>
                <a:latin typeface="Constantia"/>
              </a:rPr>
              <a:t>взаимодействия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9" name="Picture 2" descr="https://about.semena-baza.ru/upload/iblock/869/869f1ef89fe20e77b50a218fea73a7a4.jpg"/>
          <p:cNvPicPr/>
          <p:nvPr/>
        </p:nvPicPr>
        <p:blipFill>
          <a:blip r:embed="rId1"/>
          <a:stretch/>
        </p:blipFill>
        <p:spPr>
          <a:xfrm>
            <a:off x="4114800" y="109440"/>
            <a:ext cx="2889360" cy="29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8T18:21:57Z</dcterms:created>
  <dc:creator>RiK</dc:creator>
  <dc:description/>
  <dc:language>en-US</dc:language>
  <cp:lastModifiedBy>YP-Компьютер</cp:lastModifiedBy>
  <cp:lastPrinted>2018-02-22T00:12:53Z</cp:lastPrinted>
  <dcterms:modified xsi:type="dcterms:W3CDTF">2019-10-27T13:47:15Z</dcterms:modified>
  <cp:revision>65</cp:revision>
  <dc:subject/>
  <dc:title>Индивидуальный образовательный маршрут – путь развития образовательного учреждения в современных условиях</dc:title>
</cp:coreProperties>
</file>