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A61-96F8-494C-96AB-27F6EF62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6AC-1CEB-4C8F-BB94-1CD5334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751-9129-4451-98C8-E4156D15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E47-0028-4807-AC3D-D22566DC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4E4-C1FA-42BD-926B-31BD498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042-3BDB-47F1-A4C6-77189CBD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D0F-AC15-4727-A8DB-1120BAE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D90-9096-4EFB-A5F9-C7C9A54E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F67-71FC-4ED0-AC21-666AE2C2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A86-E6AE-47D2-A3E7-C4655668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E1E-E0E6-4B03-B6F9-8288C46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2F4-C920-44D1-985E-37AAEC7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CE6-69EA-4FD9-84A2-7414F32FB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то-Троицкий Соб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5110, Смоленская область, г. Вязьма, ул. Нагорная,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8131) 4-17-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4797360"/>
            <a:ext cx="40384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оя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иерей Валерий КАЛИН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2920" y="4723920"/>
            <a:ext cx="40388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ерей Дмитрий ТИМОФЕ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Свято-Троицкий Собор"/>
          <p:cNvPicPr/>
          <p:nvPr/>
        </p:nvPicPr>
        <p:blipFill>
          <a:blip r:embed="rId1"/>
          <a:stretch/>
        </p:blipFill>
        <p:spPr>
          <a:xfrm>
            <a:off x="1692360" y="1052640"/>
            <a:ext cx="2144520" cy="285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2000" y="1052640"/>
            <a:ext cx="2144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м центром города вязьмичи считают высокий левый берег реки — «Соборный холм», украшенный на протяжении жизни многих поколений центральным храмом города — Троицким собором. На территории древнего городища (ХI—ХIII вв.) во второй половине XVII века был возведен каменный храм. Вот как об этом пишет историк прошлого века И. П. Виноградов: «Соборная гора и есть „верхний малый город“ на ней было 3 деревянные башни. В главной крепости, между двумя огромными башнями положено было основание новому каменному собору». Первое же упоминание о стоявшем на этом месте деревянном храме во имя Святителя Николая относится к 1015 году и связано с «Житием Преподобного Аркадия Вяземского и Новоторжского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охранившимся преданиям уже в конце X — начале XI века на Соборном холме был храм в честь святителя Николая. Весь период существования Вяземского удельного княжества c 1239 по 1403 гг. он был соборным. В 1406 году в храме погребен благоверный князь Симеон Вяземский, злодейски убитый в Торжке вместе со своей супругой благоверной княгиней Иулианией, князем Юрием Смоленским. В соборном храме в 1495 году молилась невеста великого князя Литовского Александра, дочь великого князя Московского Иоанна III — Елена. По взятии Смоленска в 1514 году в соборном храме слушал благодарственный молебен великий князь Василий III Иоаннович. В 1565 году царь Иоанн IV Васильевич оставил в храме синодик с именами казненных при его правлени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споряжению Бориса Годунова в 1597—1598 годах обветшавший Никольский собор разобран и на его месте поставлен новый, к которому пристроены Сергиевский, Трехсвятский и Рождественский приделы. В 1610 году соборный храм разорен польскими отрядами под предводительством гетмана Жолкевского. В 1612 году в соборе зачитано воззвание Сергиевой лавры и направлено ополчение к Москве. По повелению царя Михаила Феодоровича в 1635 году собор отстроен заново и, в честь заключения под Вязьмой Поляновского мира в день Святой Троицы, переименован из Никольского в Троицкий. Царь Алексей Михайлович и Патриарх Никон посещали собор во время пребывания царского семейства в Вязьме в 1654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3280" y="2376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амять об этом знаменательном событии на средства царя Алексея Михайловича и поставлен каменный собор в 1674—1676 годах. С 1681 года по указу царя Феодора Алексеевича при соборном храме учреждена кафедра епископов Вяземских. В XVII—XVIII веках около собора стоял дом митрополита Крутицкого (Сарского и Подонск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65 году купцами братьями Калашниковыми в собор принесен из Москвы список Иверской иконы Божией Матери, особо почитаемая вязьмич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71 году в России свирепствовала чума, проникнув из Москвы почти во все города России, она чудесным образом не коснулась Вязьмы. Спасение города от смертоносной болезни подвигло жителей города, в память этого события устроить при соборном храме придел во имя Иверской иконы Божией матери. В 1773 году он был построен на средства купца Авксентия Космича Фатова. С этого времени для Вяземского собора начался новый период расцвета. Во время Отечественной войны 1812 года соборный храм сожжен и частично разрушен. Французы устроили в уцелевшей части соляной склад. Когда неприятель был изгнан, соборный храм стоял без Богослужения еще несколько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3280" y="2376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редства выделенные Священным Синодом собор был восстановлен в 1813—1815 годах. В 1836 году из кирпича рухнувшей из-за ветхого состояния колокольни поставлена каменная часовня у Смоленского моста, просуществовавшая до 1930-х годов. В 1847—1849 годах на средства купца Петра Гавриловича Сабельникова Иверский перестроен придел и с северной стороны устроен небольшой придел в честь благоверных князей Бориса и Глеба (в настоящее время не существует). Каменная четырехъярусная колокольня построена в 1850 году. После обследований, проведенных в 1896 году архитектором Гунстом и инженерами Морозовым и Ястребовым, проведены работы по укреплению фундамента хра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у принадлежала каменная Фроловская часовня стоявшая у моста через реку Вязь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8 году постановлением Святейшего Патриарха и Священного Синода учреждено Вяземское викариа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22 году из собора были изъяты серебряные ризы с икон, утварь, жемчуг с митры епископа Вяземского. В 1922 году на колокольне оставалось 9 колоколов. Собор закрыт в 1929 году. Вся богатая утварь, дары Российских государей, древние книги и иконы «экспроприированы» новой властью и в основном исчезли бессле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ослужение в соборе было возобновлено в конце 1941 года и с тех пор не прерыв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3280" y="23050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4—1977 и 1982—2000 годах проводились реставрационные работы по фундаментам, на фасадах и в интерьере хр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верском приделе хранится древний резной образ святителя Николая «Никола Можайский», отреставрированный в начале 1990-х годов тверскими маст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мая 1993 года собор посетил Патриарх Московский и всея Руси Алексий 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ме действует воскресная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6:49:23Z</dcterms:created>
  <dc:creator>KM</dc:creator>
  <dc:description/>
  <dc:language>en-US</dc:language>
  <cp:lastModifiedBy>KM</cp:lastModifiedBy>
  <dcterms:modified xsi:type="dcterms:W3CDTF">2015-01-12T17:34:49Z</dcterms:modified>
  <cp:revision>3</cp:revision>
  <dc:subject/>
  <dc:title>Свято-Троицкий Собор </dc:title>
</cp:coreProperties>
</file>