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033-C97A-47A1-B8E7-103C26DA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A24-9ADA-4B7D-87F1-208D2010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7BB-C662-49A5-B3FB-33B6B934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E46-1FCB-41F6-89E4-31C3ADAA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FB63E-60F6-4356-AD4C-FE69C5D2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BE8C7-D563-4A64-8E4B-1999507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C1A0-AA1E-43E0-875C-20C04DE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592DA-36B3-4CE2-AB6E-F09CB5E2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39AF-1B04-470F-B236-E4EE821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393A2-256A-494D-A77C-DDBEBC3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D363-E34C-4846-BCD7-2CD34BC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364-ACCE-461D-9690-EAC68465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D4D61-D978-4C1C-834E-938E187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3E2DA-F5CC-495D-865B-07CDF3F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2E4D-D36F-437E-A77B-40A5087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8E47-530F-4318-B6C8-B193C7D3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ED0A3-2AFD-4446-8CF9-6F485045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72D-C32D-4E66-ADC0-C356374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BAC-D83B-4296-A96D-6233B730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A80-47FB-4888-BE2D-093203AB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8A2-3AFA-4700-9711-7DAE8CC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4D8-CC53-43F7-82C9-4CD2E50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A13-6C49-4819-8B9A-575BBF5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880-7C9F-4FC2-9589-377ABF6D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C196-5B7F-4DA5-AF42-97B38BC6D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0A3-A01A-4906-B44C-06720925B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Линейные уравнения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 одной переменно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вестный немецкий математик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.КУРАН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1883-1972) писал, что на протяжении двух с лишним тысячелетий умение решать уравнения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«…входило необходимой составной частью в интеллектуальный инвентарь каждого образованного человека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5: (-15)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:(-2)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6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 -2)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+15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ьте на вопрос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уравн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называют корнем уравн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уравнения называют равносиль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горитм решения линейного урав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е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1640" y="2060280"/>
            <a:ext cx="676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4 – у = 19 - 11у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х - 8=х+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х – 9 = 3х +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0,8х +16 = 20 + 0,7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ите уравне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1640" y="2060280"/>
            <a:ext cx="676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4 – у = 19 - 11у;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y=0,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х - 8=х+6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=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5х – 9 = 3х + 1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=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0,8х +16 = 20 + 0,7х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x=4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. 4,     №    4.3 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.4 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.5 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4.13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16:38:29Z</dcterms:created>
  <dc:creator>Julena</dc:creator>
  <dc:description/>
  <dc:language>en-US</dc:language>
  <cp:lastModifiedBy>Julena</cp:lastModifiedBy>
  <dcterms:modified xsi:type="dcterms:W3CDTF">2015-09-15T17:36:34Z</dcterms:modified>
  <cp:revision>2</cp:revision>
  <dc:subject/>
  <dc:title>Линейные уравнения  с одной переменной.</dc:title>
</cp:coreProperties>
</file>