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5755-6A89-477D-AB85-A970E3558D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9CE1-556D-4780-8541-C5B70FEDD3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102-C64B-44D3-949F-2EBC0040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F68-095B-44BE-B459-12FDEDE4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8F3-4C8A-478C-BA4C-95F81C3E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F8B-E123-44D6-8CA4-DACA0668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133F-68BC-41A4-9019-B6A4D8CB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F232-86FA-4DC7-8DBC-46BF6EB5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B2EF-D738-45F8-A42B-3003B2F7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BA74-C99C-4441-99F5-B4133E23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BB98-8C6A-4ECC-B49E-EC504F50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7D47-7566-4C83-840D-A6505D6A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2F0B-663A-451D-8BDC-0FE73BD1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A7F-224B-4FC7-8D7F-C9FDA2C2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DCCC-C26A-4B2D-99FC-C76D3F78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28DF-1150-4B26-894A-7C78428A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F62E-8660-49C7-9A45-16CCD39C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6AEC-9E95-49EF-8278-D2E23CC1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D9BC-F4AA-419D-8AC7-01AC6E5F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BB3-5443-498C-A6DA-5C39F3B7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EE4-8944-4A96-903A-8EC1A248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65E-8AB7-4C7B-8E90-BD10CF37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425-B021-4F3A-A953-D34B7F0A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F77-413F-4B60-AB6C-15B6A2D7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633-D353-400B-B252-CE95071E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DEB-2DB4-4C8A-ABC5-C9ADE7D8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79CC-1F41-4145-A631-249CEB7BF9A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2E12-BEAC-4250-BCAB-14FCA03FB60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oples.ru/sport/hockey/a_ovechkin/ovechkin-11272006210952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ea.ru/pictures/US-Bobsled-team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spurtup.com/imgp/view/991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565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Comic Sans MS"/>
              </a:rPr>
              <a:t>Зимние Олимпийские виды спор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7" name="Picture 3" descr="Клип"/>
          <p:cNvPicPr/>
          <p:nvPr/>
        </p:nvPicPr>
        <p:blipFill>
          <a:blip r:embed="rId1"/>
          <a:stretch/>
        </p:blipFill>
        <p:spPr>
          <a:xfrm>
            <a:off x="5448240" y="0"/>
            <a:ext cx="3695760" cy="2604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Картинка 122 из 398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213000"/>
            <a:ext cx="2979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ahoma"/>
              </a:rPr>
              <a:t>Прыжки на лыжах с трамплин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3454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лыжник или птица? Как он только не боит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высоты такой лететь, даже страшно нам смотре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уки вытянув, с наклоном , он летит над снежным склон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пути его воздушном лыжи так ему послуш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 пора и приземляться, начинает он снижать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летел он дальше всех – значит ждет его успех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5"/>
          <p:cNvPicPr/>
          <p:nvPr/>
        </p:nvPicPr>
        <p:blipFill>
          <a:blip r:embed="rId1"/>
          <a:stretch/>
        </p:blipFill>
        <p:spPr>
          <a:xfrm>
            <a:off x="0" y="3693960"/>
            <a:ext cx="421164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Горнолыжный спорт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5784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м, где склоны ниже крыш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не встретим горных лыж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лько там, где высота, высота и красот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рнолыжников найде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ними трассу мы пройд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т ворота, вот другие, и кругом флажки цвет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 нельзя их задевать, баллы чтоб не потеря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хрем мы несемся вниз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внизу нас ждет сюрприз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лем, перчатки мы снимаем и медали получаем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9"/>
          <p:cNvPicPr/>
          <p:nvPr/>
        </p:nvPicPr>
        <p:blipFill>
          <a:blip r:embed="rId1"/>
          <a:stretch/>
        </p:blipFill>
        <p:spPr>
          <a:xfrm>
            <a:off x="6502320" y="48769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597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Лыжное двоеборь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воеборье -  спорт отважный, тут не надо спорить даж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начала непременно смело прыгают спортсме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высоченного трамплина – это здесь необходм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потом их гонка ждет. Тут не скажешь наперед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победы что важнее, первым кто прийти суме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ыгуны и бегуны, двоеборцы все сильны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5"/>
          <p:cNvPicPr/>
          <p:nvPr/>
        </p:nvPicPr>
        <p:blipFill>
          <a:blip r:embed="rId1"/>
          <a:stretch/>
        </p:blipFill>
        <p:spPr>
          <a:xfrm>
            <a:off x="5724360" y="4289400"/>
            <a:ext cx="3419640" cy="2568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00046469"/>
          <p:cNvPicPr/>
          <p:nvPr/>
        </p:nvPicPr>
        <p:blipFill>
          <a:blip r:embed="rId2"/>
          <a:stretch/>
        </p:blipFill>
        <p:spPr>
          <a:xfrm>
            <a:off x="0" y="4290840"/>
            <a:ext cx="3851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Фристайл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66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ристайл – красивое название, почти фигурное кат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е здесь мы видим трюки, на лыжах всяческие шту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повороты и вращение – все вызывает восхищ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нцует лыжник, как в балет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точные движенья эти  хотели б тоже повторит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ристайл невозможно не полюбить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32cf35a1c6ac1f2864f0737fd92cdcdd"/>
          <p:cNvPicPr/>
          <p:nvPr/>
        </p:nvPicPr>
        <p:blipFill>
          <a:blip r:embed="rId1"/>
          <a:stretch/>
        </p:blipFill>
        <p:spPr>
          <a:xfrm>
            <a:off x="0" y="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00046478"/>
          <p:cNvPicPr/>
          <p:nvPr/>
        </p:nvPicPr>
        <p:blipFill>
          <a:blip r:embed="rId2"/>
          <a:stretch/>
        </p:blipFill>
        <p:spPr>
          <a:xfrm>
            <a:off x="5940360" y="3068640"/>
            <a:ext cx="32036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Сноубординг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95280" y="4005360"/>
            <a:ext cx="694836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 вижу гору, На ней снег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на снегу том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ним доска, Словно паркет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освещает его св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озно, тихо и свежо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водит время хорош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е сальто вытворяет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юдей вокруг всех собир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50767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Биатло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55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е пловцом, не футболистом –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ать хочу биатлонистом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н и лыжник и стрелок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то еще вот так бы смо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Быстро по лыжне бежать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А потом еще стреля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оркий взгляд, рука тверда –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Если это есть ,тог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Точно в цель он попадет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вым к финишу придет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object_83"/>
          <p:cNvPicPr/>
          <p:nvPr/>
        </p:nvPicPr>
        <p:blipFill>
          <a:blip r:embed="rId1"/>
          <a:stretch/>
        </p:blipFill>
        <p:spPr>
          <a:xfrm>
            <a:off x="5435640" y="4129200"/>
            <a:ext cx="3708360" cy="2728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КаТя ЮрьеВа(4)"/>
          <p:cNvPicPr/>
          <p:nvPr/>
        </p:nvPicPr>
        <p:blipFill>
          <a:blip r:embed="rId2"/>
          <a:stretch/>
        </p:blipFill>
        <p:spPr>
          <a:xfrm>
            <a:off x="0" y="0"/>
            <a:ext cx="4859280" cy="2986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5724360" y="1413000"/>
            <a:ext cx="34196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Санные виды спорт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93" name="Diagram 7"/>
          <p:cNvGrpSpPr/>
          <p:nvPr/>
        </p:nvGrpSpPr>
        <p:grpSpPr>
          <a:xfrm>
            <a:off x="2421000" y="1611360"/>
            <a:ext cx="4764240" cy="4764240"/>
            <a:chOff x="2421000" y="1611360"/>
            <a:chExt cx="4764240" cy="4764240"/>
          </a:xfrm>
        </p:grpSpPr>
        <p:sp>
          <p:nvSpPr>
            <p:cNvPr id="194" name="_s3076"/>
            <p:cNvSpPr/>
            <p:nvPr/>
          </p:nvSpPr>
          <p:spPr>
            <a:xfrm>
              <a:off x="3059280" y="2249640"/>
              <a:ext cx="3487680" cy="34876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_s3077"/>
            <p:cNvSpPr/>
            <p:nvPr/>
          </p:nvSpPr>
          <p:spPr>
            <a:xfrm rot="7200000">
              <a:off x="3058920" y="2249640"/>
              <a:ext cx="3487680" cy="34876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_s3078"/>
            <p:cNvSpPr/>
            <p:nvPr/>
          </p:nvSpPr>
          <p:spPr>
            <a:xfrm rot="14400000">
              <a:off x="3059280" y="2249280"/>
              <a:ext cx="3487680" cy="34876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_s3079"/>
            <p:cNvSpPr/>
            <p:nvPr/>
          </p:nvSpPr>
          <p:spPr>
            <a:xfrm>
              <a:off x="3013200" y="2735280"/>
              <a:ext cx="106344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Бобслей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_s3080"/>
            <p:cNvSpPr/>
            <p:nvPr/>
          </p:nvSpPr>
          <p:spPr>
            <a:xfrm>
              <a:off x="4270320" y="4911840"/>
              <a:ext cx="106380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Санный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спорт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_s3081"/>
            <p:cNvSpPr/>
            <p:nvPr/>
          </p:nvSpPr>
          <p:spPr>
            <a:xfrm>
              <a:off x="5527800" y="2733840"/>
              <a:ext cx="106344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Скелетон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Санный спорт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33280" y="1988640"/>
            <a:ext cx="745308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десь по трасса специальной, ледяной, будто хрустальн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о дну, и гладким стенам мчатся сани со спортсмен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лько вот что странно мне: ехать надо на сп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неудобно вроде, но спортсмен легко проход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орот за поворо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х тяжелая работа  управлять санями леж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т бы мне так съехать тож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7238880" y="4114800"/>
            <a:ext cx="1905120" cy="2743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Скелето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72784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елетон – особый спорт, трудно здесь побить рекор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лько сильный, только смел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ассу всю пройдет умел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ловою вниз промчаться и совсем не испугаться 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ужно мужество большое, скелетон он для геро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522600" cy="2349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1760400" y="4476600"/>
            <a:ext cx="71326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Бобсле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2560" y="227664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инный желоб с виражами – бобслеисты перед н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такого не видали: боб послушный оседлал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четвером или вдвоем, ловко разместились в н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на скорости рулят, там где надо тормозя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за бобом все следим, не угонишься за ни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мелькнул он как ракета, хороша картина эт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4" descr="Картинка 14 из 15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146480"/>
            <a:ext cx="8497800" cy="2711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Картинка 10 из 15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0"/>
            <a:ext cx="5003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17"/>
          <p:cNvGrpSpPr/>
          <p:nvPr/>
        </p:nvGrpSpPr>
        <p:grpSpPr>
          <a:xfrm>
            <a:off x="108000" y="1876320"/>
            <a:ext cx="9143640" cy="2004840"/>
            <a:chOff x="108000" y="1876320"/>
            <a:chExt cx="9143640" cy="200484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 rot="16200000">
              <a:off x="6383880" y="1034280"/>
              <a:ext cx="279720" cy="36885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2" idx="2"/>
            </p:cNvCxnSpPr>
            <p:nvPr/>
          </p:nvCxnSpPr>
          <p:spPr>
            <a:xfrm flipV="1" rot="16200000">
              <a:off x="5462280" y="1955880"/>
              <a:ext cx="279720" cy="18453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030"/>
            <p:cNvCxnSpPr>
              <a:stCxn id="126" idx="0"/>
              <a:endCxn id="122" idx="2"/>
            </p:cNvCxnSpPr>
            <p:nvPr/>
          </p:nvCxnSpPr>
          <p:spPr>
            <a:xfrm flipV="1">
              <a:off x="4679640" y="2738880"/>
              <a:ext cx="1080" cy="279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031"/>
            <p:cNvCxnSpPr>
              <a:stCxn id="128" idx="0"/>
              <a:endCxn id="122" idx="2"/>
            </p:cNvCxnSpPr>
            <p:nvPr/>
          </p:nvCxnSpPr>
          <p:spPr>
            <a:xfrm flipH="1" flipV="1" rot="5400000">
              <a:off x="3618720" y="1956960"/>
              <a:ext cx="279720" cy="18435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032"/>
            <p:cNvCxnSpPr>
              <a:stCxn id="130" idx="0"/>
              <a:endCxn id="122" idx="2"/>
            </p:cNvCxnSpPr>
            <p:nvPr/>
          </p:nvCxnSpPr>
          <p:spPr>
            <a:xfrm flipH="1" flipV="1" rot="5400000">
              <a:off x="2696760" y="1035360"/>
              <a:ext cx="279720" cy="36867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2" name="_s1033"/>
            <p:cNvSpPr/>
            <p:nvPr/>
          </p:nvSpPr>
          <p:spPr>
            <a:xfrm>
              <a:off x="2775240" y="1876320"/>
              <a:ext cx="3809880" cy="8629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ff00"/>
                  </a:solidFill>
                  <a:latin typeface="Times New Roman"/>
                </a:rPr>
                <a:t>Ледовые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ff00"/>
                  </a:solidFill>
                  <a:latin typeface="Times New Roman"/>
                </a:rPr>
                <a:t>виды спорта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_s1034"/>
            <p:cNvSpPr/>
            <p:nvPr/>
          </p:nvSpPr>
          <p:spPr>
            <a:xfrm>
              <a:off x="108000" y="3018600"/>
              <a:ext cx="177048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99"/>
                  </a:solidFill>
                  <a:latin typeface="Times New Roman"/>
                </a:rPr>
                <a:t>Скоростной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99"/>
                  </a:solidFill>
                  <a:latin typeface="Times New Roman"/>
                </a:rPr>
                <a:t>бег на коньках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_s1035"/>
            <p:cNvSpPr/>
            <p:nvPr/>
          </p:nvSpPr>
          <p:spPr>
            <a:xfrm>
              <a:off x="1951200" y="3018600"/>
              <a:ext cx="177012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Шорт-трек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_s1036"/>
            <p:cNvSpPr/>
            <p:nvPr/>
          </p:nvSpPr>
          <p:spPr>
            <a:xfrm>
              <a:off x="3794760" y="3018600"/>
              <a:ext cx="177012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Фигурное</a:t>
              </a: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катание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1037"/>
            <p:cNvSpPr/>
            <p:nvPr/>
          </p:nvSpPr>
          <p:spPr>
            <a:xfrm>
              <a:off x="5637960" y="3018600"/>
              <a:ext cx="177048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Керлинг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_s1038"/>
            <p:cNvSpPr/>
            <p:nvPr/>
          </p:nvSpPr>
          <p:spPr>
            <a:xfrm>
              <a:off x="7481520" y="3018600"/>
              <a:ext cx="177012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Хоккей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Скоростной бег на коньках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ледовый стадион  с разных все спешат стор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пришли сюда не даром – конькобежцев быстрых па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чинают состязанье, в скорости сорвновань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рт за стартом по порядку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т они в костюмах гладких, руки заложив за спин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уг опять проходят длинный. Пробегут совсем немнож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меняются дорожкой, даже не замедлив ход,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х победный финиш жд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1" descr="8"/>
          <p:cNvPicPr/>
          <p:nvPr/>
        </p:nvPicPr>
        <p:blipFill>
          <a:blip r:embed="rId1"/>
          <a:stretch/>
        </p:blipFill>
        <p:spPr>
          <a:xfrm>
            <a:off x="1042920" y="3906720"/>
            <a:ext cx="8101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5640" y="-387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Шорт-трек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920" y="620640"/>
            <a:ext cx="727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 сегодня на шорт-тре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ной по кругу бег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правляемся с тоб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т спорт – он не прост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чень острые коньки, скорости здесь велик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соперников хватает,  кто-то даже и толк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лем наденем и перчатки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удет все тогда  в поряд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кому нас не догнать, будем первыми опя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7"/>
          <p:cNvPicPr/>
          <p:nvPr/>
        </p:nvPicPr>
        <p:blipFill>
          <a:blip r:embed="rId1"/>
          <a:stretch/>
        </p:blipFill>
        <p:spPr>
          <a:xfrm>
            <a:off x="2700360" y="4506840"/>
            <a:ext cx="64436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-387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Фигурное катани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981000"/>
            <a:ext cx="5329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мотрите, фигуристка выступает, как артист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й не страшен скользкий лед, ни за что не упад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льс  станцует или польку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лементов разных сталь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танце нам она покажет, удивляемся мы даж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молкла музыка, спортсме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дет теперь своей оценки. Судьи выставляют бал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дьи выставляют баллы, получилось их не ма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свиданья, лед прозрачны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нец очень был удачный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фигкатание"/>
          <p:cNvPicPr/>
          <p:nvPr/>
        </p:nvPicPr>
        <p:blipFill>
          <a:blip r:embed="rId1"/>
          <a:stretch/>
        </p:blipFill>
        <p:spPr>
          <a:xfrm>
            <a:off x="6400800" y="27432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Кёрлинг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2741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ерлинг нам смотреть пора, вот забавная игр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мень  здесь по льду скользит, впереди спортсмен бежи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щательно , не как-нибудь, расчищает камню пу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Щетка лишь в руках мелькает – ведь задача не проста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мень точно в цель загнать. Так давайте помогать: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ужно щетками помаш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помощь олимпийцам нашим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00046524"/>
          <p:cNvPicPr/>
          <p:nvPr/>
        </p:nvPicPr>
        <p:blipFill>
          <a:blip r:embed="rId1"/>
          <a:stretch/>
        </p:blipFill>
        <p:spPr>
          <a:xfrm>
            <a:off x="6667560" y="0"/>
            <a:ext cx="2476440" cy="198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00046525"/>
          <p:cNvPicPr/>
          <p:nvPr/>
        </p:nvPicPr>
        <p:blipFill>
          <a:blip r:embed="rId2"/>
          <a:stretch/>
        </p:blipFill>
        <p:spPr>
          <a:xfrm>
            <a:off x="0" y="4076640"/>
            <a:ext cx="6443640" cy="27813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>
            <a:off x="9453600" y="82440"/>
            <a:ext cx="2286000" cy="65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ёрлинг - спортивная игра, в которой противоборствующие команды, по 4 человека в каждой, стремятся попасть пущенной битой (камень), диск с рукояткой массой 20 кг и размером 30 х 40 см, в вычерченную на льду мишень. Линия броска биты находится на расстоянии около 31 м от мишен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ь игры - попасть битой в мишень, вытолкнув из нее биту соперн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ёрлинг включен в программу XVIII зимних Олимпийски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Хокке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 любой мальчишка скаж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оть совсем малыш он даж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любимая игр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него зимою -  клюш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айбу он по льду гоня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, конечно же мечт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же хоккеистом стать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учиться побежд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6" descr="00046696"/>
          <p:cNvPicPr/>
          <p:nvPr/>
        </p:nvPicPr>
        <p:blipFill>
          <a:blip r:embed="rId1"/>
          <a:stretch/>
        </p:blipFill>
        <p:spPr>
          <a:xfrm>
            <a:off x="3686040" y="2565360"/>
            <a:ext cx="5457960" cy="429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00046702"/>
          <p:cNvPicPr/>
          <p:nvPr/>
        </p:nvPicPr>
        <p:blipFill>
          <a:blip r:embed="rId2"/>
          <a:stretch/>
        </p:blipFill>
        <p:spPr>
          <a:xfrm>
            <a:off x="0" y="4481640"/>
            <a:ext cx="3564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Diagram 7"/>
          <p:cNvGrpSpPr/>
          <p:nvPr/>
        </p:nvGrpSpPr>
        <p:grpSpPr>
          <a:xfrm>
            <a:off x="2363040" y="1114560"/>
            <a:ext cx="5012280" cy="4919400"/>
            <a:chOff x="2363040" y="1114560"/>
            <a:chExt cx="5012280" cy="4919400"/>
          </a:xfrm>
        </p:grpSpPr>
        <p:sp>
          <p:nvSpPr>
            <p:cNvPr id="150" name="_s2052"/>
            <p:cNvSpPr/>
            <p:nvPr/>
          </p:nvSpPr>
          <p:spPr>
            <a:xfrm flipH="1" flipV="1">
              <a:off x="3870360" y="2871360"/>
              <a:ext cx="501120" cy="402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_s2053"/>
            <p:cNvSpPr/>
            <p:nvPr/>
          </p:nvSpPr>
          <p:spPr>
            <a:xfrm>
              <a:off x="2731320" y="18378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Биатло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_s2054"/>
            <p:cNvSpPr/>
            <p:nvPr/>
          </p:nvSpPr>
          <p:spPr>
            <a:xfrm flipH="1">
              <a:off x="3622680" y="3810240"/>
              <a:ext cx="626400" cy="13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_s2055"/>
            <p:cNvSpPr/>
            <p:nvPr/>
          </p:nvSpPr>
          <p:spPr>
            <a:xfrm>
              <a:off x="2363040" y="345888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Сноубордин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_s2056"/>
            <p:cNvSpPr/>
            <p:nvPr/>
          </p:nvSpPr>
          <p:spPr>
            <a:xfrm flipH="1">
              <a:off x="4311360" y="4240800"/>
              <a:ext cx="279720" cy="57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_s2057"/>
            <p:cNvSpPr/>
            <p:nvPr/>
          </p:nvSpPr>
          <p:spPr>
            <a:xfrm>
              <a:off x="3400560" y="47574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Фристай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_s2058"/>
            <p:cNvSpPr/>
            <p:nvPr/>
          </p:nvSpPr>
          <p:spPr>
            <a:xfrm>
              <a:off x="5142960" y="4240800"/>
              <a:ext cx="277560" cy="57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_s2059"/>
            <p:cNvSpPr/>
            <p:nvPr/>
          </p:nvSpPr>
          <p:spPr>
            <a:xfrm>
              <a:off x="5063400" y="47574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Лыжно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двоеборь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_s2060"/>
            <p:cNvSpPr/>
            <p:nvPr/>
          </p:nvSpPr>
          <p:spPr>
            <a:xfrm>
              <a:off x="5487120" y="3810240"/>
              <a:ext cx="626760" cy="144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_s2061"/>
            <p:cNvSpPr/>
            <p:nvPr/>
          </p:nvSpPr>
          <p:spPr>
            <a:xfrm>
              <a:off x="6098760" y="345672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Горнолыжны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спор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_s2062"/>
            <p:cNvSpPr/>
            <p:nvPr/>
          </p:nvSpPr>
          <p:spPr>
            <a:xfrm flipV="1">
              <a:off x="5364360" y="2871360"/>
              <a:ext cx="503640" cy="400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_s2063"/>
            <p:cNvSpPr/>
            <p:nvPr/>
          </p:nvSpPr>
          <p:spPr>
            <a:xfrm>
              <a:off x="5728320" y="183564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Прыжк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на лыжа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с трампли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_s2064"/>
            <p:cNvSpPr/>
            <p:nvPr/>
          </p:nvSpPr>
          <p:spPr>
            <a:xfrm flipV="1">
              <a:off x="4866840" y="2388960"/>
              <a:ext cx="0" cy="643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_s2065"/>
            <p:cNvSpPr/>
            <p:nvPr/>
          </p:nvSpPr>
          <p:spPr>
            <a:xfrm>
              <a:off x="4229640" y="111456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Лыжные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гонк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_s2066"/>
            <p:cNvSpPr/>
            <p:nvPr/>
          </p:nvSpPr>
          <p:spPr>
            <a:xfrm>
              <a:off x="4229640" y="30330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</a:rPr>
                <a:t>Лыжны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</a:rPr>
                <a:t>спор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Лыжные гонк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10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лнечным морозным днем в лес скорее мы пойд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танем где-нибудь в сторонке, лыжные посмотрим гон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ки, спуски и подъемы – здесь дистанцией знаком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ыжники спешат вперед, на секунды счет ид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0" descr="2749-500-330"/>
          <p:cNvPicPr/>
          <p:nvPr/>
        </p:nvPicPr>
        <p:blipFill>
          <a:blip r:embed="rId1"/>
          <a:stretch/>
        </p:blipFill>
        <p:spPr>
          <a:xfrm>
            <a:off x="1332000" y="3897360"/>
            <a:ext cx="6553080" cy="2954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00046469"/>
          <p:cNvPicPr/>
          <p:nvPr/>
        </p:nvPicPr>
        <p:blipFill>
          <a:blip r:embed="rId2"/>
          <a:stretch/>
        </p:blipFill>
        <p:spPr>
          <a:xfrm>
            <a:off x="0" y="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41:17Z</dcterms:created>
  <dc:creator>user</dc:creator>
  <dc:description/>
  <dc:language>en-US</dc:language>
  <cp:lastModifiedBy>Булатова Ольга</cp:lastModifiedBy>
  <dcterms:modified xsi:type="dcterms:W3CDTF">2014-02-02T10:08:53Z</dcterms:modified>
  <cp:revision>27</cp:revision>
  <dc:subject/>
  <dc:title>Слайд 1</dc:title>
</cp:coreProperties>
</file>