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1D3-CDA6-4E36-AE40-D34146F3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582-AC0D-4CB2-B083-7BB387AF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3F2-8A52-4B06-A599-717D417E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AEF-8B87-46E9-87FA-27C9E38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07C-5A3D-4769-8A6E-6ACE3B2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BA3-1ECD-4220-AD5D-7F0C1C9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4E1-AD13-4718-B096-45521EA7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DE1-D245-4C0D-BDF1-93B4490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885-F1B9-483E-AE1E-2304FE59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18F-F0D3-4F52-85B9-1E9A73EB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5DD-B54A-4729-B94D-7190F70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9C8-20FD-47B4-AC17-96FC3D7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4C6-B9A7-4006-B67A-51946A59A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243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Monotype Corsiva"/>
              </a:rPr>
              <a:t>Содержание, структура, средства логорит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1680" y="3642840"/>
            <a:ext cx="726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Monotype Corsiva"/>
              </a:rPr>
              <a:t>Логоритмические занятия в системе коррекцион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3"/>
          <p:cNvSpPr/>
          <p:nvPr/>
        </p:nvSpPr>
        <p:spPr>
          <a:xfrm>
            <a:off x="900000" y="3622680"/>
            <a:ext cx="7120080" cy="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24000" y="404640"/>
            <a:ext cx="84834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ОСИБИРСКИЙ ГОСУДАРСТВЕННЫЙ ПЕДАГОГИЧЕСКИЙ УНИВЕРСИТ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ДЕТ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ЛОГОПЕДИИ И ДЕТСКОЙ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276720" y="5079960"/>
            <a:ext cx="5256000" cy="15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студент группы: 3.080.1.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Ю. Тороп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бучения: за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Логорит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стема музыкально-двигательных, музыкально-речевых игр и упражн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огоритмических занятиях музыка не просто сопровождает движения, а является их организующим нача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2124000" y="3882960"/>
            <a:ext cx="446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Содержание занятий по логорит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200" y="907560"/>
            <a:ext cx="9285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ое занятие включает следующие виды упражнен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ходьба и ориентирование в пространстве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е упражнения на регуляцию мышечного тонус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ые упражнения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педические и оздоровительные упражнения для горл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азвитие внимания и памят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говорк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игры и ритмические игры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е песен и вокализов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 и сказк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ое музицирование на детских музыкальных инструментах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ые этюды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игры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, хороводы, физкультминутки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ÐÐ°ÑÑÐ¸Ð½ÐºÐ¸ Ð¿Ð¾ Ð·Ð°Ð¿ÑÐ¾ÑÑ Ð»Ð¾Ð³Ð¾ÑÐ¸ÑÐ¼Ð¸ÐºÐ°"/>
          <p:cNvPicPr/>
          <p:nvPr/>
        </p:nvPicPr>
        <p:blipFill>
          <a:blip r:embed="rId1"/>
          <a:stretch/>
        </p:blipFill>
        <p:spPr>
          <a:xfrm>
            <a:off x="6227640" y="2981160"/>
            <a:ext cx="27576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84807"/>
                </a:solidFill>
                <a:latin typeface="Monotype Corsiva"/>
              </a:rPr>
              <a:t>Структура логоритмического занят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водная часть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тмическая разми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часть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на регуляцию мышечного тонуса; упражнения на развитие общей моторики; упражнения на развитие мелкой моторики (пальчиковая гимнастика); упражнения на развитие  мимических мышц; упражнения на развитие дыхания; упражнения на развитие  чувства темпа и ритма; упражнения на развитие координации речи с  движением; п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лючительная часть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; релаксац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ÐÐ°ÑÑÐ¸Ð½ÐºÐ¸ Ð¿Ð¾ Ð·Ð°Ð¿ÑÐ¾ÑÑ Ð»Ð¾Ð³Ð¾ÑÐ¸ÑÐ¼Ð¸ÐºÐ°"/>
          <p:cNvPicPr/>
          <p:nvPr/>
        </p:nvPicPr>
        <p:blipFill>
          <a:blip r:embed="rId1"/>
          <a:stretch/>
        </p:blipFill>
        <p:spPr>
          <a:xfrm>
            <a:off x="5003640" y="5373720"/>
            <a:ext cx="313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4807"/>
                </a:solidFill>
                <a:latin typeface="Monotype Corsiva"/>
              </a:rPr>
              <a:t>Средства логорит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39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дьба и маршировка в различных направления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на развитие дыхания, голоса и артикуля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, регулирующие мышечный тонус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, активизирующие внима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чевые упражнения без музыкального сопровож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для развития музыкального слух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тмические упражн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в игре на инструмента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провизация на детских музыкальных инструментах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ая деятельнос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творческой инициатив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лючительные упражнения на расслабление (релаксац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7496280" y="3614760"/>
            <a:ext cx="164124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84807"/>
                </a:solidFill>
                <a:latin typeface="Monotype Corsiva"/>
              </a:rPr>
              <a:t>Логоритмические занятия в системе коррекцион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50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итмика является составной частью коррекционно воздействия по преодолению нарушений речи, где музыка выступает, как эффективное средство логоритмического воздейств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логоритмических занятий с дошкольниками, имеющими общее речевое недоразвитие тесно взаимосвязано с изучаемой лексической темой, а также задачами логопедической работы с дошкольниками. Логоритмика, прежде всего, представляет собой комплексную методику, включающую средства логопедического, музыкально-ритмического и физического воспит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ÐÐ°ÑÑÐ¸Ð½ÐºÐ¸ Ð¿Ð¾ Ð·Ð°Ð¿ÑÐ¾ÑÑ Ð»Ð¾Ð³Ð¾ÑÐ¸ÑÐ¼Ð¸ÐºÐ°"/>
          <p:cNvPicPr/>
          <p:nvPr/>
        </p:nvPicPr>
        <p:blipFill>
          <a:blip r:embed="rId1"/>
          <a:stretch/>
        </p:blipFill>
        <p:spPr>
          <a:xfrm>
            <a:off x="7224840" y="5157720"/>
            <a:ext cx="1474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4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огоритмических занятий в процессе коррекционного воздействия должно, с одной стороны, исправить нарушенные функции,  с другой - развить функциональные системы ребенка: дыхание, голосовую, артикуляционный аппарат, слуховое и зрительное внимание, слуховую и зрительную память, произвольное внимание в целом, процессы запоминания и воспроизведения речевого и двигательного материала - развивать речевую функциональную систему и психические процессы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ÐÐ¾ÑÐ¾Ð¶ÐµÐµ Ð¸Ð·Ð¾Ð±ÑÐ°Ð¶ÐµÐ½Ð¸Ðµ"/>
          <p:cNvPicPr/>
          <p:nvPr/>
        </p:nvPicPr>
        <p:blipFill>
          <a:blip r:embed="rId1"/>
          <a:srcRect l="9908" t="9907" r="5872" b="4220"/>
          <a:stretch/>
        </p:blipFill>
        <p:spPr>
          <a:xfrm>
            <a:off x="2484360" y="4581360"/>
            <a:ext cx="3672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е воздействие осуществляется как с учётом двигательных и акустических возможностей детей с нарушениями речи, так и при целенаправленном подборе речевого материала для логоритмических или музыкально-ритмических занят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логоритмических занятий с данной категорией детей дошкольного возраста лучше всего включать такие двигательно-речевые средств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пражнения на развитие фонационного дыхания; упражнения на развитие голос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и и дикции; упражнения на развитие координации движений и реч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е; упражнения на развитие мелкой и общей моторики; речевые упраж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ivashkova.dasha@mail.ru</cp:lastModifiedBy>
  <dcterms:modified xsi:type="dcterms:W3CDTF">2019-02-04T04:31:30Z</dcterms:modified>
  <cp:revision>36</cp:revision>
  <dc:subject/>
  <dc:title>Шаблон презентации</dc:title>
</cp:coreProperties>
</file>