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7.jpeg" ContentType="image/jpeg"/>
  <Override PartName="/ppt/media/image20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D42-34F3-4D6E-980A-832F79B7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B02-FCF9-4BA7-91A2-FDD070E1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7748F-A622-4DB9-BBFF-4C65212E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D6D45-9BA4-4E35-AB06-0C725F6A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D6FCE-FD88-4DCE-9C8A-F596DA0E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7E50D-AEEA-4804-94F8-04864BEF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9754D-F1FF-4A55-9FD0-E306C57C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2C846-8EF0-4BA8-A2AB-57C83556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2EFA1-1C79-4B25-9334-320DA4EB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4B596-A666-4E7F-B5A2-FCF83F84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E037B-88B9-4377-BF65-0E276F93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17F-29DE-4E86-BBFE-309A9067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C7B0-F7C1-4315-97D3-47F0FB99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5D63-6890-4345-827C-AB7D8A73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1C1A-82C3-4B2A-8BB0-128DEFB1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170A-2ED5-415F-96DE-E86DEE2C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3045-6655-4326-87E5-55FD84D7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A98E-125C-4857-8A1A-46202C58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BFFE-D995-4B6D-86A6-022B9788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8008-1FCA-4DCF-A4DB-91DBE968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AEA-21D5-4EE0-8F91-6850B3D2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8775-563C-4A96-BEA9-EC8419DF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46FC-2755-4FD0-99D4-1152A7D4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0673-298C-4463-9D23-1D681A7E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0BCF-F654-48AD-B2DE-ADFAC210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B895-A560-479A-BB10-DE6E8A20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49D71-DD28-48A9-ACEC-321A6AAD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AB0AA-D22C-4288-84EF-926187D8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B88A-6B1A-48D5-A066-A37C47CE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50529-6294-432B-BB01-460B3F0D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A459C-1AC7-4CEC-A28A-F299F689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7C3-A6BB-4F98-9BC4-FC15304A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6184-75BA-4E4B-8277-77670CF8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71A86-56F6-4BF9-85DA-950D3909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7011E-46C6-429A-ABD8-2924ED36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DE9A1-80BA-4B62-9B1F-5ED2505B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1AA0C-B495-4234-B329-E34694C5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1100-BDBC-4AEE-826C-A4E98E44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819A1-4376-4E0C-ACDA-4F8C24E2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86DF-AD6C-4ECD-A074-6A94C233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AF0A7-2282-4119-AC79-9FCD55B7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DA4AF-FED6-4040-9732-FFF5CAAB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1F1-E748-4F92-810E-E960520F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3302D-FC64-459E-BA8B-AF734102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03DB5-A948-43BF-A1B0-827CEEAE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DE83F-4A7A-4270-8273-CD85BCD2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9B2A8-A755-48CB-BACA-B3839B32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52AB9-245C-4C38-BE7C-EBFC1AD8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38C62-3CCE-4152-B3D8-BB0E361C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30206-1B1D-4117-B11D-D9B1D79A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9D8D4-D919-4578-BBD1-A6A51990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F24E1-8EFA-46AE-AD99-7622EB23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80133-72BA-450C-97C5-61D767BB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0C6-877A-4500-BF1C-9D031D0E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DCD9D-CC4D-42A4-A0A8-0D8E1144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57550-94A0-4E41-9724-3A852EB9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DB505-E6BC-4DD9-BA28-20A4B81B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BA663-05A1-4F01-866A-7301F4A8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787F7-6E55-42FB-B6CA-7E5C0CC3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F1A21-CB2D-454B-AE84-ACA9BE51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37C0A-B2AC-43FE-A4AD-BE36CA07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507C6-1DB8-41C0-B690-D41739EE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42F55-7486-43AA-AFB4-E91B797F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710C7-9263-4E5E-9185-D8F52B5F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AD4-ED46-473A-B686-6E4B7C2D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8D9BC-9BEB-455C-99B0-D18D3B0B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8A659-7F27-412E-B8FC-B8D7E7D6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9B304-C820-4998-9D05-D35A1E23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CE11C-621B-435A-B0E8-59F32166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7DD51-45F5-4E16-B209-6407EE35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28892-1A8F-4B05-B3F8-615853A3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4CE1D-EFE3-4118-86B4-D680210F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BD481-77D7-48B8-8FED-010D7CE2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FB9FD-C708-4C8A-A6EC-1D33BA17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85F6F-00BE-42B5-A4BC-9E027A90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8D5-FA30-4012-8C3E-5C50C15A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37DBC-188D-4A64-92CD-F1909DCB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A43FF-CE73-47FB-87D9-B189F43F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1D40E-15BD-4FF9-A83C-EB8A651A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D24B0-AD07-406E-A08F-2EE70317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7138D-0751-473B-8FA7-057B07D6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493EB-C1D6-47D5-BAE0-C1CD58A4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319A1-681E-4DFA-B3A8-C32B022B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7662F-A181-4128-8064-CE0C9A9D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41BFD-D8BA-4576-8064-4748C02A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ED39F-3C15-4457-916D-4ADC6E7C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60D-AE75-483C-A9D6-14FD4B63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45D20-4B67-4560-89F5-44EDA238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D082C-4B2D-4D8B-B7E3-39A8F7D7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47A92-A871-4B85-9718-860FDFBD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04C6D-7F6A-4DB5-9E2F-CE38E9F2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D06A4-CB90-4723-A75E-7A439C4E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8B46F-9233-4D1F-A9A2-92467ABB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AB1A5-625A-42B6-893A-3CB19ABC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8B3DC-F6D8-4CAA-B7D5-79F8A03A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D6610-CC5E-4564-903B-C1997F64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BD3B2-6BFF-4923-81F9-AFB89E4D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6FE-0C25-42D3-A6EA-075BF261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59840-25B6-4449-8F40-E8909537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3FDFB-5C12-494B-A1C8-FD0C1262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2582B-1C67-49E5-8B75-19EAFA16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47F3E-AA94-4DAA-A80E-3F9439D3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A4CA1-E8CC-4C12-8BA3-B842892B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E3E28-7F8C-4F6D-9BF5-4EC205E6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AADE7-667A-46D9-B59C-7B24F788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B9CA6-22BE-4BBC-A7BD-4AA0BBE1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E9F08-0217-4D49-8D63-240287E0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0F57E-7E6F-44C9-9314-E41A5ED4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E92A-89F1-40A2-8D24-01D02AD2B19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9F97-849F-4C05-B53A-43FDB99DD1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52CE-57BA-435C-8B29-B9FC455A325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29D3-2646-4CA2-A37C-71CFD6DB0A1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C193-C811-48B8-BE0D-9012A5CA70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35FC-6C19-4A74-9036-9F4E0B5CF9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08CF-A69B-4D31-9BD9-0EC8D56DFD1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848E-9A54-4744-B01F-93671E23FC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D3E4-97EA-4FCD-93F9-FB6FDB58A19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788000" y="4172040"/>
            <a:ext cx="39765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Галушкина Л.В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учитель географи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Хитровского филиал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МБОУ Верхнеспасской СОШ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571680" y="35712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ДЕНЬ РОССИЙСКОЙ НАУК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«Великие учёные Тамбовского края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5689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571320" y="571680"/>
            <a:ext cx="785484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Науки юношей питают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траду старым подают,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 счастливой жизни украшают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 несчастной случай берегут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 домашних трудностях утеха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 в дальних странствах не помех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Науки пользуют везде,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реди народов и в пустыне,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 градском шуму и наедине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 покое сладки и в труде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.В. Ломоносов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Прямоугольник 3"/>
          <p:cNvSpPr/>
          <p:nvPr/>
        </p:nvSpPr>
        <p:spPr>
          <a:xfrm>
            <a:off x="914400" y="4648320"/>
            <a:ext cx="7238880" cy="14475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262160" y="609480"/>
            <a:ext cx="7699320" cy="1524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Users\Школа\Desktop\1517991570general_pages_07_February_2018_i35016_s_dnem_rossiiskoi_nauki.jpg"/>
          <p:cNvPicPr/>
          <p:nvPr/>
        </p:nvPicPr>
        <p:blipFill>
          <a:blip r:embed="rId2"/>
          <a:stretch/>
        </p:blipFill>
        <p:spPr>
          <a:xfrm>
            <a:off x="227160" y="2060640"/>
            <a:ext cx="86659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380520" y="76464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Franklin Gothic Book"/>
              </a:rPr>
              <a:t>Цель:</a:t>
            </a:r>
            <a:r>
              <a:rPr b="0" lang="ru-RU" sz="23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Franklin Gothic Book"/>
              </a:rPr>
              <a:t>формирование представлений о знаменитых Тамбовских учёных, их открытиях и изобретениях. 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Franklin Gothic Book"/>
              </a:rPr>
              <a:t>Задачи: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ru-RU" sz="2300" spc="-1" strike="noStrike">
                <a:solidFill>
                  <a:srgbClr val="000000"/>
                </a:solidFill>
                <a:latin typeface="Franklin Gothic Book"/>
              </a:rPr>
              <a:t>развить познавательную активность учащихся;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ru-RU" sz="2300" spc="-1" strike="noStrike">
                <a:solidFill>
                  <a:srgbClr val="000000"/>
                </a:solidFill>
                <a:latin typeface="Franklin Gothic Book"/>
              </a:rPr>
              <a:t>формировать умение работать с информацией, выделять нужное, анализировать, обобщать;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ru-RU" sz="2300" spc="-1" strike="noStrike">
                <a:solidFill>
                  <a:srgbClr val="000000"/>
                </a:solidFill>
                <a:latin typeface="Franklin Gothic Book"/>
              </a:rPr>
              <a:t>воспитать чувства патриотизма, любви к Родине, к родному краю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536400" y="237960"/>
            <a:ext cx="7851960" cy="10479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33160" y="1071360"/>
            <a:ext cx="785484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февраля 1724 года (28 января по старому стилю) Петр I подписал указ об образовании Российской академии наук, которая первоначально называлась Академией наук и художеств. В 1925 году она была переименована в Академию наук СССР, а в 1991 — в Российскую академию наук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 июня 1999 года указом президента РФ, «следуя историческим традициям и в ознаменование 275-летия со дня основания в России Академии наук» был учрежден День российской науки, который ежегодно празднуется 8 февраля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4" descr="54321"/>
          <p:cNvPicPr/>
          <p:nvPr/>
        </p:nvPicPr>
        <p:blipFill>
          <a:blip r:embed="rId2"/>
          <a:stretch/>
        </p:blipFill>
        <p:spPr>
          <a:xfrm>
            <a:off x="3643200" y="901800"/>
            <a:ext cx="1611360" cy="2286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345"/>
          <p:cNvPicPr/>
          <p:nvPr/>
        </p:nvPicPr>
        <p:blipFill>
          <a:blip r:embed="rId3"/>
          <a:stretch/>
        </p:blipFill>
        <p:spPr>
          <a:xfrm>
            <a:off x="539640" y="907920"/>
            <a:ext cx="2819520" cy="2227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123"/>
          <p:cNvPicPr/>
          <p:nvPr/>
        </p:nvPicPr>
        <p:blipFill>
          <a:blip r:embed="rId4"/>
          <a:stretch/>
        </p:blipFill>
        <p:spPr>
          <a:xfrm>
            <a:off x="5537160" y="901800"/>
            <a:ext cx="31672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530280" y="480960"/>
            <a:ext cx="7772400" cy="1165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&amp;Acy;&amp;rcy;&amp;khcy;&amp;icy;&amp;vcy; - &amp;Fcy;&amp;iecy;&amp;vcy; 2013 Academ.info - &amp;Acy;&amp;kcy;&amp;acy;&amp;dcy;&amp;iecy;&amp;mcy;&amp;icy;&amp;yacy; &amp;ncy;&amp;ocy;&amp;vcy;&amp;ocy;&amp;scy;&amp;tcy;&amp;iecy;&amp;jcy;"/>
          <p:cNvPicPr/>
          <p:nvPr/>
        </p:nvPicPr>
        <p:blipFill>
          <a:blip r:embed="rId2"/>
          <a:stretch/>
        </p:blipFill>
        <p:spPr>
          <a:xfrm>
            <a:off x="1386000" y="1650960"/>
            <a:ext cx="59720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28400" y="475920"/>
            <a:ext cx="831996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030a0"/>
                </a:solidFill>
                <a:latin typeface="Franklin Gothic Book"/>
              </a:rPr>
              <a:t>Вернадский Владимир Иванович (1863-1945). 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Franklin Gothic Book"/>
              </a:rPr>
              <a:t>Русский ученый, основатель геохимии, биогеохимии, радиогеологии. Автор трудов по философии естествознания и науковедению. Основатель и директор многих научных учреждений, лауреат Государственной премии СССР (1943), академик. В 90-е годы жил в имении недалеко от станции Вернадовка (Пичаевский район Тамбовской области), организовал помощь голодающим крестьянам в засуху 1891 г., неоднократно избирался гласным Тамбовского губернского земского собрания. Его избирали также почётным мировым судьёй. Построил школу в соседнем с Вернадовкой селе Подъём.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irc_mi" descr="http://regionlib.ru/umet/files/2013/03/d0b25.jpg"/>
          <p:cNvPicPr/>
          <p:nvPr/>
        </p:nvPicPr>
        <p:blipFill>
          <a:blip r:embed="rId1"/>
          <a:stretch/>
        </p:blipFill>
        <p:spPr>
          <a:xfrm>
            <a:off x="285840" y="3071880"/>
            <a:ext cx="2562120" cy="3416400"/>
          </a:xfrm>
          <a:prstGeom prst="rect">
            <a:avLst/>
          </a:prstGeom>
          <a:ln w="0">
            <a:noFill/>
          </a:ln>
        </p:spPr>
      </p:pic>
      <p:pic>
        <p:nvPicPr>
          <p:cNvPr id="414" name="irc_mi" descr="http://tambovarchiv.ru/wp-content/pdf-file/image/vernadskii-v-tk.png"/>
          <p:cNvPicPr/>
          <p:nvPr/>
        </p:nvPicPr>
        <p:blipFill>
          <a:blip r:embed="rId2"/>
          <a:stretch/>
        </p:blipFill>
        <p:spPr>
          <a:xfrm>
            <a:off x="3357720" y="3071880"/>
            <a:ext cx="2214360" cy="3429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D:\Галушкина Лариса Васильевна   сайт учителя географии   Социальная сеть работников образования_files\img_20190313_140039.jpg"/>
          <p:cNvPicPr/>
          <p:nvPr/>
        </p:nvPicPr>
        <p:blipFill>
          <a:blip r:embed="rId3"/>
          <a:stretch/>
        </p:blipFill>
        <p:spPr>
          <a:xfrm>
            <a:off x="5651640" y="3071880"/>
            <a:ext cx="3241440" cy="2949480"/>
          </a:xfrm>
          <a:prstGeom prst="rect">
            <a:avLst/>
          </a:prstGeom>
          <a:ln w="0">
            <a:noFill/>
          </a:ln>
        </p:spPr>
      </p:pic>
      <p:sp>
        <p:nvSpPr>
          <p:cNvPr id="416" name="TextBox 3"/>
          <p:cNvSpPr/>
          <p:nvPr/>
        </p:nvSpPr>
        <p:spPr>
          <a:xfrm>
            <a:off x="6156360" y="6021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День Российской науки в школ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C:\Users\Школа\Desktop\03_1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&quot;NANOte&amp;scy;h&quot; - &amp;fcy;&amp;ocy;&amp;tcy;&amp;ocy;, &amp;kcy;&amp;ocy;&amp;gcy;&amp;dcy;&amp;acy; &amp;scy;&amp;mcy;&amp;ocy;&amp;tcy;&amp;rcy;&amp;iecy;&amp;tcy;&amp;softcy; &amp;pcy;&amp;ocy; &amp;Tcy;&amp;Vcy; - &amp;YAcy;&amp;ncy;&amp;dcy;&amp;iecy;&amp;kcy;&amp;scy;.&amp;Tcy;&amp;iecy;&amp;lcy;&amp;iecy;&amp;pcy;&amp;rcy;&amp;ocy;&amp;gcy;&amp;rcy;&amp;acy;&amp;mcy;&amp;mcy;&amp;acy;"/>
          <p:cNvPicPr/>
          <p:nvPr/>
        </p:nvPicPr>
        <p:blipFill>
          <a:blip r:embed="rId2"/>
          <a:stretch/>
        </p:blipFill>
        <p:spPr>
          <a:xfrm>
            <a:off x="7596360" y="189000"/>
            <a:ext cx="13507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380520" y="476280"/>
            <a:ext cx="84582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dd2b1"/>
                </a:solidFill>
                <a:latin typeface="Franklin Gothic Book"/>
              </a:rPr>
              <a:t>Работы учащихся нашей школы</a:t>
            </a:r>
            <a:endParaRPr b="0" lang="en-US" sz="2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dd2b1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ddd2b1"/>
                </a:solidFill>
                <a:latin typeface="Franklin Gothic Book"/>
              </a:rPr>
              <a:t>на тему: «День Российской науки</a:t>
            </a:r>
            <a:r>
              <a:rPr b="0" lang="ru-RU" sz="2000" spc="-1" strike="noStrike">
                <a:solidFill>
                  <a:srgbClr val="ddd2b1"/>
                </a:solidFill>
                <a:latin typeface="Franklin Gothic Book"/>
              </a:rPr>
              <a:t>»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20" name="Заголовок 2" descr=""/>
          <p:cNvPicPr/>
          <p:nvPr/>
        </p:nvPicPr>
        <p:blipFill>
          <a:blip r:embed="rId1"/>
          <a:stretch/>
        </p:blipFill>
        <p:spPr>
          <a:xfrm>
            <a:off x="128520" y="2676600"/>
            <a:ext cx="87408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506520" y="609480"/>
            <a:ext cx="7948440" cy="15973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3" descr="http://www.tstu.ru/win/tambov/tambov_img/imena_img/kolmogor.jpg"/>
          <p:cNvPicPr/>
          <p:nvPr/>
        </p:nvPicPr>
        <p:blipFill>
          <a:blip r:embed="rId2"/>
          <a:stretch/>
        </p:blipFill>
        <p:spPr>
          <a:xfrm>
            <a:off x="357120" y="2143080"/>
            <a:ext cx="3000600" cy="3000600"/>
          </a:xfrm>
          <a:prstGeom prst="rect">
            <a:avLst/>
          </a:prstGeom>
          <a:ln w="0">
            <a:noFill/>
          </a:ln>
        </p:spPr>
      </p:pic>
      <p:pic>
        <p:nvPicPr>
          <p:cNvPr id="423" name="irc_mi" descr="http://www.kolmogorov.info/images/kolmogorov-ogonek.jpg"/>
          <p:cNvPicPr/>
          <p:nvPr/>
        </p:nvPicPr>
        <p:blipFill>
          <a:blip r:embed="rId3"/>
          <a:stretch/>
        </p:blipFill>
        <p:spPr>
          <a:xfrm>
            <a:off x="2643120" y="2071800"/>
            <a:ext cx="6072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16:08:32Z</dcterms:created>
  <dc:creator>ааа</dc:creator>
  <dc:description/>
  <dc:language>en-US</dc:language>
  <cp:lastModifiedBy>Школа</cp:lastModifiedBy>
  <dcterms:modified xsi:type="dcterms:W3CDTF">2020-01-10T10:02:56Z</dcterms:modified>
  <cp:revision>85</cp:revision>
  <dc:subject/>
  <dc:title>Слайд 1</dc:title>
</cp:coreProperties>
</file>