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6.gif" ContentType="image/gif"/>
  <Override PartName="/ppt/media/image36.gif" ContentType="image/gif"/>
  <Override PartName="/ppt/media/image1.jpeg" ContentType="image/jpeg"/>
  <Override PartName="/ppt/media/image22.jpeg" ContentType="image/jpeg"/>
  <Override PartName="/ppt/media/image18.jpeg" ContentType="image/jpeg"/>
  <Override PartName="/ppt/media/image8.gif" ContentType="image/gif"/>
  <Override PartName="/ppt/media/image4.jpeg" ContentType="image/jpeg"/>
  <Override PartName="/ppt/media/image32.png" ContentType="image/png"/>
  <Override PartName="/ppt/media/image2.png" ContentType="image/png"/>
  <Override PartName="/ppt/media/image26.jpeg" ContentType="image/jpeg"/>
  <Override PartName="/ppt/media/image9.gif" ContentType="image/gif"/>
  <Override PartName="/ppt/media/image11.png" ContentType="image/png"/>
  <Override PartName="/ppt/media/image25.png" ContentType="image/png"/>
  <Override PartName="/ppt/media/image19.jpeg" ContentType="image/jpeg"/>
  <Override PartName="/ppt/media/image10.gif" ContentType="image/gif"/>
  <Override PartName="/ppt/media/image13.png" ContentType="image/png"/>
  <Override PartName="/ppt/media/image30.jpeg" ContentType="image/jpeg"/>
  <Override PartName="/ppt/media/image31.png" ContentType="image/png"/>
  <Override PartName="/ppt/media/image34.png" ContentType="image/png"/>
  <Override PartName="/ppt/media/image35.gif" ContentType="image/gif"/>
  <Override PartName="/ppt/media/image14.jpeg" ContentType="image/jpeg"/>
  <Override PartName="/ppt/media/image33.png" ContentType="image/png"/>
  <Override PartName="/ppt/media/image3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20.png" ContentType="image/png"/>
  <Override PartName="/ppt/media/image2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1C3-A8D4-463A-BFD4-AE8882D6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900-721D-4D58-9AF9-C2BC6A38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0EE-3C28-4B9F-8584-979A13EC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6B0-5A48-459F-916B-77116F7A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ADA6-6114-4429-91CC-604B0DAE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25B5-BDA1-4381-81B1-AB4DFBD0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8670-8F16-4597-B358-D34F429B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0B8F-ADB4-4E64-BB06-939B4637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A3E4-8758-44D9-9F8F-28D85AB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B155-2F9A-46ED-83A3-58C4FEC0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F467-FD02-496F-8CC8-E734EF4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E06-7B8F-4EB3-82D8-2D9C9F10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50E0-D7FF-4686-9908-2042934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6224-B239-4BB0-B5FB-A7520560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0BD4-743F-4C88-AC43-CDDC782D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266D-4C73-47A0-8CDA-95B67010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2F88-7AF5-4763-AF95-F53367D3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9124-016E-4BCF-B1BD-E176CFEB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D151-17C0-4EDD-A5C6-D7CB8DCD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B110-38FC-4C1D-B5E8-3A29A313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C941-F022-46D0-86F3-088B285E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F43D-A578-4450-B24D-8B444452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0B1-8B15-4B2F-A7D0-07BB1D78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E872-3161-4240-98C8-949BCB10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2695-6AE5-4ABB-9571-D453B9D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6967-362B-4F68-8C51-4926EE0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E17E-BD68-4015-A7E3-73E7CD5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C954-CE3C-497F-8816-0510E800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FD76-92BF-4DB4-832D-51BC1650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45B2-181B-44CC-BA19-0F7664DE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4CF6-B698-40F7-A1AB-B1041836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76320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99B6-CFFE-40E2-8D03-3CA99BF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2FE93-1E42-4B92-83F6-731BCF4F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7B3-59DF-43E1-9B05-6BF92203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F36C3-453C-478F-8FCC-DD5E79C6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15E7-3BD5-453B-8073-51F65ACE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D249-C82F-425E-823B-6D1A2442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E5E4-FCF8-42A9-81C8-ABAF583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5F62-D785-457D-B2F7-D7DE6B3B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E9CA-2F1F-4EDA-AF52-D7BD50FD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45CE-FAF6-408F-AFE3-146CCDC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00C6-1882-4446-85A8-9D4D8ADE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4743-2073-4C0A-8EF1-D5513269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FD4-545C-4658-A1FE-82E29DF8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11880"/>
            <a:ext cx="8229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97A-F188-414C-AFA9-946CB838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975-462F-4F45-AC0F-5CD5C38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D0F-BD8E-47E8-A858-D8DB02FA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9EB-2F30-4809-BE8C-99507AA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300C-6CA6-4A8F-A704-3DF7D95FBA18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0CEB-16A0-4092-8F55-805D506F23F0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6172-769B-4B78-B63C-F16DE0D8DC02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C260-EE33-41F3-B3E4-814ECAF52F8F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img-fotki.yandex.ru/get/3201/helend9.b/0_20409_2ee465d8_XL" TargetMode="External"/><Relationship Id="rId3" Type="http://schemas.openxmlformats.org/officeDocument/2006/relationships/image" Target="../media/image17.png"/><Relationship Id="rId4" Type="http://schemas.openxmlformats.org/officeDocument/2006/relationships/hyperlink" Target="http://img.oboz.obozrevatel.com/files/NewsPhoto/2008/10/30/265944/126105_image_large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1" descr="vinni48[1]"/>
          <p:cNvPicPr/>
          <p:nvPr/>
        </p:nvPicPr>
        <p:blipFill>
          <a:blip r:embed="rId1"/>
          <a:stretch/>
        </p:blipFill>
        <p:spPr>
          <a:xfrm>
            <a:off x="4643280" y="3643200"/>
            <a:ext cx="2714760" cy="2602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8" descr="Keng07"/>
          <p:cNvPicPr/>
          <p:nvPr/>
        </p:nvPicPr>
        <p:blipFill>
          <a:blip r:embed="rId2"/>
          <a:stretch/>
        </p:blipFill>
        <p:spPr>
          <a:xfrm>
            <a:off x="642960" y="5000760"/>
            <a:ext cx="1643040" cy="1571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939348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939348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103765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9393480" algn="r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9393480" algn="r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9393480" algn="r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WordArt 17"/>
          <p:cNvSpPr txBox="1"/>
          <p:nvPr/>
        </p:nvSpPr>
        <p:spPr>
          <a:xfrm rot="20697000">
            <a:off x="468000" y="907560"/>
            <a:ext cx="77803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20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 are glad to see you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20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Picture 33" descr="donn15[1]"/>
          <p:cNvPicPr/>
          <p:nvPr/>
        </p:nvPicPr>
        <p:blipFill>
          <a:blip r:embed="rId3"/>
          <a:stretch/>
        </p:blipFill>
        <p:spPr>
          <a:xfrm>
            <a:off x="6715080" y="235728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6" descr="dis136"/>
          <p:cNvPicPr/>
          <p:nvPr/>
        </p:nvPicPr>
        <p:blipFill>
          <a:blip r:embed="rId4"/>
          <a:stretch/>
        </p:blipFill>
        <p:spPr>
          <a:xfrm>
            <a:off x="357120" y="428760"/>
            <a:ext cx="1857600" cy="178596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videoplayback.mp4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1000080" y="417240"/>
            <a:ext cx="728676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t the sentences in the correct order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hey buy Easter presents for their friend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he children decorate the eggs and eat hot-cross bun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The family go to church in the morning on Easter Sunday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fter church Granddad and Grandma visit their children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They have an Easter egg hun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They go egg-rolling on Easter Monday. </a:t>
            </a:r>
            <a:br>
              <a:rPr sz="1400"/>
            </a:b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Овал 2"/>
          <p:cNvSpPr/>
          <p:nvPr/>
        </p:nvSpPr>
        <p:spPr>
          <a:xfrm>
            <a:off x="3214800" y="2714760"/>
            <a:ext cx="220032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Овал 4"/>
          <p:cNvSpPr/>
          <p:nvPr/>
        </p:nvSpPr>
        <p:spPr>
          <a:xfrm>
            <a:off x="3071880" y="2786040"/>
            <a:ext cx="2643120" cy="1271520"/>
          </a:xfrm>
          <a:prstGeom prst="ellipse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A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ая соединительная линия 7"/>
          <p:cNvSpPr/>
          <p:nvPr/>
        </p:nvSpPr>
        <p:spPr>
          <a:xfrm flipV="1">
            <a:off x="4427640" y="2143080"/>
            <a:ext cx="1440" cy="571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Прямая соединительная линия 9"/>
          <p:cNvSpPr/>
          <p:nvPr/>
        </p:nvSpPr>
        <p:spPr>
          <a:xfrm flipV="1">
            <a:off x="5572080" y="2714760"/>
            <a:ext cx="57168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Прямая соединительная линия 11"/>
          <p:cNvSpPr/>
          <p:nvPr/>
        </p:nvSpPr>
        <p:spPr>
          <a:xfrm>
            <a:off x="5327640" y="3871800"/>
            <a:ext cx="673200" cy="41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Прямая соединительная линия 13"/>
          <p:cNvSpPr/>
          <p:nvPr/>
        </p:nvSpPr>
        <p:spPr>
          <a:xfrm flipH="1">
            <a:off x="3000240" y="3929040"/>
            <a:ext cx="64296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ая соединительная линия 15"/>
          <p:cNvSpPr/>
          <p:nvPr/>
        </p:nvSpPr>
        <p:spPr>
          <a:xfrm>
            <a:off x="2857680" y="2714760"/>
            <a:ext cx="601560" cy="25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Овал 16"/>
          <p:cNvSpPr/>
          <p:nvPr/>
        </p:nvSpPr>
        <p:spPr>
          <a:xfrm>
            <a:off x="3571920" y="1357200"/>
            <a:ext cx="178596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Овал 17"/>
          <p:cNvSpPr/>
          <p:nvPr/>
        </p:nvSpPr>
        <p:spPr>
          <a:xfrm>
            <a:off x="6000840" y="1928880"/>
            <a:ext cx="207144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RAD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Овал 18"/>
          <p:cNvSpPr/>
          <p:nvPr/>
        </p:nvSpPr>
        <p:spPr>
          <a:xfrm>
            <a:off x="5929200" y="3929040"/>
            <a:ext cx="178596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Овал 19"/>
          <p:cNvSpPr/>
          <p:nvPr/>
        </p:nvSpPr>
        <p:spPr>
          <a:xfrm>
            <a:off x="1357200" y="4000680"/>
            <a:ext cx="18432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Овал 20"/>
          <p:cNvSpPr/>
          <p:nvPr/>
        </p:nvSpPr>
        <p:spPr>
          <a:xfrm>
            <a:off x="928800" y="2000160"/>
            <a:ext cx="2057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A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836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8000" indent="6856920" algn="ctr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Constantia"/>
              </a:rPr>
              <a:t>CINQU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98000" indent="685692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nstantia"/>
              </a:rPr>
              <a:t>1 </a:t>
            </a: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строка – существительное или местоим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8000" indent="6856920" algn="just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2 строка – два прилагательны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8000" indent="6856920" algn="just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3 строка – три глагол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8000" indent="685692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4 строка - фраза, выражающая личное отношение автора синквейна к описываемому предмету или объект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8000" indent="6856920" algn="just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Constantia"/>
              </a:rPr>
              <a:t>5 строка – вывод (существительно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8000" indent="6856920" algn="just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98000" indent="6856920"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98000" indent="6856920"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1979640" y="333360"/>
            <a:ext cx="47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6" name="Picture 7" descr="r7"/>
          <p:cNvPicPr/>
          <p:nvPr/>
        </p:nvPicPr>
        <p:blipFill>
          <a:blip r:embed="rId1"/>
          <a:stretch/>
        </p:blipFill>
        <p:spPr>
          <a:xfrm>
            <a:off x="7715160" y="542916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Frog_37"/>
          <p:cNvPicPr/>
          <p:nvPr/>
        </p:nvPicPr>
        <p:blipFill>
          <a:blip r:embed="rId2"/>
          <a:stretch/>
        </p:blipFill>
        <p:spPr>
          <a:xfrm>
            <a:off x="539640" y="1071720"/>
            <a:ext cx="1032120" cy="857160"/>
          </a:xfrm>
          <a:prstGeom prst="rect">
            <a:avLst/>
          </a:prstGeom>
          <a:ln w="0">
            <a:noFill/>
          </a:ln>
        </p:spPr>
      </p:pic>
      <p:sp>
        <p:nvSpPr>
          <p:cNvPr id="278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28760" y="730080"/>
            <a:ext cx="80722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 great tim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resting, happy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colour, cook, dress up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I like it.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ur special Easter D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0" y="414324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Arial Black"/>
              </a:rPr>
              <a:t>HOLIDA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8" descr="46"/>
          <p:cNvPicPr/>
          <p:nvPr/>
        </p:nvPicPr>
        <p:blipFill>
          <a:blip r:embed="rId1"/>
          <a:stretch/>
        </p:blipFill>
        <p:spPr>
          <a:xfrm>
            <a:off x="760320" y="3728880"/>
            <a:ext cx="1870200" cy="237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рожд"/>
          <p:cNvPicPr/>
          <p:nvPr/>
        </p:nvPicPr>
        <p:blipFill>
          <a:blip r:embed="rId2"/>
          <a:stretch/>
        </p:blipFill>
        <p:spPr>
          <a:xfrm>
            <a:off x="6813720" y="4541760"/>
            <a:ext cx="2016000" cy="1514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серд"/>
          <p:cNvPicPr/>
          <p:nvPr/>
        </p:nvPicPr>
        <p:blipFill>
          <a:blip r:embed="rId3"/>
          <a:stretch/>
        </p:blipFill>
        <p:spPr>
          <a:xfrm rot="673200">
            <a:off x="3844440" y="1047240"/>
            <a:ext cx="1586160" cy="15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хэл"/>
          <p:cNvPicPr/>
          <p:nvPr/>
        </p:nvPicPr>
        <p:blipFill>
          <a:blip r:embed="rId4"/>
          <a:stretch/>
        </p:blipFill>
        <p:spPr>
          <a:xfrm rot="20395200">
            <a:off x="286920" y="1128240"/>
            <a:ext cx="2664000" cy="1812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2"/>
          <p:cNvSpPr/>
          <p:nvPr/>
        </p:nvSpPr>
        <p:spPr>
          <a:xfrm>
            <a:off x="808200" y="50846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WordArt 13"/>
          <p:cNvSpPr txBox="1"/>
          <p:nvPr/>
        </p:nvSpPr>
        <p:spPr>
          <a:xfrm rot="20043600">
            <a:off x="1263600" y="270324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209" name="WordArt 14"/>
          <p:cNvSpPr txBox="1"/>
          <p:nvPr/>
        </p:nvSpPr>
        <p:spPr>
          <a:xfrm rot="523800">
            <a:off x="3449160" y="263052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7c8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7c80"/>
              </a:solidFill>
              <a:latin typeface="Times New Roman"/>
              <a:ea typeface="Times New Roman"/>
            </a:endParaRPr>
          </a:p>
        </p:txBody>
      </p:sp>
      <p:sp>
        <p:nvSpPr>
          <p:cNvPr id="210" name="WordArt 15"/>
          <p:cNvSpPr txBox="1"/>
          <p:nvPr/>
        </p:nvSpPr>
        <p:spPr>
          <a:xfrm>
            <a:off x="747720" y="6093000"/>
            <a:ext cx="194292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211" name="WordArt 16"/>
          <p:cNvSpPr txBox="1"/>
          <p:nvPr/>
        </p:nvSpPr>
        <p:spPr>
          <a:xfrm>
            <a:off x="6732720" y="5938920"/>
            <a:ext cx="2087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  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pic>
        <p:nvPicPr>
          <p:cNvPr id="212" name="Picture 23" descr="fullvesperdrop"/>
          <p:cNvPicPr/>
          <p:nvPr/>
        </p:nvPicPr>
        <p:blipFill>
          <a:blip r:embed="rId5"/>
          <a:stretch/>
        </p:blipFill>
        <p:spPr>
          <a:xfrm>
            <a:off x="4016520" y="3530520"/>
            <a:ext cx="1614240" cy="1792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2" descr="Pasxa"/>
          <p:cNvPicPr/>
          <p:nvPr/>
        </p:nvPicPr>
        <p:blipFill>
          <a:blip r:embed="rId6"/>
          <a:stretch/>
        </p:blipFill>
        <p:spPr>
          <a:xfrm rot="20445600">
            <a:off x="6227280" y="1110960"/>
            <a:ext cx="2133720" cy="14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3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1938240" cy="1511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Картинка 17 из 22665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0"/>
            <a:ext cx="1714680" cy="2000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Картинка 5 из 2364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2000160"/>
            <a:ext cx="2143080" cy="1874880"/>
          </a:xfrm>
          <a:prstGeom prst="rect">
            <a:avLst/>
          </a:prstGeom>
          <a:ln w="38160">
            <a:solidFill>
              <a:srgbClr val="ff9966"/>
            </a:solidFill>
            <a:miter/>
          </a:ln>
        </p:spPr>
      </p:pic>
      <p:pic>
        <p:nvPicPr>
          <p:cNvPr id="217" name="Picture 6" descr="_43031477_banana416"/>
          <p:cNvPicPr/>
          <p:nvPr/>
        </p:nvPicPr>
        <p:blipFill>
          <a:blip r:embed="rId6"/>
          <a:stretch/>
        </p:blipFill>
        <p:spPr>
          <a:xfrm>
            <a:off x="3929040" y="142920"/>
            <a:ext cx="264312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7" descr=""/>
          <p:cNvPicPr/>
          <p:nvPr/>
        </p:nvPicPr>
        <p:blipFill>
          <a:blip r:embed="rId7"/>
          <a:stretch/>
        </p:blipFill>
        <p:spPr>
          <a:xfrm>
            <a:off x="2230560" y="633240"/>
            <a:ext cx="1560240" cy="6591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8"/>
          <p:cNvSpPr/>
          <p:nvPr/>
        </p:nvSpPr>
        <p:spPr>
          <a:xfrm>
            <a:off x="2428920" y="25002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llowe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3214800" y="4857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6929280" y="25002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ctory D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Содержимое 5" descr="3745038_large.jpg"/>
          <p:cNvPicPr/>
          <p:nvPr/>
        </p:nvPicPr>
        <p:blipFill>
          <a:blip r:embed="rId8"/>
          <a:stretch/>
        </p:blipFill>
        <p:spPr>
          <a:xfrm>
            <a:off x="4357800" y="1785960"/>
            <a:ext cx="2592360" cy="174636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4"/>
          <p:cNvSpPr/>
          <p:nvPr/>
        </p:nvSpPr>
        <p:spPr>
          <a:xfrm>
            <a:off x="7458120" y="400068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Christm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9" descr="img1"/>
          <p:cNvPicPr/>
          <p:nvPr/>
        </p:nvPicPr>
        <p:blipFill>
          <a:blip r:embed="rId9"/>
          <a:stretch/>
        </p:blipFill>
        <p:spPr>
          <a:xfrm>
            <a:off x="4143240" y="3571920"/>
            <a:ext cx="2286000" cy="142884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225" name="Picture 9" descr="https://www.hinduscriptures.com/wp-content/uploads/2018/02/baisakhi-3.jpg"/>
          <p:cNvPicPr/>
          <p:nvPr/>
        </p:nvPicPr>
        <p:blipFill>
          <a:blip r:embed="rId10"/>
          <a:stretch/>
        </p:blipFill>
        <p:spPr>
          <a:xfrm>
            <a:off x="285840" y="3929040"/>
            <a:ext cx="2112840" cy="145116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9"/>
          <p:cNvSpPr/>
          <p:nvPr/>
        </p:nvSpPr>
        <p:spPr>
          <a:xfrm flipH="1">
            <a:off x="2500200" y="46432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ca0073"/>
                </a:solidFill>
                <a:latin typeface="comic"/>
              </a:rPr>
              <a:t>Harvest Festiv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рямоугольник 21"/>
          <p:cNvSpPr/>
          <p:nvPr/>
        </p:nvSpPr>
        <p:spPr>
          <a:xfrm>
            <a:off x="6900840" y="1143000"/>
            <a:ext cx="22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an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estiv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6" descr="Exchange gifts ÐÐ±Ð¼ÐµÐ½Ð¸Ð²Ð°ÑÑÑÑ Ð¿Ð¾Ð´Ð°ÑÐºÐ°Ð¼Ð¸ People often exchange gifts on Christma..."/>
          <p:cNvPicPr/>
          <p:nvPr/>
        </p:nvPicPr>
        <p:blipFill>
          <a:blip r:embed="rId11"/>
          <a:srcRect l="12809" t="39843" r="26014" b="8937"/>
          <a:stretch/>
        </p:blipFill>
        <p:spPr>
          <a:xfrm>
            <a:off x="4143240" y="5143680"/>
            <a:ext cx="2416320" cy="15159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1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TextBox 19" descr=""/>
          <p:cNvPicPr/>
          <p:nvPr/>
        </p:nvPicPr>
        <p:blipFill>
          <a:blip r:embed="rId12"/>
          <a:stretch/>
        </p:blipFill>
        <p:spPr>
          <a:xfrm>
            <a:off x="6589800" y="5810400"/>
            <a:ext cx="2614680" cy="42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https://f.vividscreen.info/soft/3422791e69baad799fad12af0dd06555/Easter-Basket-And-Sheep-wide-l.jpg"/>
          <p:cNvPicPr/>
          <p:nvPr/>
        </p:nvPicPr>
        <p:blipFill>
          <a:blip r:embed="rId1"/>
          <a:stretch/>
        </p:blipFill>
        <p:spPr>
          <a:xfrm>
            <a:off x="785880" y="642960"/>
            <a:ext cx="3047760" cy="20289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6"/>
          <p:cNvSpPr/>
          <p:nvPr/>
        </p:nvSpPr>
        <p:spPr>
          <a:xfrm>
            <a:off x="4786200" y="1000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6" descr="https://4.bp.blogspot.com/-_w5q4YhZiqU/T4bgBJhyarI/AAAAAAAACoM/2uy5KYqX_Ko/s1600/a.jpg"/>
          <p:cNvPicPr/>
          <p:nvPr/>
        </p:nvPicPr>
        <p:blipFill>
          <a:blip r:embed="rId2"/>
          <a:stretch/>
        </p:blipFill>
        <p:spPr>
          <a:xfrm>
            <a:off x="4714920" y="928800"/>
            <a:ext cx="2714760" cy="2076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https://1.bp.blogspot.com/-nEZv4PGxT4A/VyXGEaqGYRI/AAAAAAAAcUk/DNAsMtn9ByQTx9a7OkPcYiciQnwZjgthACLcB/s400/2016-05-01_120151.jpg"/>
          <p:cNvPicPr/>
          <p:nvPr/>
        </p:nvPicPr>
        <p:blipFill>
          <a:blip r:embed="rId3"/>
          <a:stretch/>
        </p:blipFill>
        <p:spPr>
          <a:xfrm>
            <a:off x="428760" y="3143160"/>
            <a:ext cx="3286080" cy="2279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https://avatars.mds.yandex.net/get-pdb/480866/91281e22-8e87-4903-a344-0fca07df09c0/s280"/>
          <p:cNvPicPr/>
          <p:nvPr/>
        </p:nvPicPr>
        <p:blipFill>
          <a:blip r:embed="rId4"/>
          <a:stretch/>
        </p:blipFill>
        <p:spPr>
          <a:xfrm>
            <a:off x="4929120" y="4000680"/>
            <a:ext cx="2667240" cy="150480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7"/>
          <p:cNvSpPr txBox="1"/>
          <p:nvPr/>
        </p:nvSpPr>
        <p:spPr>
          <a:xfrm>
            <a:off x="357120" y="357120"/>
            <a:ext cx="83581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Easter in Russia</a:t>
            </a:r>
            <a:endParaRPr b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and Great Britain.</a:t>
            </a:r>
            <a:endParaRPr b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6013440" y="6186600"/>
            <a:ext cx="184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http://maroskucera.sk/wp-content/uploads/2016/03/4.jpg"/>
          <p:cNvPicPr/>
          <p:nvPr/>
        </p:nvPicPr>
        <p:blipFill>
          <a:blip r:embed="rId1"/>
          <a:srcRect l="0" t="0" r="0" b="21598"/>
          <a:stretch/>
        </p:blipFill>
        <p:spPr>
          <a:xfrm>
            <a:off x="1428840" y="3500280"/>
            <a:ext cx="59436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1071720" y="714240"/>
            <a:ext cx="69292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Verdana"/>
                <a:ea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Verdana"/>
                <a:ea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0" y="4143240"/>
            <a:ext cx="9144000" cy="27147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2"/>
          <p:cNvSpPr/>
          <p:nvPr/>
        </p:nvSpPr>
        <p:spPr>
          <a:xfrm>
            <a:off x="857160" y="428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23"/>
          <p:cNvSpPr/>
          <p:nvPr/>
        </p:nvSpPr>
        <p:spPr>
          <a:xfrm>
            <a:off x="4429080" y="500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3500280" y="214200"/>
          <a:ext cx="1798920" cy="17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0280" y="214200"/>
                    <a:ext cx="179892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57120" y="642960"/>
          <a:ext cx="8429760" cy="3033720"/>
        </p:xfrm>
        <a:graphic>
          <a:graphicData uri="http://schemas.openxmlformats.org/drawingml/2006/table">
            <a:tbl>
              <a:tblPr/>
              <a:tblGrid>
                <a:gridCol w="909720"/>
                <a:gridCol w="1706400"/>
                <a:gridCol w="5813640"/>
              </a:tblGrid>
              <a:tr h="10191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aster Sunday dates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</a:t>
                      </a:r>
                      <a:br>
                        <a:rPr sz="2000"/>
                      </a:b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  <a:ea typeface="Times New Roman"/>
                        </a:rPr>
                        <a:t>20</a:t>
                      </a: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  <a:ea typeface="Times New Roman"/>
                        </a:rPr>
                        <a:t>1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  <a:ea typeface="Times New Roman"/>
                        </a:rPr>
                        <a:t>5</a:t>
                      </a: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— 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  <a:ea typeface="Times New Roman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Cath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Orthodo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5 апр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12 апр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27 ма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1 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1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16 апр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1 апр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8 апр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21 апр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28 апр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12 апр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19 апр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Нижний колонтитул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0" y="3643200"/>
            <a:ext cx="9144000" cy="32148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714240" y="500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Easter Vocabul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1071720" y="1000080"/>
            <a:ext cx="6500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[i:] - Easter, Jesus</a:t>
            </a:r>
            <a:r>
              <a:rPr b="0" lang="ru-RU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treet, clean, eating, sweet, green, meal 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[a:]  start, last, Palm, march 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[ɜ:] her, church, service 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[ai] night, Christ is risen!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[k] Christian, Christ </a:t>
            </a:r>
            <a:r>
              <a:rPr b="0" lang="ru-RU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Calendar</a:t>
            </a:r>
            <a:r>
              <a:rPr b="0" lang="ru-RU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[d3]</a:t>
            </a:r>
            <a:r>
              <a:rPr b="0" lang="ru-RU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Julian</a:t>
            </a:r>
            <a:r>
              <a:rPr b="0" lang="ru-RU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Je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857160" y="85716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rk the statements True or False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British children don’t have Easter holidays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he British exchange gifts on Easter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British people go to work on Good Friday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British people don't go to work on Easter Monday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0" y="3643200"/>
            <a:ext cx="9144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Hot Cross Buns Rhyme _ Kids Action Songs.mp4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7:51:34Z</dcterms:created>
  <dc:creator>student</dc:creator>
  <dc:description/>
  <dc:language>en-US</dc:language>
  <cp:lastModifiedBy>Карина</cp:lastModifiedBy>
  <dcterms:modified xsi:type="dcterms:W3CDTF">2019-04-23T06:24:20Z</dcterms:modified>
  <cp:revision>275</cp:revision>
  <dc:subject/>
  <dc:title>Слайд 1</dc:title>
</cp:coreProperties>
</file>