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C913B-98C6-4EBB-B297-85539104A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1F6C-DC82-4055-9873-5B0776DA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D403B-4BCD-41EE-A553-49D75528E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EE5D8-CB90-4689-A403-452002AF3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ECC84-D68A-4450-ABD5-16EE44287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9533B-B3F1-4E8B-97BE-E8267F2BA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F6A64-73DB-4092-B279-31AEEF458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5903D-5666-4C2A-B3C4-F2371A99D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DB126-3DBF-4112-BA9B-36E6D7FF3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D5A26-9A27-4675-A378-CA179B690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ADCED-5159-4ACB-B798-80D3EAF62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6350-6609-425D-AB5B-FC68AED4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B4F60-B454-496D-B0E8-09E2FEFA5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C1F0-2694-4086-B87F-41A83DFD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BB46C-B9B9-45B1-94B2-1B945B522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44234-B5AD-4B89-A9C7-4BD7D8D07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DD109-EAFD-49F1-B8E0-2355BA9DB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4862C2-0A41-4667-AB33-CD5F3158A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8CDBF-DA7A-4931-85EA-FCCC02847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0E73B-F8D2-49AD-AE30-B625F31AA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97592-7EF7-43D6-BB27-DEAA3E54A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E2E8D-F192-4A13-9473-6BA4747DC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C3C5B-EA08-4692-B2CE-918E0AC2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1B8F5-3214-48B3-AC35-AF62A6FEE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E1924-C884-4209-ADBB-D692FACA2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0A1B4-2FC3-43A5-A331-80B1194C8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C7027-AE4D-4CEC-9075-6EC28E9E5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AFEB0-1DE9-4229-8157-50956F78E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4078C-A0FE-44EF-A055-2F4E83B88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651498-C4FC-454F-B900-E9F3511332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74EC0-30B0-434B-9304-380AF70B33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D395A-732F-4CAE-B927-414A6B97F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38D78-4221-4F24-8E22-86A3E7081F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AA16-891C-4808-BBE3-886D6DAA6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59E3E-54A6-4D10-B89A-D18111044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717F4-27EF-448D-96A2-2FA66EB7C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9C67F-C450-4E9C-951D-ECE4EAFFE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69322-C741-4FF7-A37F-69DA37164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524DA-CFFF-4CCA-B2C0-61729C35E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B93DB-267B-4ADF-B1E7-0CAC49C73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8FD04-038E-4103-868D-B0E364A63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2204AF-9998-4362-B993-4E3A9D6457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C1713C-FF2D-4A15-B24B-E56E7EAB64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C6AD2-81A9-4DF5-A1EA-E5F9510405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A2556-6200-4822-9A80-A7C751A3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A54628-A7C4-414D-B9D9-78694C522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2D318-F0A9-46A3-B60C-519F76D61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2B5B2-EE4E-4E1C-9F01-171695196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3F5D7-1F2F-4220-BD2B-91D3F405E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8F262-92D6-44C5-89FE-585EA9634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77D65-E87E-4777-8878-3959769AF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7FB8F-F6E3-42A8-AB22-62EFD47E9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2D72F-0ADF-4C9D-AA0C-77C58AD62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A46A8-B8F2-4EC6-B7B7-257EC532B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94007F-99AC-4EF1-9538-C2F0F81678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857FF-FC5D-4F0C-B5A6-32539360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F1DF6-B6EF-4624-BE2D-993438066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963E4D-6867-44D0-9FEE-004ADB25C7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B5DFD-95F3-4610-ABE9-2F477CB5F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8C7CC-7F0E-470C-9737-219101EDE7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D99ED-5F43-497F-8264-843B83984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28A5C-D804-4D83-B2A8-B4E963531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49F27-133B-47B6-8388-7D44C272C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A5815-D54E-4118-B37A-2FD9B29EB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76BB0-C894-43C8-A89E-9027A4A45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A39EB-6F0E-4BC6-951F-EC1DDFF0E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0A6E-0DAE-4C98-8B71-9EB9C9BC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7DB63-A8E1-451E-B386-A431A0930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CCDFF-9381-4C98-9E1A-B7C50011C1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05FA40-F237-454E-903D-C1BF4D2A8A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4970C-CEF8-446B-8368-8EC5FE780B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B715E-1059-455D-A0A1-76F374E7DC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9A646-FD54-45AD-BEAA-EA938AA34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08BC8-9B1D-4939-BFDE-AF1B96CA6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F652D-A91E-4E4D-A1CE-5E517BE9CC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59570-6143-4B09-AA54-2F1041DE0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6034B-3F3C-4FAF-BDD2-31C9A56BD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CC08-C3E3-416E-993B-2199223F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6FF88-AE61-4913-B429-9A894FB04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8038B-F025-4BDF-A730-E6D374528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963E4-A51B-4B2E-9545-EEEDD37E0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5096CF-844F-43CC-8737-862C92B14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05494E-027D-4943-9B27-44165F3C0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1200-484F-4538-B128-AF473AFF1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84F2-273D-44BE-AB81-C4E6EDF3E52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4998-0409-40F0-AF41-47286421C6B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24C-23D2-4ABC-B1BA-FE7CD0C8D21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FD85-9AFF-48B0-9362-53C5938EBC9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3AB4-2F21-42FB-8B1B-96C1A5AFFF5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61ED-3582-4195-B3D8-78B1D189AAB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EA1C-893C-4174-BA0F-B89E76CE567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День Российской науки</a:t>
            </a:r>
            <a:br>
              <a:rPr sz="4400"/>
            </a:b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240" y="2133720"/>
            <a:ext cx="7232760" cy="350496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Лампочка Лодыгина А.Н.</a:t>
            </a:r>
            <a:endParaRPr b="0" lang="en-US" sz="3600" spc="-1" strike="noStrike">
              <a:solidFill>
                <a:srgbClr val="073e87"/>
              </a:solidFill>
              <a:latin typeface="Candar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полнил </a:t>
            </a:r>
            <a:endParaRPr b="0" lang="en-US" sz="2400" spc="-1" strike="noStrike">
              <a:solidFill>
                <a:srgbClr val="073e87"/>
              </a:solidFill>
              <a:latin typeface="Candar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еник 7 класса </a:t>
            </a:r>
            <a:endParaRPr b="0" lang="en-US" sz="2400" spc="-1" strike="noStrike">
              <a:solidFill>
                <a:srgbClr val="073e87"/>
              </a:solidFill>
              <a:latin typeface="Candar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релкин Александр</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Краткая история</a:t>
            </a:r>
            <a:endParaRPr b="0" lang="en-US" sz="4400" spc="-1" strike="noStrike">
              <a:solidFill>
                <a:srgbClr val="ffffff"/>
              </a:solidFill>
              <a:latin typeface="Candara"/>
            </a:endParaRPr>
          </a:p>
        </p:txBody>
      </p:sp>
      <p:sp>
        <p:nvSpPr>
          <p:cNvPr id="338" name=""/>
          <p:cNvSpPr txBox="1"/>
          <p:nvPr/>
        </p:nvSpPr>
        <p:spPr>
          <a:xfrm>
            <a:off x="676440" y="1916280"/>
            <a:ext cx="3822480" cy="4209840"/>
          </a:xfrm>
          <a:prstGeom prst="rect">
            <a:avLst/>
          </a:prstGeom>
          <a:noFill/>
          <a:ln w="0">
            <a:noFill/>
          </a:ln>
        </p:spPr>
        <p:txBody>
          <a:bodyPr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ndara"/>
              </a:rPr>
              <a:t>B самом начале XIX столетия Василий Владимирович Петров установил, что при помощи электрической дуги «тёмный покой довольно ясно освещён быть может». Начались поиски, как это сделать, изобретений было много, но все они дальше лабораторий не выходили. Это могло бы продолжаться долго, если бы Лодыгин не создал свою лампу накаливания.</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39" name="Picture 2" descr=""/>
          <p:cNvPicPr/>
          <p:nvPr/>
        </p:nvPicPr>
        <p:blipFill>
          <a:blip r:embed="rId1"/>
          <a:stretch/>
        </p:blipFill>
        <p:spPr>
          <a:xfrm>
            <a:off x="4645080" y="1989000"/>
            <a:ext cx="395928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610920" y="2205000"/>
            <a:ext cx="766908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Замечательный русский учёный Александр Николаевич Лодыгин родился 18 (по н.ст.) октября 1847 года в Тамбовской губернии. В 1868-м окончил Московское юнкерское пехотное училище, но военную карьеру решил не делать, вышел в отставку уже в 1870 году и всё своё время отныне посвящал изобретательству.</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Из биографии учёного</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Успех Лодыгина А.Н.</a:t>
            </a:r>
            <a:endParaRPr b="0" lang="en-US" sz="4400" spc="-1" strike="noStrike">
              <a:solidFill>
                <a:srgbClr val="ffffff"/>
              </a:solidFill>
              <a:latin typeface="Candara"/>
            </a:endParaRPr>
          </a:p>
        </p:txBody>
      </p:sp>
      <p:sp>
        <p:nvSpPr>
          <p:cNvPr id="343" name=""/>
          <p:cNvSpPr txBox="1"/>
          <p:nvPr/>
        </p:nvSpPr>
        <p:spPr>
          <a:xfrm>
            <a:off x="4645080" y="2060280"/>
            <a:ext cx="4030560" cy="4065480"/>
          </a:xfrm>
          <a:prstGeom prst="rect">
            <a:avLst/>
          </a:prstGeom>
          <a:noFill/>
          <a:ln w="0">
            <a:noFill/>
          </a:ln>
        </p:spPr>
        <p:txBody>
          <a:bodyPr anchor="t">
            <a:normAutofit fontScale="94000"/>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Впервые Лодыгин публично показал, как в городской среде можно применять лампочки накаливания, уже в 1873 году. Очевидец этих событий впоследствии говорил: «Лодыгин первый вынес лампу накаливания из физического кабинета на улицу». Другой эксперимент был проведён также в Петербурге. На Морской улице его лампами был освещён магазин Флорана. Лампочки проработали два месяца. Это был большой успех.</a:t>
            </a:r>
            <a:endParaRPr b="0" lang="en-US" sz="2000" spc="-1" strike="noStrike">
              <a:solidFill>
                <a:srgbClr val="073e87"/>
              </a:solidFill>
              <a:latin typeface="Candara"/>
            </a:endParaRPr>
          </a:p>
          <a:p>
            <a:pPr>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44" name="Picture 2" descr=""/>
          <p:cNvPicPr/>
          <p:nvPr/>
        </p:nvPicPr>
        <p:blipFill>
          <a:blip r:embed="rId1"/>
          <a:stretch/>
        </p:blipFill>
        <p:spPr>
          <a:xfrm>
            <a:off x="250920" y="2060640"/>
            <a:ext cx="418284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Первая премия за изобретение</a:t>
            </a:r>
            <a:endParaRPr b="0" lang="en-US" sz="4400" spc="-1" strike="noStrike">
              <a:solidFill>
                <a:srgbClr val="ffffff"/>
              </a:solidFill>
              <a:latin typeface="Candara"/>
            </a:endParaRPr>
          </a:p>
        </p:txBody>
      </p:sp>
      <p:sp>
        <p:nvSpPr>
          <p:cNvPr id="346" name=""/>
          <p:cNvSpPr txBox="1"/>
          <p:nvPr/>
        </p:nvSpPr>
        <p:spPr>
          <a:xfrm>
            <a:off x="4500720" y="1989000"/>
            <a:ext cx="4319280" cy="4137120"/>
          </a:xfrm>
          <a:prstGeom prst="rect">
            <a:avLst/>
          </a:prstGeom>
          <a:noFill/>
          <a:ln w="0">
            <a:noFill/>
          </a:ln>
        </p:spPr>
        <p:txBody>
          <a:bodyPr anchor="t">
            <a:normAutofit fontScale="93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За рубежом сразу оценили изобретение Лодыгина. Несколько европейских стран выдали ему привилегии (то есть патенты) на изобретение.  В 1872 году Лодыгин подаёт заявку на своё изобретение, а 23 июля 1874-го получает патент (привилегию № 1619). Академия наук по достоинству оценила это изобретение и присудила автору Ломоносовскую премию в размере 1000 рублей. В почётном отзыве говорилось, что премия выдана за открытие, «обещающее произвести переворот в важном вопросе об освещении».</a:t>
            </a:r>
            <a:endParaRPr b="0" lang="en-US" sz="2000" spc="-1" strike="noStrike">
              <a:solidFill>
                <a:srgbClr val="073e87"/>
              </a:solidFill>
              <a:latin typeface="Candara"/>
            </a:endParaRPr>
          </a:p>
          <a:p>
            <a:pPr>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47" name="Picture 2" descr=""/>
          <p:cNvPicPr/>
          <p:nvPr/>
        </p:nvPicPr>
        <p:blipFill>
          <a:blip r:embed="rId1"/>
          <a:stretch/>
        </p:blipFill>
        <p:spPr>
          <a:xfrm>
            <a:off x="468360" y="2349360"/>
            <a:ext cx="3643200" cy="31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00720" y="476280"/>
            <a:ext cx="418608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0" lang="ru-RU" sz="2500" spc="-1" strike="noStrike">
                <a:solidFill>
                  <a:srgbClr val="000000"/>
                </a:solidFill>
                <a:latin typeface="Candara"/>
              </a:rPr>
              <a:t>«Товарищество Лодыгина»</a:t>
            </a:r>
            <a:br>
              <a:rPr sz="2500"/>
            </a:br>
            <a:r>
              <a:rPr b="0" lang="ru-RU" sz="2500" spc="-1" strike="noStrike">
                <a:solidFill>
                  <a:srgbClr val="000000"/>
                </a:solidFill>
                <a:latin typeface="Candara"/>
              </a:rPr>
              <a:t> </a:t>
            </a:r>
            <a:endParaRPr b="0" lang="en-US" sz="2500" spc="-1" strike="noStrike">
              <a:solidFill>
                <a:srgbClr val="ffffff"/>
              </a:solidFill>
              <a:latin typeface="Candara"/>
            </a:endParaRPr>
          </a:p>
        </p:txBody>
      </p:sp>
      <p:sp>
        <p:nvSpPr>
          <p:cNvPr id="349" name="PlaceHolder 2"/>
          <p:cNvSpPr>
            <a:spLocks noGrp="1"/>
          </p:cNvSpPr>
          <p:nvPr>
            <p:ph/>
          </p:nvPr>
        </p:nvSpPr>
        <p:spPr>
          <a:xfrm>
            <a:off x="4500720" y="1844280"/>
            <a:ext cx="4319280" cy="3745080"/>
          </a:xfrm>
          <a:prstGeom prst="rect">
            <a:avLst/>
          </a:prstGeom>
          <a:noFill/>
          <a:ln w="0">
            <a:noFill/>
          </a:ln>
        </p:spPr>
        <p:txBody>
          <a:bodyPr anchor="t">
            <a:normAutofit fontScale="92000"/>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Для продвижения новинки была создана компания «Русское товарищество электрического освещения Лодыгин и Кº». Дальше дела пошли не самым лучшим образом. Изобретение на всех уровнях признали нужным, но финансовой поддержки и необходимого количества помощников первооткрыватель не получил. Компания вскоре обанкротилась, не хватило денег даже на американский патент, который в результате был утерян за гроши.</a:t>
            </a:r>
            <a:endParaRPr b="0" lang="en-US" sz="1800" spc="-1" strike="noStrike">
              <a:solidFill>
                <a:srgbClr val="073e87"/>
              </a:solidFill>
              <a:latin typeface="Candar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ndara"/>
              </a:rPr>
              <a:t> </a:t>
            </a:r>
            <a:endParaRPr b="0" lang="en-US" sz="1800" spc="-1" strike="noStrike">
              <a:solidFill>
                <a:srgbClr val="073e87"/>
              </a:solidFill>
              <a:latin typeface="Candar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pic>
        <p:nvPicPr>
          <p:cNvPr id="350" name="Picture 2" descr=""/>
          <p:cNvPicPr/>
          <p:nvPr/>
        </p:nvPicPr>
        <p:blipFill>
          <a:blip r:embed="rId1"/>
          <a:stretch/>
        </p:blipFill>
        <p:spPr>
          <a:xfrm>
            <a:off x="878040" y="927000"/>
            <a:ext cx="3273120" cy="34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Эмиграция за рубеж</a:t>
            </a:r>
            <a:endParaRPr b="0" lang="en-US" sz="4400" spc="-1" strike="noStrike">
              <a:solidFill>
                <a:srgbClr val="ffffff"/>
              </a:solidFill>
              <a:latin typeface="Candara"/>
            </a:endParaRPr>
          </a:p>
        </p:txBody>
      </p:sp>
      <p:pic>
        <p:nvPicPr>
          <p:cNvPr id="352" name="Picture 2" descr=""/>
          <p:cNvPicPr/>
          <p:nvPr/>
        </p:nvPicPr>
        <p:blipFill>
          <a:blip r:embed="rId1"/>
          <a:stretch/>
        </p:blipFill>
        <p:spPr>
          <a:xfrm>
            <a:off x="395280" y="2349360"/>
            <a:ext cx="3967200" cy="3240360"/>
          </a:xfrm>
          <a:prstGeom prst="rect">
            <a:avLst/>
          </a:prstGeom>
          <a:ln w="0">
            <a:noFill/>
          </a:ln>
        </p:spPr>
      </p:pic>
      <p:sp>
        <p:nvSpPr>
          <p:cNvPr id="353" name=""/>
          <p:cNvSpPr txBox="1"/>
          <p:nvPr/>
        </p:nvSpPr>
        <p:spPr>
          <a:xfrm>
            <a:off x="4644720" y="2349360"/>
            <a:ext cx="4103640" cy="3600720"/>
          </a:xfrm>
          <a:prstGeom prst="rect">
            <a:avLst/>
          </a:prstGeom>
          <a:noFill/>
          <a:ln w="0">
            <a:noFill/>
          </a:ln>
        </p:spPr>
        <p:txBody>
          <a:bodyPr anchor="t">
            <a:normAutofit fontScale="97000"/>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Не видя для себя перспектив на родине, Лодыгин был вынужден эмигрировать во Францию и США. Для него это стало плодотворным временем: он участвовал во Всемирной выставке в Париже, создавал новые лампы накаливания, изобретал электропечи и автомобили, строил заводы и метрополитен. В США он получил патент на лампы с нитями из тугоплавких металлов, но в результате продал это изобретение в 1906 году компании «Дженерал электрик».</a:t>
            </a:r>
            <a:endParaRPr b="0" lang="en-US" sz="1800" spc="-1" strike="noStrike">
              <a:solidFill>
                <a:srgbClr val="073e87"/>
              </a:solidFill>
              <a:latin typeface="Candara"/>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Candara"/>
              </a:rPr>
              <a:t> </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5000"/>
            <a:ext cx="7772400" cy="93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Последние годы жизни</a:t>
            </a:r>
            <a:endParaRPr b="0" lang="en-US" sz="4400" spc="-1" strike="noStrike">
              <a:solidFill>
                <a:srgbClr val="ffffff"/>
              </a:solidFill>
              <a:latin typeface="Candara"/>
            </a:endParaRPr>
          </a:p>
        </p:txBody>
      </p:sp>
      <p:sp>
        <p:nvSpPr>
          <p:cNvPr id="355" name="PlaceHolder 2"/>
          <p:cNvSpPr>
            <a:spLocks noGrp="1"/>
          </p:cNvSpPr>
          <p:nvPr>
            <p:ph type="subTitle"/>
          </p:nvPr>
        </p:nvSpPr>
        <p:spPr>
          <a:xfrm>
            <a:off x="899640" y="2060640"/>
            <a:ext cx="7559640" cy="345600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В 1907 году Лодыгин с семьёй вернулся в Россию. В его багаже была целая серия изобретений в чертежах и набросках. Он подготовил проекты изготовления сплавов, электропечей, двигателей и электроаппаратов для сварки и резки. Лодыгин начал преподавать в Электротехническом институте и работать в строительном управлении железной дороги. Изобретателя стала занимать ещё одна техническая проблема – летательный аппарат вертикального взлёта.</a:t>
            </a:r>
            <a:endParaRPr b="0" lang="en-US" sz="1400" spc="-1" strike="noStrike">
              <a:solidFill>
                <a:srgbClr val="073e87"/>
              </a:solidFill>
              <a:latin typeface="Candar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endParaRPr b="0" lang="en-US" sz="1400" spc="-1" strike="noStrike">
              <a:solidFill>
                <a:srgbClr val="073e87"/>
              </a:solidFill>
              <a:latin typeface="Candar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 </a:t>
            </a:r>
            <a:endParaRPr b="0" lang="en-US" sz="1400" spc="-1" strike="noStrike">
              <a:solidFill>
                <a:srgbClr val="073e87"/>
              </a:solidFill>
              <a:latin typeface="Candar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ndara"/>
              </a:rPr>
              <a:t>Февральская революция 1917 года была последним важным событием в его жизни в России – Лодыгин не сработался с новой властью. А материальные проблемы вынудили изобретателя уехать в США. Тем не менее его не забыли на родине. Александру Николаевичу было прислано приглашение вернуться в РСФСР и поучаствовать в разработке плана ГОЭЛРО. Приглашение пожилой изобретатель не принял, а 16 марта 1923 года он скончался в Бруклине в возрасте 75 лет.</a:t>
            </a:r>
            <a:endParaRPr b="0" lang="en-US" sz="1400" spc="-1" strike="noStrike">
              <a:solidFill>
                <a:srgbClr val="073e87"/>
              </a:solidFill>
              <a:latin typeface="Candar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7680"/>
            <a:ext cx="8229600" cy="417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ndara"/>
              </a:rPr>
              <a:t>Спасибо за внимание!</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0T06:47:47Z</dcterms:created>
  <dc:creator>Школа</dc:creator>
  <dc:description/>
  <dc:language>en-US</dc:language>
  <cp:lastModifiedBy>Школа</cp:lastModifiedBy>
  <dcterms:modified xsi:type="dcterms:W3CDTF">2020-01-10T07:14:41Z</dcterms:modified>
  <cp:revision>3</cp:revision>
  <dc:subject/>
  <dc:title>День Российской науки</dc:title>
</cp:coreProperties>
</file>