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E6D-585D-4044-90B7-EA90067A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BB4-95A8-4C77-B265-BD7B43DD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391-998D-432D-A58C-0BA50988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895-88C5-4764-A2B1-E090A9A0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8BE-563B-4FBC-BEC1-A2605D1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DE4-0A0B-4401-8731-D0CFB015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F7F-EBF0-4AA6-9B0E-AD705F6E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B93-F9B5-423A-9CB0-114DD883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4E3-462D-48F9-9A3A-582DB61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A16-777A-452D-846E-F35CF93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689-AFF9-429F-8CB4-148D186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CA6-79A4-4A8B-93E2-AD33A585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BB7-A1D1-4381-A2B7-60EAE7E1E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84807"/>
                </a:solidFill>
                <a:latin typeface="Monotype Corsiva"/>
              </a:rPr>
              <a:t>Организационно-методические указания по логоритмическому воспитанию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324000" y="404640"/>
            <a:ext cx="84834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ОВОСИБИРСКИЙ ГОСУДАРСТВЕННЫЙ ПЕДАГОГИЧЕСКИЙ УНИВЕРСИТ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ДЕТ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ЛОГОПЕДИИ И ДЕТСКОЙ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276720" y="5079960"/>
            <a:ext cx="5256000" cy="15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студент группы: 3.080.1.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Ю. Торопо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бучения: заоч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сибирск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9640" y="764640"/>
            <a:ext cx="8121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должны соблюдаться основные педагогические принципы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е усложнение и повторяемость материала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атывается ритмическая  структура  слова,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  произношение доступных по возрасту звуков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ется словарь дете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64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84807"/>
                </a:solidFill>
                <a:latin typeface="Monotype Corsiva"/>
              </a:rPr>
              <a:t> </a:t>
            </a:r>
            <a:r>
              <a:rPr b="1" i="1" lang="ru-RU" sz="4400" spc="-1" strike="noStrike">
                <a:solidFill>
                  <a:srgbClr val="984807"/>
                </a:solidFill>
                <a:latin typeface="Monotype Corsiva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ÐÐ¾ÑÐ¾Ð¶ÐµÐµ Ð¸Ð·Ð¾Ð±ÑÐ°Ð¶ÐµÐ½Ð¸Ðµ"/>
          <p:cNvPicPr/>
          <p:nvPr/>
        </p:nvPicPr>
        <p:blipFill>
          <a:blip r:embed="rId1"/>
          <a:srcRect l="9908" t="9907" r="5872" b="4220"/>
          <a:stretch/>
        </p:blipFill>
        <p:spPr>
          <a:xfrm>
            <a:off x="4356000" y="4581360"/>
            <a:ext cx="3672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84807"/>
                </a:solidFill>
                <a:latin typeface="Monotype Corsiva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31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е логоритмической работы с детьми дошкольного возраста нужно выделить два направления: воздействие на неречевые и на речевые процес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rcRect l="0" t="0" r="0" b="55278"/>
          <a:stretch/>
        </p:blipFill>
        <p:spPr>
          <a:xfrm>
            <a:off x="2268360" y="4079880"/>
            <a:ext cx="4011840" cy="1004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rcRect l="0" t="64028" r="0" b="0"/>
          <a:stretch/>
        </p:blipFill>
        <p:spPr>
          <a:xfrm>
            <a:off x="2268360" y="5051520"/>
            <a:ext cx="40118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115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84807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984807"/>
                </a:solidFill>
                <a:latin typeface="Monotype Corsiva"/>
              </a:rPr>
              <a:t>Требования к проведению логоритмического зан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по логоритмике проводит логопед совместно с музыкальным руководителем 1 раз в неделю (желательно во 2-ой половине дня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целесообразно проводить фронтально продолжительностью от 20 до 30 минут в зависимости от возраста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логоритмики составляются с опорой на лексические те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5435640" y="4869000"/>
            <a:ext cx="28796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вигательного и речевого материала варьируется в зависимости от уровня сформированности моторных и речевых навы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занятие представляет собой тематическую и игровую целост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южете занятий используются рассказы и сказки русских и зарубежных писателей, русские народные сказки, которые подбираются в соответствии с возрастом детей и позволяют решать коррекционные задачи в игровой форм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3492360" y="4584600"/>
            <a:ext cx="32403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7205760" y="2279520"/>
            <a:ext cx="1919160" cy="2805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84807"/>
                </a:solidFill>
                <a:latin typeface="Monotype Corsiva"/>
              </a:rPr>
              <a:t>Логоритмическое занятие должно включать в себя следующие элемен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льчиковая гимнастика, песни и стихи, сопровождаемые движением рук. Развитие мелкой моторики, плавности и выразительности речи,         речевого слуха и речевой памя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льные и музыкально-ритмические игры с музыкальными инструментами. Развитие речи, внимания, умения ориентироваться в пространстве. Развитие чувства рит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опедическая (артикуляционная) гимнастика, вокально-артикуляционные упражнения. Укрепление мышц органов артикуляции, развитие их подвиж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7089840" y="3790800"/>
            <a:ext cx="1920960" cy="2805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вческих данных. Чистоговорки для автоматизации дифференциации звуков, фонопедические упражнения. Коррекция звукопроизношения, укрепление гортани и привитие навыков речевого дыхания. Упражнения на развитие мимических мышц. Коммуникативные игры и танц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оциональной сферы, ассоциативно-образного мышления, выразительности невербальных средств общения, позитивного самоощущ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развитие общей моторики, соответствующие возрастным особенностям.  Развитие мышечно-двигательной и     координационной сфер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на развитие словотворчества. Расширение активного запаса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коррекционной работы должна варьироваться в  соответствии  с  характером  речевых  нарушений,  индивидуальных  и возрастных особенностей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значение на логоритмических занятиях имеет музыка, поэтому в  этой  работе  важна  тесная связь  с  музыкальным  руководителем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ыполняют движения под музыкальное сопровождение с четко выраженным ритмом,  а  учитель -логопед  осуществляет постоянный  контроль  за точностью их выполнения. Амплитуда и темп упражнений согласовывается с динамикой  звучания  музы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ÐÐ°ÑÑÐ¸Ð½ÐºÐ¸ Ð¿Ð¾ Ð·Ð°Ð¿ÑÐ¾ÑÑ Ð½Ð¾ÑÑ ÐºÐ»Ð¸Ð¿Ð°ÑÑ"/>
          <p:cNvPicPr/>
          <p:nvPr/>
        </p:nvPicPr>
        <p:blipFill>
          <a:blip r:embed="rId1"/>
          <a:stretch/>
        </p:blipFill>
        <p:spPr>
          <a:xfrm>
            <a:off x="826920" y="2476440"/>
            <a:ext cx="505080" cy="63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ÐÐ°ÑÑÐ¸Ð½ÐºÐ¸ Ð¿Ð¾ Ð·Ð°Ð¿ÑÐ¾ÑÑ Ð²Ð¾ÑÐºÐ»Ð¸ÑÐ°ÑÐµÐ»ÑÐ½ÑÐ¹ Ð·Ð½Ð°Ðº ÐºÐ»Ð¸Ð¿Ð°ÑÑ"/>
          <p:cNvPicPr/>
          <p:nvPr/>
        </p:nvPicPr>
        <p:blipFill>
          <a:blip r:embed="rId2"/>
          <a:stretch/>
        </p:blipFill>
        <p:spPr>
          <a:xfrm>
            <a:off x="1079640" y="692280"/>
            <a:ext cx="396720" cy="758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ÐÐ°ÑÑÐ¸Ð½ÐºÐ¸ Ð¿Ð¾ Ð·Ð°Ð¿ÑÐ¾ÑÑ Ð´ÐµÑÐ¸ ÐºÐ»Ð¸Ð¿Ð°ÑÑ"/>
          <p:cNvPicPr/>
          <p:nvPr/>
        </p:nvPicPr>
        <p:blipFill>
          <a:blip r:embed="rId3"/>
          <a:stretch/>
        </p:blipFill>
        <p:spPr>
          <a:xfrm>
            <a:off x="684360" y="3537000"/>
            <a:ext cx="8269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ivashkova.dasha@mail.ru</cp:lastModifiedBy>
  <dcterms:modified xsi:type="dcterms:W3CDTF">2019-02-04T06:24:41Z</dcterms:modified>
  <cp:revision>42</cp:revision>
  <dc:subject/>
  <dc:title>Шаблон презентации</dc:title>
</cp:coreProperties>
</file>