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0C8-D085-419F-9BF8-E3F23ED5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2C4-3972-43C7-89AA-993AB9C2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82C-978E-4ECE-8A9E-94304801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09B-7323-4263-B6D3-470099A8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3C41-67CF-4A0D-91D6-BDA0C7EA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7397-7379-4B6D-BF16-AE04A53D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F374-BEA4-4CE4-8C6F-4E19DB11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37BD-54F9-45FE-BE30-B7411933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129A-974F-4BA8-BBF4-C5A84B9A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F77D-7B30-47BC-912D-9CFC8825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34E4-002E-4FD1-9533-B75429A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250-8B0F-480D-90C2-2A37257B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131A-56D3-4490-B99F-63AEE9BE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B18F-DED9-4EDF-B94B-33072F41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18CA-8700-4C0B-83CF-585CD07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9313-32B0-44D0-AA52-C3397256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4366-BCAB-4CF2-848D-DC18C658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C40-E515-40B2-9E25-79D4D6B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46D-F90B-40EC-A2E2-78EF8C4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821-6975-4AE8-8D2A-B79A3FC8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0CC-3A83-4990-B770-78E424D0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3BA-557D-47FE-84DE-000F6E9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726-6F4B-4A96-9B8D-EE18178D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C56-4750-4892-AAE3-35E93C50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CDFE-03B3-4A3B-AEAD-65DEAF0B04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B4D2-5C4E-40CA-B490-6FA91559B1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-27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лияние специально организованной двигательной активности и физических нагрузок на познавательные психические процесс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Практические рекомендации для учителей и родител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292720" y="5084640"/>
            <a:ext cx="352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читель физической культуры МБОУ СОШ № 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уваев Владислав Константино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518472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изические нагрузки дают положительный психологический эффект, их целесообразно применять в режиме учебного дн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476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омендация №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8545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07640" y="1413000"/>
            <a:ext cx="5543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грузка на уроках физической культуры должна быть привычной, оптимальной. Если заня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провождаются непрерывными физическими нагрузками, их целесообразно назначать на последние часы учебного дня  и рекомендовать после них отд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916360" y="260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омендация №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368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54003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иод посл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грузок, процес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аптированности к котор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завершен, деятельность 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имущественным участ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и (например, изуч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ого языка) буд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рационально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2556000" y="333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омендация №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3262320" cy="21243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32670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5230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, проводятся утрен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енировочные занятия, т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ле них, перед учебн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цессом, следует прове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тковременный отд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ороткий сеанс релакс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ли аутогенной тренировк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2700360" y="404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омендация №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635640" cy="2170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3480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9118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невные и вечер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енировочные занятия,  следу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водить с повышением нагруз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правленных на механическо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оминания, какого-либ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тери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способствуют повышени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уктивности психическ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2484360" y="549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омендация №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888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-360" y="1773000"/>
            <a:ext cx="560556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одя многодневного туристического похода умственная деятельность с преимущественным проявлением аналитической функции будет более продуктив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2627280" y="476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омендация №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394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одя туристические походы оздоровительной направленности, следует  сохранять оптимум физической нагрузки. После похода интеллектуальная деятельность подростка будет на высоком уровне, чем до похо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2627280" y="404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омендация №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3635280" cy="25876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49705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 прогулки на свежем воздухе, преступать к выполнению домашнего задания следует через час-полтора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404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омендация №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4176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2T06:56:26Z</dcterms:created>
  <dc:creator>1</dc:creator>
  <dc:description/>
  <dc:language>en-US</dc:language>
  <cp:lastModifiedBy>1</cp:lastModifiedBy>
  <dcterms:modified xsi:type="dcterms:W3CDTF">2020-01-10T09:56:30Z</dcterms:modified>
  <cp:revision>5</cp:revision>
  <dc:subject/>
  <dc:title>Практические рекомендации  для учителей и родителей при влиянии специально организхованной деятельнсоти и физических нагрузок на позновательные процессы подростка  </dc:title>
</cp:coreProperties>
</file>