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6EC-A7A6-4C35-9E45-85580338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BB9-B0F9-49E5-BAFF-2F96B03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55C-F57C-4671-8D08-D54221C9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4EE-BC3E-476F-909D-16BFF6ED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AECD-C00C-4C03-90A6-B1B4AAE0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77C-4C05-4247-93AC-0557EFA7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7109-2864-4C63-9942-3E4F433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6BD9-BDEA-455F-948A-553E068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A973-3C00-4FB4-BDC5-BA216C0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BA4-76D1-4933-A544-2FE578D4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1A8E-9991-4B1A-94F5-9F49360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590-BFED-4DC9-B491-5DCC2858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D83-F6C6-4C5F-8D22-C6D5B3D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010-458D-42B8-B8AB-F3275EE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B7D1-3879-4552-96D4-1F5A104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283E-E87A-452F-9A16-AAE67945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4A43-E48C-423E-9E82-DDEA741D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F56-D145-4D63-93ED-88184E4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6CD-454B-44F6-BC7C-8A975877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1C7-C429-49FA-B186-CF65D59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0EE-42F7-4EF1-867B-3519356D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EFD-3F43-4FD5-BD48-B17522A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8EC-1B3D-4007-89FE-571D740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5B3-A840-4656-9CB9-EB26500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347B-86D6-4573-B596-16D25E7069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74EE-63F2-4486-8771-AD9FBAA9CB6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5" descr="&amp;Gcy;&amp;dcy;&amp;iecy; &amp;zhcy;&amp;icy;&amp;vcy;&amp;iocy;&amp;tcy; &amp;Dcy;&amp;iecy;&amp;dcy; &amp;Mcy;&amp;ocy;&amp;rcy;&amp;ocy;&amp;zcy;?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395280" y="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дошкольное общеобразовательное учрежде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№12 п. Мирн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0" y="616572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: Комкова Ольга Викторовн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5275080"/>
            <a:ext cx="822636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2160" y="5950080"/>
            <a:ext cx="8959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Picture 10" descr="https://i.topinfoweb.com/img/voprosi/gde-zhivet-ded-moroz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5275080"/>
            <a:ext cx="822636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21" descr="http://www.rgo-sib.ru/reportage/264/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https://i.pinimg.com/originals/f3/8c/58/f38c58b723445d7554349dd209a7f814.png"/>
          <p:cNvPicPr/>
          <p:nvPr/>
        </p:nvPicPr>
        <p:blipFill>
          <a:blip r:embed="rId2"/>
          <a:stretch/>
        </p:blipFill>
        <p:spPr>
          <a:xfrm>
            <a:off x="5516640" y="2506680"/>
            <a:ext cx="36273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5133960"/>
            <a:ext cx="822636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10" descr="http://konkyrs.com/images/cms/data/vdm-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https://uskrd.ru/assets/cache/images/assets/galleries/108/p_2922460-1280x-0fb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https://35media.ru/static/editor/image/ad4b0a32-1a80-4c99-84c8-793b353d6d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5562360"/>
            <a:ext cx="822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54547a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50920" y="566100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14" descr="http://nachalo4ka.ru/wp-content/uploads/2014/11/zimnie-novogodnie-fony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0" descr="Рисунок2.jpg"/>
          <p:cNvPicPr/>
          <p:nvPr/>
        </p:nvPicPr>
        <p:blipFill>
          <a:blip r:embed="rId2"/>
          <a:stretch/>
        </p:blipFill>
        <p:spPr>
          <a:xfrm>
            <a:off x="1116000" y="260280"/>
            <a:ext cx="691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5205240"/>
            <a:ext cx="8226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7" descr="52504616_1260968533_dmpo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7" descr="ded-moroz-i-snegurochka"/>
          <p:cNvPicPr/>
          <p:nvPr/>
        </p:nvPicPr>
        <p:blipFill>
          <a:blip r:embed="rId1"/>
          <a:stretch/>
        </p:blipFill>
        <p:spPr>
          <a:xfrm>
            <a:off x="0" y="0"/>
            <a:ext cx="91454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7" descr="650e8b259f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5" descr="&amp;Scy; &amp;ncy;&amp;acy;&amp;scy;&amp;tcy;&amp;ucy;&amp;pcy;&amp;acy;&amp;yucy;&amp;shchcy;&amp;icy;&amp;mcy; &amp;Ncy;&amp;ocy;&amp;vcy;&amp;ycy;&amp;mcy; &amp;gcy;&amp;ocy;&amp;dcy;&amp;ocy;&amp;mcy;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https://st3.depositphotos.com/14677034/17706/v/950/depositphotos_177061246-stock-illustration-winter-blue-sky-with-fall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https://i.artfile.me/wallpaper/23-05-2016/1280x960/velikij-ustyug-goroda---pravoslavnye-cer-104137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http://s4.fotokto.ru/photo/full/123/1232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6105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308320" y="333360"/>
            <a:ext cx="45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a"/>
                </a:solidFill>
                <a:latin typeface="Arial"/>
              </a:rPr>
              <a:t>А са терем стоит далеко-далеко в бо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8" descr="https://startour.ru/img/tours/full/20/7d5d86e9-09ed-4f9b-a864-22401920c8d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732960"/>
            <a:ext cx="2676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8" descr="https://kid.travel/uploads/media/5b8dfd36121535.457587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8" descr="http://st.cherinfo.ru/pages/2011/12/20/ded-moroz-votch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5205240"/>
            <a:ext cx="8226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8" descr="http://www.mo43.ru/uploads/images/pics/content/school_tours/8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8" descr="https://mama-mama.ru/uploads/98738c4085a69601fee93a471dd169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5133960"/>
            <a:ext cx="822636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5597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99"/>
                </a:solidFill>
                <a:latin typeface="Arial"/>
              </a:rPr>
              <a:t>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Picture 8" descr="http://www.rusautotravel.ru/another/new_year07/dedmoroz/219_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6:18:50Z</dcterms:created>
  <dc:creator>Олег</dc:creator>
  <dc:description/>
  <dc:language>en-US</dc:language>
  <cp:lastModifiedBy>Ольга Викторовна</cp:lastModifiedBy>
  <dcterms:modified xsi:type="dcterms:W3CDTF">2020-01-10T14:54:04Z</dcterms:modified>
  <cp:revision>16</cp:revision>
  <dc:subject/>
  <dc:title>Слайд 1</dc:title>
</cp:coreProperties>
</file>