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C26-A74C-4963-9F5C-22ED177A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0C2-A6C2-4A29-92CA-7BA97B2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19302-5430-4B75-BEF9-F8CE369B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C150F-2023-49C1-A6A1-19D7248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8E87B-C5A4-42E1-9CF9-FF18907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00A86-5FBA-42A5-9327-BACFAA6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B18D5-4EF4-4892-BB53-A43264C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43F53-A658-4352-9342-4F07C92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6FA39-D1BA-4CF3-BCD3-7384656D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58FE8-A76B-4680-8372-1C8878A0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D02AA-5E60-4FD9-A1CB-862936DB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4F703-A48A-44FD-B37F-CE70C9CF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CFD-4504-41FD-AA09-338A102A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17931-EA75-44B0-BE9C-E1AE5166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38E57-F4B0-4A12-9BC9-4049C5A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5E6C9-31EA-4DA2-AEA4-91BCC4DB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7BA60-C4EF-4853-B308-29DAE728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2BF0-3769-40DE-8C13-4E23F6C0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BDB4E-257F-4542-9A16-603E58D8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3DEF4-7E23-4ECE-8528-1CE22EC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9CA97-75F7-4B3D-B204-60FA8D9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AA901-9D8B-4664-AF8C-E31DEEDC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9E660-EE88-4082-9303-BABC14F5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7C2-3CC6-4BC5-97D3-44C6DE96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48361-A21F-4D5E-A367-C766AB26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C3243-38A3-431C-A97C-7AC22A5E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9BC9-017A-487B-B276-08DBF801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B89E8-264D-451F-9A16-474AC938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8B097-1A8C-4B22-9F18-F8A6C73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C99CE-B73E-4C21-A121-ED31E698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06583-AB9D-466B-AC21-ED7BDFF7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16960-2914-4511-AEF3-624A28E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A19F6-CCF6-42C6-B20B-AEF1E633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C3DE-CCD0-498E-8169-213D095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6AE2-9948-4F5A-B8A0-FF386790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7BBF8-9596-41BD-B337-18D50ECB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CA97D-4DB6-4CDE-BB95-92A384CC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64C10-BF13-4A6B-B52A-28888FF9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73F36-C855-43E4-8EC8-0A7A0D08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7E688-6419-4DB4-956C-14084A36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AFD8D-EA87-432B-A2E2-CB97784B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72441-0F57-47D3-9AB9-CE4266B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8EB28-595E-41F8-A8B6-5FB2D978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5502B-57FF-4481-8144-65303FB1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4F489-6A93-44BE-8FD5-F85897B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094-4EF3-4844-BBD0-FD068070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F8520-29A8-407C-894B-CC2AAEF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99D8A-1BE6-4805-9269-27077CA6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9888C-8D4F-4229-8879-B003ACEA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A8E17-C0EC-48D7-B463-A8B4E6C2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27F60-8E59-4903-8951-9A4A410A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7E5CB-886F-4D7D-843C-744BFEC7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7E005-57EF-4DE2-92E1-3E916BD8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455D9-D3E8-47D3-8548-42D374FD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931D0-C1F4-4E9B-924E-5C3E675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7E93D-2317-4292-A10B-78E947C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F91D-D817-4279-B200-B337CA5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96CA2-C406-426E-A26A-D4474820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41E29-4A63-474C-9EE4-671049C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D2D49-F74B-4988-8F97-4253499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96AD7-D2AD-4B75-9A0F-230AFED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FB3AE-2DC8-44CA-838B-28C2501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A4C65-9CDE-4131-9AF5-E1FB2B92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EC1F0-5DD9-40D2-BB38-05E1AE42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FA6A5-131D-4C0E-A6B4-051D7316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F437E-466E-4B75-94EC-9FF0D86B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F751B-0078-4C0A-9E11-0F32965C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B283-243D-4949-AC5F-978AE0F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FACAD-ECD3-4265-AFAB-F91C7D6D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40128-07A3-4E2C-B1BD-9D573CA1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09CC3-B926-444C-9325-9445BEBC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D7015-CED7-4AE4-951B-928810FB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474D5-1DB4-42B6-8364-8C342B45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90BA7-E54A-4FD4-B631-CFEBFF9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C7559-CF9A-4F83-A720-518E11A2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12DB4-4A14-4A1A-8B49-D9199BA0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9017A-875B-49A9-972F-3A9F6D80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53981-2BB3-4B30-A075-4C4164B0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8909-D789-4BC8-B6D8-986664B8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7EA5D-0295-4E4B-B549-CAE5427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6E61A-CB9E-475C-B949-8ADCC229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4BE92-09AB-4E36-A30E-BABA478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06B95-CC69-48AD-8B71-4D2A3FB3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9B997-9D86-4900-A882-713B579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E3A59-5016-4A90-97F2-9D9D2D7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CA952-E4BB-439A-86C9-B6C3EB4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52F52-5882-4D2C-AB15-C971351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BA803-9CE3-4D62-846C-4EEA7EAF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8E2FE-4A9D-426E-A4C8-68C60574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E43A-BC21-48D6-946D-BBEF355A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7D74E-0D8B-4770-99FE-4DADD262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FA925-D875-467A-88DC-929DCE76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AE37B-E579-407D-A52D-4CAA2E7D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22C0E-4E4D-4DA8-91F0-2102F61A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16D0D-98D8-44AD-82CF-86F2EDED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93AD6-92A0-4ADE-8CE3-41346CEB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CBC47-8B89-40EA-829E-9DDB9850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E0AE2-6B72-4AFC-A8A9-F24BEAF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9FB8A-FCE9-4F7E-9A60-8FAC3E7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D5E50-C895-4957-869F-06B660F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5E72-107B-4057-8FD8-F12BD37D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6D027-25FF-4645-B48F-2BC860C7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1C79F-5EFE-41B0-92F4-B4561450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F57C3-8463-4132-84A6-1AAC12C8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E334E-915D-4843-BA8A-9814534A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961F9-3C45-4CD8-8346-C5F4D50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487DF-7618-4049-9D31-9938DD10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DA899-2501-492B-9C79-F3337CBC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3AE08-E959-436C-9617-852348CB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A0264-C8C2-44D5-9211-B5242BA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EADC2-40F8-4E4E-AD40-43418B9E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C32-88F1-4521-8633-E230717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4B5-BF47-4863-AC7B-0A31CBDB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C4357-C14E-407F-A910-2EC9A2B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5BE95-A74D-4BC8-98CA-4B79B99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C7E81-172E-4B50-93C1-4A1EBD28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35C16-91B8-4D64-912A-9A35483E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7AEB1-5CA6-4310-AF0A-4A98B904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7ECB-1000-4B54-96D3-AD95B0B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2BAD-3E5A-4B8A-8B19-ED6235DD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5754-62C9-435B-B263-A5C5BA2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BEE1-2653-4E4D-93B8-E27FA23B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20CD-680B-4B6E-9654-57E62039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3068-4C94-4DC2-93D3-14940D9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12B4-39FF-49B5-949D-DE65EF49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6FB2-88E4-4EB0-B4CE-FB0CD9DA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7D20-C870-404E-92D3-A0F42809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0AD-A3C8-4DED-AECE-48D11400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C9EA-8C8C-49FE-87F2-AD4CBDC8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5041-53C7-4663-92C3-692B1D1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72D2-2DEE-4A88-B01F-14F5F7C1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8A23-7B60-44C1-AB5C-D1584FE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FBAE-BD50-460E-A211-0163EA54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DDF1-0DE2-466E-91BA-CC85AABA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A360-9454-4AC4-8D54-42CB304E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8B34-A701-4F64-83CB-702CA21B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9FAF-2C8C-4B8F-AD37-A5381CDC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22BE-2B74-4CB4-9664-4675EB0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55B-6C15-4D2B-985A-387C626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1373-0CC9-4D8E-9800-4A40D20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6047-56A6-4C6A-9177-46DF736A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230F-5C41-41FD-8C42-0D151D95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78A2-1C8A-443C-9A92-417A43A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AA35-13AD-4449-95C0-5B2FC16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35F9-DC5E-4FA6-9E24-4805A4DC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F3AB-903F-4E24-8301-645F1BF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23E0-8ADA-402E-BCA3-D924984A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8F70-1235-4899-8D52-0039A6C1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4990-60E6-49F2-9F65-6F5A38AE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778-AB5E-4342-A7AB-7E0B58F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EC31-97DD-46CD-B88A-D05E396D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E656-64A5-4908-833C-17A04797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72159-E521-4B93-9B1F-2E8F6524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B2DE-CB86-42C0-8A24-2537919F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2F78-17AD-48D4-87AB-39EA1AF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70FB-00D1-4F99-B8C7-B6D656B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859B-FBD4-4CDB-A830-5EC2442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7592-3E83-451D-9648-D517707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575D-1572-4C8D-AF4E-E7552DCE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A677C-46C3-4B78-BF57-D70635C3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593-760E-4617-90D5-83EA253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A4E68-1398-4559-9477-BE589A45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0B52-718F-41EF-B17B-A85BE392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A3A5-3C02-4B22-9A1A-4CF4C4D2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745A0-9624-450B-860E-93C1CDA2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54BF-20D4-48EC-BFD6-A5BF5EF5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112EA-5FF2-4EE9-BAA0-49048BC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528A-C6F1-494D-B860-73EB0D8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C2EF-ADD7-4A97-A2CF-C486F1F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C10A-C178-47D9-A602-3BFEDDF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43F57-4A70-4A44-A170-53D0B30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86E-43C0-4AC4-B5B9-D0D2E90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19079-F20B-4897-B199-6C88BC7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35EE-0FFD-4919-9AA1-A93AC4C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4106-C9F3-465F-AF14-5FBCF8DB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DE88-3EAE-4357-A572-72439FD2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4FAB7-375F-438B-9964-38E7DEAB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B2E47-D8ED-41D8-8AEC-3430CBFD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0DD10-C89B-4CA9-B64C-DA5A3D92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9EDA-6F3F-4309-94EF-A96F732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1F08A-AD09-4837-993A-8EACC27F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C52B2-4132-417E-AD89-FE3C4E1C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A40-D56E-4A4C-BE8E-33FD661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A5BE4-2766-4B88-BC2E-4DEF405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7567-2928-4351-8ABA-EEE3D9F3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7974-08E3-4299-9FFB-028A14D0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83D8-7291-43BE-98D8-01363032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37EFE-9EBD-4228-9159-6BF0BA22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9A266-8AFC-442B-ABB3-4395295D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E650-E15C-486D-AE84-D429618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7B5F-0C1D-438D-AA22-388E1C3E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8B8E2-FBDD-456B-B9D4-81660109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E7B9-E3C5-43AB-90D3-8EB8C230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D82-6965-4D28-A426-619E1CD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7F98D-4B12-4EBB-A4CF-4D502954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BCC69-D262-4F57-9EA6-4EAE4F8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E6D2E-A031-43F1-A259-E2BCFB5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E7F9-FBCF-4FA4-89D6-4D2C3A2C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E10A-7A2C-4E89-B1A5-F55D9846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DF8F5-9A10-492D-8E02-1C9104F3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23D95-B502-44CC-8D24-EFA4E55F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4968C-229C-4892-8515-050ED41D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F4ACA-0F09-45B1-AE06-A8D682C3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4794B-1D8D-4AD5-A9E1-6CD4385F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8366-7189-4409-8531-577C0DD15C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236-7AE1-43E7-B6A9-4D017F23EE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5E6-B2F2-4902-B5B2-CF32305B51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F75A-12B6-429E-BEE1-6E788AF447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896-9807-4B07-B828-920BF4221D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5D12-5B1F-4732-8FC0-6A97B4A21B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FF8E-3196-4FD8-92AB-CC058AE6879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0D1E-323A-46BB-A8C6-5F874EA1EF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361-4106-44B7-A2EC-DD2E178A9F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08F4-5AAA-45AE-85C2-747EDE143E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2384-D68A-4707-A5E8-CCDBCC0EB2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0B4-BC6E-4E16-9B92-6908BD4E5C5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5423-09E6-44DC-8305-7FE8CDE7E7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6ED-3CD3-40F3-AFB0-7391622B89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C6FC-D1DE-4CC7-A35E-5CC0FCEA18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D135-AED8-4BF3-BE64-FBB3CB9E56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D787-D51A-4183-A68A-19D404CC16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55480" y="390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262626"/>
                </a:solidFill>
                <a:latin typeface="Century Gothic"/>
              </a:rPr>
              <a:t>Презентация на тему </a:t>
            </a:r>
            <a:br>
              <a:rPr sz="7200"/>
            </a:br>
            <a:r>
              <a:rPr b="1" lang="ru-RU" sz="7200" spc="-1" strike="noStrike">
                <a:solidFill>
                  <a:srgbClr val="262626"/>
                </a:solidFill>
                <a:latin typeface="Century Gothic"/>
              </a:rPr>
              <a:t>«Как подготовить ученика к написанию ВПР по географии»</a:t>
            </a:r>
            <a:br>
              <a:rPr sz="7200"/>
            </a:b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838080" y="4984560"/>
            <a:ext cx="10515600" cy="11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ила: учитель географи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БОУ «СОШ № 41 им. В.В. Сизова г. Курск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.В. Бондаренк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Что такое ВПР? Для чего нужна данная работа?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ими вопросами задаются учителя всех предметов и школ. Вокруг них ведётся много споров: нужны – не нужны, можно ли без них обойтись, и вообще, что это такое. Как понять, готов ли ваш ребенок к проверке? Как лучше подготовить ученика к проверочным работам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1" name="Рисунок 4" descr=""/>
          <p:cNvPicPr/>
          <p:nvPr/>
        </p:nvPicPr>
        <p:blipFill>
          <a:blip r:embed="rId1"/>
          <a:stretch/>
        </p:blipFill>
        <p:spPr>
          <a:xfrm>
            <a:off x="3863880" y="3390840"/>
            <a:ext cx="5104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Century Gothic"/>
              </a:rPr>
              <a:t>Чем</a:t>
            </a:r>
            <a:r>
              <a:rPr b="0" i="1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i="1" lang="ru-RU" sz="3600" spc="-1" strike="noStrike">
                <a:solidFill>
                  <a:srgbClr val="262626"/>
                </a:solidFill>
                <a:latin typeface="Century Gothic"/>
              </a:rPr>
              <a:t>ВПР отличается от школьных контрольных работ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-первых, это единые для всей страны задания – так больше возможности отследить уровень знаний в каждой конкретной школе и в регионе в цело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-вторых, это единые требования к процедуре проведения работы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-третьих, использование современных технологий позволяет обеспечить практически одновременное выполнение работ школьниками всей страны. Тексты для контрольных работ разрабатываются на федеральном уровне под руководством Федеральной службы по надзору в сфере образования и науки на основе федеральных государственных образовательных стандарт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79388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Проведение ВПР направлено на помощь обучающимся, их родителям и школе, с тем чтобы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явить сильные и слабые места в преподавании предмета и скорректировать процесс обучения (в частности, с целью работы с отстающими обучающимися)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ланировать обучение педагогов на курсах повышения квалификаци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зволить детям избежать лишних стрессов на ГИА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пределить учителю и родителю образовательную траекторию ребенка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пределить, на каком реальном образовательном уровне по отношению к требованиям ФГОС находится школа, класс и ребенок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Что дают ВПР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ециалисты утверждают, что ежегодное проведение ВПР в результате позволит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сихологически подготовить учащихся к ГИА и ЕГЭ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пределить количество и уровень знаний, которые были получены в течение пройденного года обуч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аст стимул к систематическим занятиям в течение всех лет обучения, а не только в выпускных класса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удут видны недостатки учебной программы по проверяемым предмета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одители будут в курсе уровня знаний своего ребён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аст возможность улучшить общую систему обуч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2588760" y="2133360"/>
            <a:ext cx="89154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7T08:08:27Z</dcterms:created>
  <dc:creator>Владислав</dc:creator>
  <dc:description/>
  <dc:language>en-US</dc:language>
  <cp:lastModifiedBy>Владислав</cp:lastModifiedBy>
  <dcterms:modified xsi:type="dcterms:W3CDTF">2019-11-17T08:57:49Z</dcterms:modified>
  <cp:revision>4</cp:revision>
  <dc:subject/>
  <dc:title>Презентация на тему  «Как подготовить ученика к написанию ВПР по географии»</dc:title>
</cp:coreProperties>
</file>