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4619-7B0B-4952-8220-075A04B6EA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произнести фразу громко, тихо, требовательно,грустно, с обидой и так да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5582-90DD-436A-A222-C99F8C02438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кова, которая не принесет монет, а сделает Ваше сердце золотым. Игра «Комплименты». С помощью  волшебного цветка каждый ребенок (группа) получает задание, отрывая лепес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0B84-93E9-4618-A38A-37347D21D40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онная игрушка (младший дошкольный возраст, дети ОВЗ, застенчивые дети). От лица Антошки рассказывать интереснее. Помогает неуверенным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E1D7-9171-4993-97FF-A9140E7A8C1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ям предлагается  угадать, что в ящике? Таким образом подвести к теме недели,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AC81-A41E-44A7-BAA8-86D8E399828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хвали себя, если есть за что». Подходит для мотивации к анализу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CCF4-BBC5-4774-88E3-206E7E871B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екрет, что маленького ребенка трудно привлечь  от собственной игры  к организованным видам деятельности.  Особенно трудно сделать так, что бы ему стало интересно. Часто воспитатели применяют однообразные методы (пришло письмо, прислали задан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EC58-DD0F-48FC-938B-C6F24B67032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ая коробка с прорезями по бокам с укрепленными рукавами. Игроку предлагается опустить руки, обследуя предмет  описать предмет, высказывать вслух все ощущения и пред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FD45-857B-4C26-8868-D7B5189FC91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ам демонстрируется необычный предмет или его изображение (картинка, фотография). Каждый по порядку отвечает на вопрос и высказывает свои предложения. С условием не повторя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11AE-0776-4714-B144-9DD82C51865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ломки для развития креативности. Основой является клякса или каракули. Незаконченная картинка которую надо додумать или дорис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275C-D088-4169-AA44-54E7BA18D9D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стимуляции речевой активности и самостоятельности. Трудно скороговорить? С нашим башмачком любое дело по плеч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FAB0-92F5-46C2-99A4-E47C5F09671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той шапкой  ребенок  становится  увереннее в себе, лучше сосредотачивается на зад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EC44-C162-4EDF-B9BC-1E390B6E711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ор для разучивания стихов. Его можно придумать  и сконструировать вместе с детьми, а затем использ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ADDF-9456-4A21-9660-E9118E610E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почке  вспомнить по слову стихотворение, которое  учили предварительно и оно подскажет  тему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хвастайся соседом», «Капелька добра» такие упражнения можно провести с микрофоном. Стимулирует речевую активность, умение выражать свои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F1BD-A3DF-4E53-BCBB-C6ABCCE407A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9CB-511F-46F4-927E-4BBCE48A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A79-CB16-4A31-B50A-D74DCB0F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E39-919A-4084-A9B4-3280636C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410-8B4D-47A6-AC5A-36CE8E64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887-5CED-439E-B0E9-D14BE30C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3D4-2C0E-4FC6-8E8D-89ABA766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E94-1123-4941-8BBF-7C357B96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42B-63EB-4019-953B-B18E5905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DD6-DA80-49F6-B40C-5E1DC0D9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E09-2B87-492A-9653-8B3EA0F0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B29-EE92-4E22-9223-87691C7B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CEC-B9A3-41D8-A3D4-0D18A7B2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670E-C576-4171-A8DF-989011D616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18920" y="732960"/>
            <a:ext cx="68403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Comic Sans MS"/>
              </a:rPr>
              <a:t>СОЗДАНИЕ ИГРОВОЙ МОТИВАЦИИ</a:t>
            </a:r>
            <a:br>
              <a:rPr sz="2400"/>
            </a:br>
            <a:r>
              <a:rPr b="1" lang="ru-RU" sz="2400" spc="-1" strike="noStrike">
                <a:solidFill>
                  <a:srgbClr val="262673"/>
                </a:solidFill>
                <a:latin typeface="Comic Sans MS"/>
              </a:rPr>
              <a:t>для детей дошкольного возраста в различных видах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Наталья Павловна  Лугов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1042920" y="549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Users\Сергей\Pictures\ярко.jpg"/>
          <p:cNvPicPr/>
          <p:nvPr/>
        </p:nvPicPr>
        <p:blipFill>
          <a:blip r:embed="rId1"/>
          <a:stretch/>
        </p:blipFill>
        <p:spPr>
          <a:xfrm>
            <a:off x="2843280" y="2068560"/>
            <a:ext cx="43210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80920" y="1052280"/>
            <a:ext cx="779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Упражнение «Каждый артис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C:\Users\Сергей\Pictures\игра 3.jpg"/>
          <p:cNvPicPr/>
          <p:nvPr/>
        </p:nvPicPr>
        <p:blipFill>
          <a:blip r:embed="rId1"/>
          <a:stretch/>
        </p:blipFill>
        <p:spPr>
          <a:xfrm>
            <a:off x="2459160" y="1450800"/>
            <a:ext cx="551952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0880" y="692280"/>
            <a:ext cx="7718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«Серебряное копытце»            « Волшебный цвето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C:\Users\Сергей\Pictures\подкова.jpeg"/>
          <p:cNvPicPr/>
          <p:nvPr/>
        </p:nvPicPr>
        <p:blipFill>
          <a:blip r:embed="rId1"/>
          <a:stretch/>
        </p:blipFill>
        <p:spPr>
          <a:xfrm>
            <a:off x="1692360" y="2158920"/>
            <a:ext cx="341604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Сергей\Pictures\цвет.jpg"/>
          <p:cNvPicPr/>
          <p:nvPr/>
        </p:nvPicPr>
        <p:blipFill>
          <a:blip r:embed="rId2"/>
          <a:stretch/>
        </p:blipFill>
        <p:spPr>
          <a:xfrm>
            <a:off x="5445000" y="2158920"/>
            <a:ext cx="3213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4"/>
          <p:cNvSpPr/>
          <p:nvPr/>
        </p:nvSpPr>
        <p:spPr>
          <a:xfrm>
            <a:off x="1403280" y="1052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2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22200" y="764640"/>
            <a:ext cx="74995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1258920" y="1422360"/>
            <a:ext cx="7612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«Веселый Антош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C:\Users\Сергей\Pictures\кукла.jpg"/>
          <p:cNvPicPr/>
          <p:nvPr/>
        </p:nvPicPr>
        <p:blipFill>
          <a:blip r:embed="rId1"/>
          <a:stretch/>
        </p:blipFill>
        <p:spPr>
          <a:xfrm>
            <a:off x="4500720" y="1365120"/>
            <a:ext cx="37432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«Черный  ящи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C:\Users\Сергей\Pictures\черный.jpg"/>
          <p:cNvPicPr/>
          <p:nvPr/>
        </p:nvPicPr>
        <p:blipFill>
          <a:blip r:embed="rId1"/>
          <a:stretch/>
        </p:blipFill>
        <p:spPr>
          <a:xfrm>
            <a:off x="3851280" y="1773360"/>
            <a:ext cx="3889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1840" y="260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834920" y="1197000"/>
            <a:ext cx="655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«Фонтан успеш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C:\Users\Сергей\Pictures\фонтан.jpg"/>
          <p:cNvPicPr/>
          <p:nvPr/>
        </p:nvPicPr>
        <p:blipFill>
          <a:blip r:embed="rId1"/>
          <a:stretch/>
        </p:blipFill>
        <p:spPr>
          <a:xfrm>
            <a:off x="2411280" y="1741320"/>
            <a:ext cx="576108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entury Gothic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Содержимое 6" descr="5436орл.jpg"/>
          <p:cNvPicPr/>
          <p:nvPr/>
        </p:nvPicPr>
        <p:blipFill>
          <a:blip r:embed="rId1"/>
          <a:stretch/>
        </p:blipFill>
        <p:spPr>
          <a:xfrm>
            <a:off x="2700360" y="1341360"/>
            <a:ext cx="452268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7570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omic Sans MS"/>
              </a:rPr>
              <a:t>Типы  игровой мотивации дошкольни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56000" y="220464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Comic Sans MS"/>
              </a:rPr>
              <a:t>«Помоги игрушк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Comic Sans MS"/>
              </a:rPr>
              <a:t>«Помоги мн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Comic Sans MS"/>
              </a:rPr>
              <a:t>«Научи мен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Comic Sans MS"/>
              </a:rPr>
              <a:t>«Создание предметов своими руками для себ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  <a:ea typeface="Aharoni"/>
              </a:rPr>
              <a:t>Варианты мотив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42920" y="1125000"/>
            <a:ext cx="741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 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262673"/>
                </a:solidFill>
                <a:latin typeface="Comic Sans MS"/>
              </a:rPr>
              <a:t>Ящик ощущений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396072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Сергей\Pictures\ч м.jpg"/>
          <p:cNvPicPr/>
          <p:nvPr/>
        </p:nvPicPr>
        <p:blipFill>
          <a:blip r:embed="rId2"/>
          <a:stretch/>
        </p:blipFill>
        <p:spPr>
          <a:xfrm>
            <a:off x="4932360" y="3441600"/>
            <a:ext cx="3203640" cy="2394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5435640" y="1989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Comic Sans MS"/>
              </a:rPr>
              <a:t>«Чудесный мешоче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18920" y="981000"/>
            <a:ext cx="67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Comic Sans MS"/>
              </a:rPr>
              <a:t>Тренинг «Что? Откуда? Ка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C:\Users\Сергей\Desktop\тапки.jpg"/>
          <p:cNvPicPr/>
          <p:nvPr/>
        </p:nvPicPr>
        <p:blipFill>
          <a:blip r:embed="rId1"/>
          <a:stretch/>
        </p:blipFill>
        <p:spPr>
          <a:xfrm>
            <a:off x="1943280" y="1484280"/>
            <a:ext cx="280800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Сергей\Desktop\сбор.jpg"/>
          <p:cNvPicPr/>
          <p:nvPr/>
        </p:nvPicPr>
        <p:blipFill>
          <a:blip r:embed="rId2"/>
          <a:stretch/>
        </p:blipFill>
        <p:spPr>
          <a:xfrm>
            <a:off x="3708360" y="3357720"/>
            <a:ext cx="4241880" cy="23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7151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280" y="1268280"/>
            <a:ext cx="77151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«Карты-друд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C:\Users\Сергей\Pictures\кляксики.jpg"/>
          <p:cNvPicPr/>
          <p:nvPr/>
        </p:nvPicPr>
        <p:blipFill>
          <a:blip r:embed="rId1"/>
          <a:stretch/>
        </p:blipFill>
        <p:spPr>
          <a:xfrm>
            <a:off x="2484360" y="3537000"/>
            <a:ext cx="3573720" cy="268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Сергей\Pictures\клякса.jpg"/>
          <p:cNvPicPr/>
          <p:nvPr/>
        </p:nvPicPr>
        <p:blipFill>
          <a:blip r:embed="rId2"/>
          <a:stretch/>
        </p:blipFill>
        <p:spPr>
          <a:xfrm>
            <a:off x="4510080" y="1700280"/>
            <a:ext cx="3691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30320" y="899640"/>
            <a:ext cx="655344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«Башмачок скорогово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C:\Users\Сергей\Pictures\башма.jpg"/>
          <p:cNvPicPr/>
          <p:nvPr/>
        </p:nvPicPr>
        <p:blipFill>
          <a:blip r:embed="rId1"/>
          <a:stretch/>
        </p:blipFill>
        <p:spPr>
          <a:xfrm>
            <a:off x="2305080" y="1557360"/>
            <a:ext cx="2411280" cy="240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Сергей\Pictures\кросы.jpg"/>
          <p:cNvPicPr/>
          <p:nvPr/>
        </p:nvPicPr>
        <p:blipFill>
          <a:blip r:embed="rId2"/>
          <a:stretch/>
        </p:blipFill>
        <p:spPr>
          <a:xfrm>
            <a:off x="4954680" y="2924280"/>
            <a:ext cx="31305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1280" y="1052280"/>
            <a:ext cx="77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«Шапка-размышлял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C:\Users\Сергей\Pictures\шапка.jpg"/>
          <p:cNvPicPr/>
          <p:nvPr/>
        </p:nvPicPr>
        <p:blipFill>
          <a:blip r:embed="rId1"/>
          <a:stretch/>
        </p:blipFill>
        <p:spPr>
          <a:xfrm>
            <a:off x="5796000" y="2924280"/>
            <a:ext cx="2193840" cy="273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Сергей\Pictures\ш 2.jpg"/>
          <p:cNvPicPr/>
          <p:nvPr/>
        </p:nvPicPr>
        <p:blipFill>
          <a:blip r:embed="rId2"/>
          <a:stretch/>
        </p:blipFill>
        <p:spPr>
          <a:xfrm>
            <a:off x="2124000" y="1773360"/>
            <a:ext cx="31226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42920" y="1052640"/>
            <a:ext cx="78501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«Борматограф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Users\Сергей\Pictures\незнайка.jpg"/>
          <p:cNvPicPr/>
          <p:nvPr/>
        </p:nvPicPr>
        <p:blipFill>
          <a:blip r:embed="rId1"/>
          <a:stretch/>
        </p:blipFill>
        <p:spPr>
          <a:xfrm>
            <a:off x="1509840" y="1703520"/>
            <a:ext cx="3649680" cy="27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Сергей\Pictures\коробка.jpg"/>
          <p:cNvPicPr/>
          <p:nvPr/>
        </p:nvPicPr>
        <p:blipFill>
          <a:blip r:embed="rId2"/>
          <a:stretch/>
        </p:blipFill>
        <p:spPr>
          <a:xfrm>
            <a:off x="4818240" y="3500280"/>
            <a:ext cx="33778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Comic Sans MS"/>
              </a:rPr>
              <a:t>Варианты мотив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32000" y="980640"/>
            <a:ext cx="720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Тренинг «Художественное слов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                                 </a:t>
            </a:r>
            <a:r>
              <a:rPr b="0" lang="ru-RU" sz="2400" spc="-1" strike="noStrike">
                <a:solidFill>
                  <a:srgbClr val="262673"/>
                </a:solidFill>
                <a:latin typeface="Comic Sans MS"/>
              </a:rPr>
              <a:t>«Волшебный микрофон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:\Users\Сергей\Desktop\тренинг.jpg"/>
          <p:cNvPicPr/>
          <p:nvPr/>
        </p:nvPicPr>
        <p:blipFill>
          <a:blip r:embed="rId1"/>
          <a:stretch/>
        </p:blipFill>
        <p:spPr>
          <a:xfrm>
            <a:off x="1619280" y="1365120"/>
            <a:ext cx="3736800" cy="253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Сергей\Pictures\микрофон.jpg"/>
          <p:cNvPicPr/>
          <p:nvPr/>
        </p:nvPicPr>
        <p:blipFill>
          <a:blip r:embed="rId2"/>
          <a:stretch/>
        </p:blipFill>
        <p:spPr>
          <a:xfrm>
            <a:off x="5364000" y="4586400"/>
            <a:ext cx="2198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Сергей</cp:lastModifiedBy>
  <dcterms:modified xsi:type="dcterms:W3CDTF">2020-01-10T13:11:48Z</dcterms:modified>
  <cp:revision>184</cp:revision>
  <dc:subject/>
  <dc:title>Слайд 1</dc:title>
</cp:coreProperties>
</file>