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3C6-8652-4508-ACEE-8F615020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EF8-A291-4D69-AFA5-AC9F88EF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18E-92C9-4C9D-AB18-76234629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7C2-DD72-458C-A26B-C721FF70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8AB-D2D4-422B-900B-299EC5D0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902-435C-4B20-9B08-8B43342E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E8A-807C-49F0-9874-C65105FA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E99-2E64-4FB7-A770-DF5E79CC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86E-5A02-4E56-8BD6-7B3E9CC3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65E-5F4E-4FD7-B8AC-50BC77B2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30E-773E-4BF1-9F72-24EB46E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36E-AECB-446D-91B6-872B448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F102-16FC-466C-823D-B668E3D44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42960" y="1000080"/>
            <a:ext cx="55720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Театрализованная деятельность  как средства развитие речи  у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500040" y="285840"/>
            <a:ext cx="6072120" cy="67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Ритмопл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Культура и техник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дачи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речевое дыхание и правильною артикуляцию, че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500040" y="642960"/>
            <a:ext cx="58579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Основы театраль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Работа над спектак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ь, радость, удивление, восхищение, зл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85840" y="642960"/>
            <a:ext cx="635796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театрализованной деятельности дети принимают активное участие и проявляют позитивное отношение к игровому процессу, самостоятельно пытаются распределять роли и проговаривают слова персонажа. Перед началом игры сами предлагают воспитателю на выбор игру-театр, с удовольствием могут взять инициативу в свои руки. В процессе у них развивается речь, мышление, внимание, память и воображение, а также помогает снять чувство стеснения и закомплексов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143000" y="2571840"/>
            <a:ext cx="49291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642960" y="1357200"/>
            <a:ext cx="5857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временном обществе почти все дети увлечены компьютерами и другими новомодными игрушками, которыми родители стараются заменить сверстников, ограждая ребенка от неприятностей, так же этим взрослые стараются заполнить отсутствие их участия в развитии ребенка, без которого невозможно полноценное психологическое и социально-эмоциональное развити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вязи с этим возникает еще одна проблема, волнующая педагогов – это страхи, заторможенность, замкнутость, проблемы социально-коммуникативного общения и поведения в коллективе,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571680" y="857160"/>
            <a:ext cx="57862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ый короткий путь эмоционального раскрепощения и снятия зажатости ребенка, а также обучение художественному воображению и развитию чувственности – это путь через игру, фантазирование и сочини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атрализованная деятельность – решение данных проблем.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642960" y="857160"/>
            <a:ext cx="57150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 педагогической деятельности – развитие творческих способностей детей дошкольного возраста средствами театрал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57120" y="857160"/>
            <a:ext cx="621504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устойчивый интерес к театрально – игр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воображение, фантазию, внимание, самостоятельность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ершенствовать игровые навыки творческую самостоятельность через театрализованные игры, развивающие творческие способности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огащать и активизировать слов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диалогическую и монологическ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ывать гуманные чувства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285840" y="1071720"/>
            <a:ext cx="657216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Формы работы с дет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пров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сценировки и драма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сказ воспитателя, рассказ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воспит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ы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смотр мультфиль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учивание произведений устного народн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овесные, настольные и 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нтомимические этюды и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500040" y="642960"/>
            <a:ext cx="585792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1428840"/>
            <a:ext cx="66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етоды и приемы театрализова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нципы проведения театрализованной деятель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глядность в обучени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осуществляется на восприятии наглядного материала (иллюстрации, видеоматериалы, экскурсии в театр, музыкальные фрагменты, театрализованные спектакли педагогов детск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ступн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театрализованная деятельность детей составлена с учетом возрастных особенностей, построена по принципу дидактики (от простого к сложн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блемнос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направлена на поиск разрешения проблем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285840" y="1214280"/>
            <a:ext cx="628632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Формы организации театрализова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остоятельная театрально-художественная деятельность, театрализованные игры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ds03.infourok.ru/uploads/ex/0338/00058177-0bd382a9/hello_html_3a37b215.jpg"/>
          <p:cNvPicPr/>
          <p:nvPr/>
        </p:nvPicPr>
        <p:blipFill>
          <a:blip r:embed="rId1"/>
          <a:stretch/>
        </p:blipFill>
        <p:spPr>
          <a:xfrm>
            <a:off x="0" y="38160"/>
            <a:ext cx="6858000" cy="91058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500040" y="642960"/>
            <a:ext cx="58579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сновные направления работы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Театраль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Учить детей ориентироваться в пространстве, равномерно размещаться по площадке, строить диалог с партне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ку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2:44:45Z</dcterms:created>
  <dc:creator>Samsung</dc:creator>
  <dc:description/>
  <dc:language>en-US</dc:language>
  <cp:lastModifiedBy>Samsung</cp:lastModifiedBy>
  <dcterms:modified xsi:type="dcterms:W3CDTF">2018-02-25T17:44:14Z</dcterms:modified>
  <cp:revision>19</cp:revision>
  <dc:subject/>
  <dc:title>Слайд 1</dc:title>
</cp:coreProperties>
</file>