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33A-E0ED-4551-84BE-547B7F507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986A-AE22-4432-91F2-88892CEE3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319DE-83F4-489F-B86C-BAF10908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02313E-848D-4A8C-9856-693771A9D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132A69-51EC-42F6-B152-80BFEE70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8E21E-C0AC-4EEF-8E6E-4B708957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7FF40-4B93-4550-9B67-F64B7C0BF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8F6EAD-2A7B-4426-8A7D-7DAF66E8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FDE5FA-2D6F-471E-918B-68373824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77E0E0-202C-47D9-847D-3AB60C0B0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6FB980-8BE3-459F-AB8C-771FAB63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F53-8A60-4C93-BECE-2FF731A2B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C6CC-0FA6-48CA-80DB-BF80F553E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4582-4CC1-4AB6-A8CB-E413FF12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4BA1D-9BA3-45A8-8E98-A2FD2BC11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06AE-7C2D-459C-9479-24688200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7996-F6F8-4F98-ACF9-D498B458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D0C2-A5CB-4C35-8B24-3A6FBDCBB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BA54-4CC2-49CF-A831-972271184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8B4A-42A0-4F12-B3F3-9681A35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D99E-38EC-40F8-8039-668F634E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6AF6-C0F6-4520-80C5-7532561D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065A-4300-4FEA-B7C3-C112D35ED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FD09D-C19B-415D-AF4F-F3073B1F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FDBA-F244-445A-8233-F99E1480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9DF67-C862-4CE1-8F17-19EE8D9D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85447B-E8FF-4705-956E-5D8024900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1AA4D-E116-4CEC-842E-9640E5AF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D48BB-6D97-419A-B378-72CF1A5B8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0FD11-668E-4358-9807-E067B49E8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96492-351B-4803-8FDE-1401969C7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0D2C-E517-483D-A59D-FAB16C954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6B6C4F-E50D-4AD5-8BDD-6E298D2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D1AF9-4198-437E-9052-23366820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BEC1A-1156-434B-958B-E95BAA882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5590-E11D-44CD-B760-25609DD11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7D67-8A59-4371-90C5-B1593AC7D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0DE5A-1C5C-441F-BC83-D1F160BC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22C508-93CC-4E98-A3A3-23B12F56A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10946-90CB-4974-A560-A8FC3807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5F89B-54E2-4BB3-ABA1-B9104BDE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49489-0FAF-4678-95E1-C27A68B1E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B701-7117-40CE-B6BA-EA2453ED5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1311D-732D-40B9-AE5C-42A5E55E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2EA78-EB55-47AA-90D8-BB835531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4D60AF-C0A5-4029-AE59-A9663CA11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9E95D-E10B-4FDB-83ED-7F391FB5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8DA746-BC8A-466E-B4A0-74FAC339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2FB95-6117-48B8-B9D4-C860FF954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6113D7-958E-4012-9C1C-08FDB6A21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D13A1-69D5-46E3-8A6F-48E24FE28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7E70A-6CCF-4D47-97B1-900174EBA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680587-21DB-4690-BCE2-C9D5A1EA7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8B27-1979-4640-90BD-ECB443B32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63615B-0A0C-4D95-B92E-CE6F4B3E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1DB2E-556B-449A-A991-F27F2C60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D2D14-6C43-48D5-AB2C-09DF50C1C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C052B-F983-4B49-9F9B-E94F13CA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66BD0E-65F0-41FF-BDB7-C0D3ACE7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B79EAD-4641-4F96-A3C7-61F266A9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13FD-558A-4472-857D-2E431863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D18C4-BD20-4231-A32C-C44D723F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06962-A199-47F6-8AFC-6E94C4D9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E187D-D35B-4D44-8747-EAFBC87BA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E0FA-7D76-4A20-8241-D1FB7965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9B69B-B38F-4DF1-BF15-5F66A5002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4E7F0-A284-4C03-9E60-7CAD0F17C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D56050-4DE5-47F5-B0A8-9B063382A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DBF28-F95E-47E7-9C80-F83B0EE19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4BAD1-5A73-4022-AC03-8B90B5D7F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CA3625-B852-4621-9D10-34EC26CF0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67D87-67C8-4F1D-AC44-6F46EC6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0C6CA-B9C7-41A9-AE5F-F60E5E316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43952-9512-4305-B58C-590F391D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D5097-73A9-4D99-8CBD-F5C03D75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5B70-8DFB-4F59-B383-DC7101E0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DFB77-B5FA-45E1-A177-DB44468A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220C4-1C4D-495B-B6B9-FE8895D5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97D203-8DC7-4164-A6BC-F231211A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8DB6F1-3F16-4AC1-AEF7-F63F7362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4BDA53-7796-4565-AE82-4B6519A2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514C3A-55CC-4AA1-9AA6-5BC83F31D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648B1-8D6E-42EB-9CCB-2C00CB04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1D9B6-3F4D-4D44-855C-2770EDCF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D7919F-29F9-40E8-A915-2C853C53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5404A-3A71-4565-B25F-C79DDBE8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2051-CEB9-4946-92E4-542A983F7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5D051D-95C4-4426-94F5-8318FF10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82C77-9B85-44EE-B79B-A61968C9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B6A719-09DC-4147-8CBD-66AEF0CBA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06F9A-B12F-48A3-9BEE-96E328E02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147D35-378E-4D0C-9CB0-2B380CFB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991A1-90D9-449D-A2D2-575D8887E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1C388-258A-44F3-B3A4-1954C3D51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17CBC-2F92-4985-95F7-646B01A9E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8E2F7B-5249-48E6-98D9-275F2EBB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2B3EC-4B64-495D-BBF3-9F10ADDD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214F-5E36-42F4-A2E4-3F4FD6216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F132C5-2F98-4EEA-9B02-8469597E0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753F9-EAEC-4278-B405-09D92BB9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CEC88-67BF-4D6D-AEBE-4ED87BA5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DE2A3-8EC8-4CA2-BA6B-7856E7F9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A01113-C232-469D-914B-71D6E28EE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98B98B-1B49-4204-AAC1-B14FDA0B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8E8B1C-88BF-4845-9595-EC5EDC82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83EE00-F3CF-49F1-B158-328761E9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6991C-E406-4CBA-AEC8-A6F26D17C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17653-A8F4-44FA-A7F0-1AFA86635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3CC1-7208-4EBB-A069-08550DABE52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BAAA-1949-4C82-9546-6D1D764F040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C4FF1-C120-45F6-BF9E-335EE65459B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D0D0-CC01-435C-AE02-7E804DAD8D5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41027-FD72-4E91-8307-F5AA928B279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E8C3-E600-4E78-A28D-52EC259FA7E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6996-1AC6-42E3-B878-FA47553BD29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C4E4-0C0B-4482-8F2D-73A76BB7FE0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AE70-18FC-44FF-9F01-E9AE8482DAF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4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Text Box 3"/>
          <p:cNvSpPr/>
          <p:nvPr/>
        </p:nvSpPr>
        <p:spPr>
          <a:xfrm>
            <a:off x="1334160" y="5734080"/>
            <a:ext cx="703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00"/>
                </a:solidFill>
                <a:latin typeface="Arial"/>
              </a:rPr>
              <a:t>ДОБРО ПОЖАЛОВАТЬ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3" descr="Рисунок10"/>
          <p:cNvPicPr/>
          <p:nvPr/>
        </p:nvPicPr>
        <p:blipFill>
          <a:blip r:embed="rId1"/>
          <a:stretch/>
        </p:blipFill>
        <p:spPr>
          <a:xfrm>
            <a:off x="1619280" y="189000"/>
            <a:ext cx="5559480" cy="65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7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5" descr="Рисунок12"/>
          <p:cNvPicPr/>
          <p:nvPr/>
        </p:nvPicPr>
        <p:blipFill>
          <a:blip r:embed="rId1"/>
          <a:stretch/>
        </p:blipFill>
        <p:spPr>
          <a:xfrm>
            <a:off x="4572000" y="189000"/>
            <a:ext cx="4359240" cy="32796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6" descr="Рисунок11"/>
          <p:cNvPicPr/>
          <p:nvPr/>
        </p:nvPicPr>
        <p:blipFill>
          <a:blip r:embed="rId2"/>
          <a:stretch/>
        </p:blipFill>
        <p:spPr>
          <a:xfrm>
            <a:off x="395280" y="836640"/>
            <a:ext cx="3767040" cy="501660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7" descr="Рисунок13"/>
          <p:cNvPicPr/>
          <p:nvPr/>
        </p:nvPicPr>
        <p:blipFill>
          <a:blip r:embed="rId3"/>
          <a:stretch/>
        </p:blipFill>
        <p:spPr>
          <a:xfrm>
            <a:off x="4572000" y="3571920"/>
            <a:ext cx="435924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Picture 3" descr="Рисунок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" descr="Рисунок27"/>
          <p:cNvPicPr/>
          <p:nvPr/>
        </p:nvPicPr>
        <p:blipFill>
          <a:blip r:embed="rId1"/>
          <a:stretch/>
        </p:blipFill>
        <p:spPr>
          <a:xfrm>
            <a:off x="324000" y="333360"/>
            <a:ext cx="842472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WordArt 2"/>
          <p:cNvSpPr txBox="1"/>
          <p:nvPr/>
        </p:nvSpPr>
        <p:spPr>
          <a:xfrm>
            <a:off x="468360" y="1700280"/>
            <a:ext cx="828036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"...Здесь русский дух, 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ff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здесь Русью пахнет..."</a:t>
            </a:r>
            <a:endParaRPr b="0" lang="en-US" sz="1800" spc="1" strike="noStrike">
              <a:ln w="9360">
                <a:solidFill>
                  <a:srgbClr val="ff6600"/>
                </a:solidFill>
                <a:miter/>
              </a:ln>
              <a:solidFill>
                <a:srgbClr val="ffff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3" descr="Рисунок2"/>
          <p:cNvPicPr/>
          <p:nvPr/>
        </p:nvPicPr>
        <p:blipFill>
          <a:blip r:embed="rId1"/>
          <a:stretch/>
        </p:blipFill>
        <p:spPr>
          <a:xfrm>
            <a:off x="1979640" y="433440"/>
            <a:ext cx="4834080" cy="64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1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3" descr="Рисунок3"/>
          <p:cNvPicPr/>
          <p:nvPr/>
        </p:nvPicPr>
        <p:blipFill>
          <a:blip r:embed="rId1"/>
          <a:stretch/>
        </p:blipFill>
        <p:spPr>
          <a:xfrm>
            <a:off x="1979640" y="260280"/>
            <a:ext cx="483408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3" descr="Рисунок4"/>
          <p:cNvPicPr/>
          <p:nvPr/>
        </p:nvPicPr>
        <p:blipFill>
          <a:blip r:embed="rId1"/>
          <a:stretch/>
        </p:blipFill>
        <p:spPr>
          <a:xfrm>
            <a:off x="179280" y="260280"/>
            <a:ext cx="8729640" cy="58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4" descr="Рисунок5"/>
          <p:cNvPicPr/>
          <p:nvPr/>
        </p:nvPicPr>
        <p:blipFill>
          <a:blip r:embed="rId1"/>
          <a:stretch/>
        </p:blipFill>
        <p:spPr>
          <a:xfrm>
            <a:off x="1979640" y="189000"/>
            <a:ext cx="482760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Рисунок7"/>
          <p:cNvPicPr/>
          <p:nvPr/>
        </p:nvPicPr>
        <p:blipFill>
          <a:blip r:embed="rId1"/>
          <a:stretch/>
        </p:blipFill>
        <p:spPr>
          <a:xfrm>
            <a:off x="4067280" y="189000"/>
            <a:ext cx="4876560" cy="646092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6" descr="Рисунок6"/>
          <p:cNvPicPr/>
          <p:nvPr/>
        </p:nvPicPr>
        <p:blipFill>
          <a:blip r:embed="rId2"/>
          <a:stretch/>
        </p:blipFill>
        <p:spPr>
          <a:xfrm>
            <a:off x="179280" y="1844640"/>
            <a:ext cx="4505400" cy="31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3" descr="Рисунок8"/>
          <p:cNvPicPr/>
          <p:nvPr/>
        </p:nvPicPr>
        <p:blipFill>
          <a:blip r:embed="rId1"/>
          <a:stretch/>
        </p:blipFill>
        <p:spPr>
          <a:xfrm>
            <a:off x="179280" y="404640"/>
            <a:ext cx="8783640" cy="571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Рисунок9"/>
          <p:cNvPicPr/>
          <p:nvPr/>
        </p:nvPicPr>
        <p:blipFill>
          <a:blip r:embed="rId1"/>
          <a:stretch/>
        </p:blipFill>
        <p:spPr>
          <a:xfrm>
            <a:off x="324000" y="260280"/>
            <a:ext cx="855792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2T19:36:51Z</dcterms:created>
  <dc:creator>User</dc:creator>
  <dc:description/>
  <dc:language>en-US</dc:language>
  <cp:lastModifiedBy>Коля</cp:lastModifiedBy>
  <dcterms:modified xsi:type="dcterms:W3CDTF">2020-01-10T17:50:09Z</dcterms:modified>
  <cp:revision>9</cp:revision>
  <dc:subject/>
  <dc:title>Слайд 1</dc:title>
</cp:coreProperties>
</file>