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2425-91C0-4374-91CA-22E60ABF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B7F2-C112-4AB3-82CA-7CF5F5E8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0FB6E-4876-41FE-A216-F7A6165B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3009A-16C1-41F2-994E-209C2A70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C5522-4780-4979-9E23-169FCB05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A7DA0-1910-4948-83DC-1995A6E9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438EB9-6ECB-4FFC-983C-351825F3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143332-68B7-414C-B500-E4A6F396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E6782-C3B4-4190-BA60-7987B578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CE379-E8D3-4E25-885D-1C364E72A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298D3-B536-47F7-B0FF-A2F52FBC6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F023-F724-4F8C-930A-59BFF673C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CFC0-F4B0-4E3D-8F40-B08B9F42E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E2D9-8877-4E55-B59D-FA30036CF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73BD-B706-4D3F-B6A2-0E28AB33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E583-4E47-4394-9E9F-6B2AF2A9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F7D3-3BB7-4C7F-A9CA-77869407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047B-5541-496F-A2BF-709B3CB6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452B-5D05-4CF2-9BDE-E0B13199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901E-3E72-4207-970F-E2A24217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35ED-C7B8-4C93-878D-CC217567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B0F7-97A7-420C-8689-8141FF27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98A4-917A-4DA2-B91E-DB0A5FB1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03C1-E97C-47B0-80DA-6BC36CCF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3CCA-1784-47F2-8F51-857866718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242F-AF60-497C-A164-D3D0EA2B6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BC40C-DAFF-450E-9A30-7A5332961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8DF29-935A-4027-B948-0A8AEC24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0855C-4BC1-4179-8422-E3EC5E4E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A1344-7F59-4A42-82FC-3E472061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D17EC-9567-4A7C-8172-11FEE844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2EB7-83DC-4DBC-A778-76E56B4F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3F035-ED24-4C4E-BEA0-ED6299E2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491CF-0D71-446A-8A98-12C3FAE9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78D60-16EA-4F39-8106-4C2A85DB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37759-AF5F-4202-91C1-B726ED49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BDCE5-7DE7-4534-8797-E5C0D2F6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4456E-50C8-420C-B4AD-F441DD612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EFB7B-9F3B-4920-9E07-FD9845AC1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CBD7A-F467-41FC-A393-026A3C2F4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07717-6C58-4F7B-B24B-00D0DE8E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4FEAF-D5D3-4D5D-91AD-4461865E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1B9E-8043-4ABC-8B80-B290AB83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AB796-5DAC-4EB7-B31C-B8C17AB6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7454B-E006-4D65-9B2F-33B35704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A9F64-CB44-4E6A-A6E3-98FDC578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9C74C-84FD-4F22-B977-6EE10F41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AF5AC-39AB-4AFC-B89A-A855C241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74066-9367-4363-A9D4-AA3EDCF8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804A3-588D-41D8-A987-2C89A781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38CA0-6F10-4CEF-9477-1C31CBD61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6642A-AE57-4682-9DE3-8E164D1BE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3580C-75BF-488E-BA1A-545822367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BCD2-008B-48D5-B9DD-AA116916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97AF6-7ED8-44B5-8FF8-A51EBC71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398FF-911B-4F9C-8BF7-E2CDF19F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04048-0ED3-4F66-A866-10A6B805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75A09-C704-4EA0-B4D2-820E2FB6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48608-629E-4AD2-8CC6-87D5F114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560BC-A89F-4351-8A29-0A7048A3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42EFB-EC99-4DAD-9CF2-D0C44A84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1995D-9033-45B7-B5F6-ADF7E466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A5992-9E7F-401E-AA7A-F66B6C4B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B2F15-5A06-4DDC-B614-82DCDC4DF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F830-1794-4E43-8DD8-4F7A9380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7D428-586C-467F-A427-9DA30670F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9CFA6-F566-4A67-896E-3FC5DEA28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74DCA-1721-454F-BEE9-B9DF203F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9BF31-5563-489C-AB0F-4B33E2DD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AB884-894D-4888-8B96-866C14F1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8FA3C-4685-4FD0-99B8-E759F1BB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EB161-50A7-4799-B1D9-52C0FB81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ECF1C-06A4-4474-AB28-5BD245B4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6D958-19B5-447A-9080-70D8A829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DE7DF-F31F-41CE-9402-D47417E9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6B16-A312-4132-87F4-D669E33C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CBB7E-B331-4FC9-9F24-E0DAFD9D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7A604-1770-4CCC-B503-73F31DE10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A2229-21A0-4867-8DC4-61422198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A80A0-AD08-426F-9846-5F7C02DCE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CA3B2-F307-4B24-B21A-30AAF28B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3FB9C-CB6C-406A-954E-A887A526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D0E3D-A3B4-49B7-B6AB-DA7408CB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651C1-5A61-45C5-A59B-A360703C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F0213-F86C-445C-8697-56C39F4F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D3172-C8D7-4543-8F45-09BB719F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25B4-DF15-4B54-B261-B7CFB289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C6B75-D9B4-4DDE-A52D-5FF7E1C3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10ECE-EC5A-40C3-BD47-28B5E705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59F27-0019-4F60-9DEE-356B422B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CE21E-A53A-47D2-8EBA-2A38D37C3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0329C-F33C-4E41-B34B-3AFF3E6C4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4C4E5-FF0D-4287-AAD1-8798E29FD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E1C4E-EA85-40D2-A8DE-4D07AD0E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4FF83-F379-4704-8A89-E2573859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DEEA2-9D34-4C13-8D2A-74D546C2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40F25-4888-468B-9A91-24BC63B5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A3EF-6F2F-4F90-86A5-44BAA36B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EEC98-5765-423F-B966-C578396E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517E3-66DC-44F9-B297-63FF16F2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0E934-267B-4668-A258-38DC562A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DAF1A-EF4C-45E4-B324-B5925007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4D18F-5D03-4D38-A0F5-6C8FBFE9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FC2FF-6CCF-42AC-B01F-61AB3B944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7FC36-C937-4F14-85DB-13F3CF94B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92066-D853-4B36-952E-9DF58598A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685E0-B39D-4842-98FD-338A1229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C41FCE-E158-418C-8AB2-5BAE7CFF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5AB8-C81C-493F-B149-738CD1CFD96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C1BE-19AC-4565-A9C9-62922962F12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B129-8F68-490A-9605-8DDC87E339B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CAA3-58C4-456C-841E-FBB50812ED2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4EFA-33D4-467C-9220-1EA5B118772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9BD9-E264-4055-88B5-26F44E5D603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679C-2A90-476A-BA75-4EC67323EED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2BCD-CF9B-4666-BEB9-E702E16962D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95E4-E01F-45A6-8C55-B1A2B79852B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3"/>
          <p:cNvSpPr/>
          <p:nvPr/>
        </p:nvSpPr>
        <p:spPr>
          <a:xfrm>
            <a:off x="1334160" y="5734080"/>
            <a:ext cx="703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ДОБРО ПОЖАЛОВАТЬ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3" descr="Рисунок10"/>
          <p:cNvPicPr/>
          <p:nvPr/>
        </p:nvPicPr>
        <p:blipFill>
          <a:blip r:embed="rId1"/>
          <a:stretch/>
        </p:blipFill>
        <p:spPr>
          <a:xfrm>
            <a:off x="1619280" y="189000"/>
            <a:ext cx="5559480" cy="65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5" descr="Рисунок12"/>
          <p:cNvPicPr/>
          <p:nvPr/>
        </p:nvPicPr>
        <p:blipFill>
          <a:blip r:embed="rId1"/>
          <a:stretch/>
        </p:blipFill>
        <p:spPr>
          <a:xfrm>
            <a:off x="4572000" y="189000"/>
            <a:ext cx="4359240" cy="32796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Рисунок11"/>
          <p:cNvPicPr/>
          <p:nvPr/>
        </p:nvPicPr>
        <p:blipFill>
          <a:blip r:embed="rId2"/>
          <a:stretch/>
        </p:blipFill>
        <p:spPr>
          <a:xfrm>
            <a:off x="395280" y="836640"/>
            <a:ext cx="3767040" cy="50166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7" descr="Рисунок13"/>
          <p:cNvPicPr/>
          <p:nvPr/>
        </p:nvPicPr>
        <p:blipFill>
          <a:blip r:embed="rId3"/>
          <a:stretch/>
        </p:blipFill>
        <p:spPr>
          <a:xfrm>
            <a:off x="4572000" y="3571920"/>
            <a:ext cx="43592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3" descr="Рисунок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3" descr="Рисунок27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WordArt 2"/>
          <p:cNvSpPr txBox="1"/>
          <p:nvPr/>
        </p:nvSpPr>
        <p:spPr>
          <a:xfrm>
            <a:off x="468360" y="1700280"/>
            <a:ext cx="828036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...Здесь русский дух, 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ff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десь Русью пахнет..."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ff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3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3" descr="Рисунок2"/>
          <p:cNvPicPr/>
          <p:nvPr/>
        </p:nvPicPr>
        <p:blipFill>
          <a:blip r:embed="rId1"/>
          <a:stretch/>
        </p:blipFill>
        <p:spPr>
          <a:xfrm>
            <a:off x="1979640" y="433440"/>
            <a:ext cx="4834080" cy="64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3" descr="Рисунок3"/>
          <p:cNvPicPr/>
          <p:nvPr/>
        </p:nvPicPr>
        <p:blipFill>
          <a:blip r:embed="rId1"/>
          <a:stretch/>
        </p:blipFill>
        <p:spPr>
          <a:xfrm>
            <a:off x="1979640" y="260280"/>
            <a:ext cx="483408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3" descr="Рисунок4"/>
          <p:cNvPicPr/>
          <p:nvPr/>
        </p:nvPicPr>
        <p:blipFill>
          <a:blip r:embed="rId1"/>
          <a:stretch/>
        </p:blipFill>
        <p:spPr>
          <a:xfrm>
            <a:off x="179280" y="260280"/>
            <a:ext cx="8729640" cy="582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4" descr="Рисунок5"/>
          <p:cNvPicPr/>
          <p:nvPr/>
        </p:nvPicPr>
        <p:blipFill>
          <a:blip r:embed="rId1"/>
          <a:stretch/>
        </p:blipFill>
        <p:spPr>
          <a:xfrm>
            <a:off x="1979640" y="189000"/>
            <a:ext cx="482760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5" descr="Рисунок7"/>
          <p:cNvPicPr/>
          <p:nvPr/>
        </p:nvPicPr>
        <p:blipFill>
          <a:blip r:embed="rId1"/>
          <a:stretch/>
        </p:blipFill>
        <p:spPr>
          <a:xfrm>
            <a:off x="4067280" y="189000"/>
            <a:ext cx="4876560" cy="64609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6" descr="Рисунок6"/>
          <p:cNvPicPr/>
          <p:nvPr/>
        </p:nvPicPr>
        <p:blipFill>
          <a:blip r:embed="rId2"/>
          <a:stretch/>
        </p:blipFill>
        <p:spPr>
          <a:xfrm>
            <a:off x="179280" y="1844640"/>
            <a:ext cx="4505400" cy="31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3" descr="Рисунок8"/>
          <p:cNvPicPr/>
          <p:nvPr/>
        </p:nvPicPr>
        <p:blipFill>
          <a:blip r:embed="rId1"/>
          <a:stretch/>
        </p:blipFill>
        <p:spPr>
          <a:xfrm>
            <a:off x="179280" y="404640"/>
            <a:ext cx="8783640" cy="571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Рисунок9"/>
          <p:cNvPicPr/>
          <p:nvPr/>
        </p:nvPicPr>
        <p:blipFill>
          <a:blip r:embed="rId1"/>
          <a:stretch/>
        </p:blipFill>
        <p:spPr>
          <a:xfrm>
            <a:off x="324000" y="260280"/>
            <a:ext cx="855792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9:36:51Z</dcterms:created>
  <dc:creator>User</dc:creator>
  <dc:description/>
  <dc:language>en-US</dc:language>
  <cp:lastModifiedBy>Коля</cp:lastModifiedBy>
  <dcterms:modified xsi:type="dcterms:W3CDTF">2020-01-10T17:50:09Z</dcterms:modified>
  <cp:revision>9</cp:revision>
  <dc:subject/>
  <dc:title>Слайд 1</dc:title>
</cp:coreProperties>
</file>