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7E9-5B84-49EE-A8CB-05CEC464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FB9C-3C9D-4D94-BA9A-9EA0CA0C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86FEE-1113-4425-BB25-FA6FD09B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0C70B-8757-4AFD-A1BE-A033478A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BD017-05F9-45A0-AD99-86331A43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39468-5B54-4E1A-8F3A-16EBE19E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162AA-F207-442A-AC4B-41A1BB9D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BFCE2-5AA2-4155-89AF-7929CD50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EE2C8-1EDD-438F-8FF0-2A3995F6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A2B26-A2E1-4C9E-878B-909ADF66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0AC9C-B07F-4B76-A457-81728302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FE1-67F6-41A7-9C29-95F5CE58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689-3568-4BBD-99C5-38FB41C3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9FFC-0778-4607-AF94-9A903E24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B509-7769-4F7B-AF17-A47C1831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1092-AD16-4556-ABBC-AE164367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581C-4FF3-4747-847D-C68BFAA5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5781-61DE-4D2B-9CAF-36943E78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F923-5E00-42AB-94D2-251EAD9D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5D5A-39AC-4A33-928D-CBA854C3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AB7-7E55-4AD4-AD41-80BCE739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6EFE-1733-4C80-9CDA-57006C9B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4980-3EDC-4FC8-AB28-039A1891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22F2-FC1C-471F-A138-6012F638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9D52-9587-4EBF-93C6-26987F23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3B08-7998-4507-A6D8-69780140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EC92-6731-4280-8646-8B8CF130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7BCA0-BC2C-44D0-8FF0-AF6753EC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3C5A7-5A9E-435B-97E6-1F8C87C5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F62E3-518B-4927-A892-32DA56C3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F20CC-EDD3-44B9-B27E-A6B50CCA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E4C-1295-4360-93AC-09C5319D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BADAD-21A2-4BB0-AD17-80E78E08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D15E0-E7BA-43BF-9881-406E1C7A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2BDEE-B812-4D27-A3C6-9520D188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F75F9-B728-4614-811A-A12DC610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8625-B39E-461E-BA88-EBBAC941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5C214-FD1B-4897-9C03-24121986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CDE9E-AA4A-4772-ACC5-32AAFDEE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AA43A-6384-4226-8BEB-CB8B4379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E3944-5CD5-4794-BAAE-FB3289C3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4FF92-EBA7-43CE-B957-F08716F1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D66-9E3A-4CAB-A6D2-613124E5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0524A-41B8-4139-B20F-F8B5BFD3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F396-36B6-4958-85BB-3E3C9639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E3ED8-C7EC-4081-852B-A53BBC9B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D351E-678E-49B5-B586-BA285004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828D7-7EED-47EF-ACDA-AFCDEF3D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B3499-D16B-452A-AEE0-C3C21EA5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B05E9-A48B-4295-A3CB-06CC4A4E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67CDE-53B5-47A2-803F-305A346B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2396A-A9A3-48F7-B6B5-BA636487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DAD22-9C7B-4FF0-BF49-FAE9BAD5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6C22-6FBD-4D03-81AE-136DA312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0BCCA-4A82-4E50-BDED-1367FEC5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3D315-9BAF-4740-9008-A2E30D4C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2A3A7-7AF9-409A-A98F-75F9B31A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18727-461B-4D9E-AA65-5493D0BF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DCEE8-C7E3-4DB7-8247-43F173CF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7DBA2-1EB9-443D-A1FE-5218A704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3F34B-3983-4F7C-933D-C4D68772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4B063-6B1D-4564-9FF2-6299C030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1FB83-9F52-4DB7-A213-61EBEA36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67163-3D13-4D04-823B-7C41AB34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481-1474-4F2E-B2F9-A32D5C6C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6AAA8-68C2-4ADD-9453-DCA6C388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B9D71-9F48-4257-A46D-109C531B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55117-65E5-4E48-8F70-7DFD9872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103B9-FD78-4FE4-95DA-64BAB403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0145A-EB0F-4021-9EAC-7B7F5134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C9F77-C204-46ED-A997-FA47EA89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7AD02-ABC7-42AF-BD20-BE6A6DE9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86855-1084-49D9-91FC-CCC4A5D4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3DC56-C0E7-4505-9390-DB2AFB64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18897-D5CB-4624-B1EE-EBE459E7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F6A-7D34-4619-88D1-5BA159CC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6D905-5727-4E30-9864-9B8F6085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2CCE8-BCCF-4435-B28F-965D0E8C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C82C4-2AB3-4861-8A13-05DA7E4B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E6B5E-42B4-43D7-9DE6-3565D3D3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1538B-518F-479F-AB7B-1E418F18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8884F-5B29-4DCA-B5D5-0567D29C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B5B18-FBD8-464F-9F71-6BD87EE7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20304-049B-4AF6-AEF6-61078E1D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EA0CA-96B3-4C04-B493-6D56BB2C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B66D1-0502-47D5-93DC-0674491B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4B4-420A-4479-BE5A-B8B9529C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B8354-283B-40CE-8DE5-5C60D0AB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4E561-4A8E-4067-AFD1-10B6D62F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B29E9-C714-4129-883D-B9996524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F987A-80CF-47E6-8A4D-EDA7CE53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9A8AF-4124-4722-89C7-1EBE7884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DFBE6-A5FA-4C22-85EE-96F6A487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16A06-8D19-43CD-8839-113EF9B1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28F8D-90DA-4ECD-B62E-C4E3DD8D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041B7-43C8-46B4-88C7-E48E1BF4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0D7E4-E81E-4B62-939B-96570A08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4E6-FB8D-4CB9-B59C-5E0BA2F0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867A9-12AD-4D46-ADB8-2FFD975B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14D70-5120-4B63-AF99-0EC2318C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266B6-98FE-433F-A8D5-95E02674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DCFE4-7DFA-44A8-A24D-94FEBA0B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BF0CA-1D12-4272-B0C1-9704751B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D73CB-FC4D-406B-9478-076D2097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98981-7E4E-4293-9EF6-84EFCB8E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0F527-F9C5-4B2A-9252-0F4FB24D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6B543-3BE6-476B-AE87-3F119C3B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7FEBD-6487-4B8E-9F36-4CED7F73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D10C-2FF6-4E62-9A58-CDDA7BB766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90BF-D9E8-45A3-8757-8C572C2DF5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9075-82C6-44B9-AA83-CE271710BC0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7698-35D5-4DE5-A103-1C4AE2FB0F0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BC6E-189E-44A7-93C2-0ECDE6EC83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E248-592F-455B-BAE2-2760968C051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5464-40A2-40AD-9B47-6162FFD9F09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333E-646B-4D60-9057-6BFC9C451F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F508-47AA-496E-82C3-C1E1165E147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3"/>
          <p:cNvSpPr/>
          <p:nvPr/>
        </p:nvSpPr>
        <p:spPr>
          <a:xfrm>
            <a:off x="1334160" y="5734080"/>
            <a:ext cx="703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ДОБРО ПОЖАЛОВАТЬ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Рисунок10"/>
          <p:cNvPicPr/>
          <p:nvPr/>
        </p:nvPicPr>
        <p:blipFill>
          <a:blip r:embed="rId1"/>
          <a:stretch/>
        </p:blipFill>
        <p:spPr>
          <a:xfrm>
            <a:off x="1619280" y="189000"/>
            <a:ext cx="555948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Рисунок12"/>
          <p:cNvPicPr/>
          <p:nvPr/>
        </p:nvPicPr>
        <p:blipFill>
          <a:blip r:embed="rId1"/>
          <a:stretch/>
        </p:blipFill>
        <p:spPr>
          <a:xfrm>
            <a:off x="4572000" y="189000"/>
            <a:ext cx="4359240" cy="32796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Рисунок11"/>
          <p:cNvPicPr/>
          <p:nvPr/>
        </p:nvPicPr>
        <p:blipFill>
          <a:blip r:embed="rId2"/>
          <a:stretch/>
        </p:blipFill>
        <p:spPr>
          <a:xfrm>
            <a:off x="395280" y="836640"/>
            <a:ext cx="3767040" cy="5016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Рисунок13"/>
          <p:cNvPicPr/>
          <p:nvPr/>
        </p:nvPicPr>
        <p:blipFill>
          <a:blip r:embed="rId3"/>
          <a:stretch/>
        </p:blipFill>
        <p:spPr>
          <a:xfrm>
            <a:off x="4572000" y="3571920"/>
            <a:ext cx="4359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Рисунок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" descr="Рисунок27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2"/>
          <p:cNvSpPr txBox="1"/>
          <p:nvPr/>
        </p:nvSpPr>
        <p:spPr>
          <a:xfrm>
            <a:off x="468360" y="1700280"/>
            <a:ext cx="8280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...Здесь русский дух, 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есь Русью пахнет..."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3" descr="Рисунок2"/>
          <p:cNvPicPr/>
          <p:nvPr/>
        </p:nvPicPr>
        <p:blipFill>
          <a:blip r:embed="rId1"/>
          <a:stretch/>
        </p:blipFill>
        <p:spPr>
          <a:xfrm>
            <a:off x="1979640" y="433440"/>
            <a:ext cx="483408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Рисунок3"/>
          <p:cNvPicPr/>
          <p:nvPr/>
        </p:nvPicPr>
        <p:blipFill>
          <a:blip r:embed="rId1"/>
          <a:stretch/>
        </p:blipFill>
        <p:spPr>
          <a:xfrm>
            <a:off x="1979640" y="260280"/>
            <a:ext cx="48340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Рисунок4"/>
          <p:cNvPicPr/>
          <p:nvPr/>
        </p:nvPicPr>
        <p:blipFill>
          <a:blip r:embed="rId1"/>
          <a:stretch/>
        </p:blipFill>
        <p:spPr>
          <a:xfrm>
            <a:off x="179280" y="260280"/>
            <a:ext cx="872964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Рисунок5"/>
          <p:cNvPicPr/>
          <p:nvPr/>
        </p:nvPicPr>
        <p:blipFill>
          <a:blip r:embed="rId1"/>
          <a:stretch/>
        </p:blipFill>
        <p:spPr>
          <a:xfrm>
            <a:off x="1979640" y="189000"/>
            <a:ext cx="48276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Рисунок7"/>
          <p:cNvPicPr/>
          <p:nvPr/>
        </p:nvPicPr>
        <p:blipFill>
          <a:blip r:embed="rId1"/>
          <a:stretch/>
        </p:blipFill>
        <p:spPr>
          <a:xfrm>
            <a:off x="4067280" y="189000"/>
            <a:ext cx="4876560" cy="646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Рисунок6"/>
          <p:cNvPicPr/>
          <p:nvPr/>
        </p:nvPicPr>
        <p:blipFill>
          <a:blip r:embed="rId2"/>
          <a:stretch/>
        </p:blipFill>
        <p:spPr>
          <a:xfrm>
            <a:off x="179280" y="1844640"/>
            <a:ext cx="450540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3" descr="Рисунок8"/>
          <p:cNvPicPr/>
          <p:nvPr/>
        </p:nvPicPr>
        <p:blipFill>
          <a:blip r:embed="rId1"/>
          <a:stretch/>
        </p:blipFill>
        <p:spPr>
          <a:xfrm>
            <a:off x="179280" y="404640"/>
            <a:ext cx="878364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Рисунок9"/>
          <p:cNvPicPr/>
          <p:nvPr/>
        </p:nvPicPr>
        <p:blipFill>
          <a:blip r:embed="rId1"/>
          <a:stretch/>
        </p:blipFill>
        <p:spPr>
          <a:xfrm>
            <a:off x="324000" y="260280"/>
            <a:ext cx="855792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9:36:51Z</dcterms:created>
  <dc:creator>User</dc:creator>
  <dc:description/>
  <dc:language>en-US</dc:language>
  <cp:lastModifiedBy>Коля</cp:lastModifiedBy>
  <dcterms:modified xsi:type="dcterms:W3CDTF">2020-01-10T17:50:09Z</dcterms:modified>
  <cp:revision>9</cp:revision>
  <dc:subject/>
  <dc:title>Слайд 1</dc:title>
</cp:coreProperties>
</file>