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41A-3543-4940-91CB-E67AFD81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559-F79F-4C1E-BA08-96478662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194-434C-4D8D-BFAF-33589017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B91-9EE0-460B-9514-92F841D4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257-1CB3-4963-9996-16DB8ECD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95C-7AF4-408E-BFBA-133F5EED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477-6826-4641-8A6D-F9DEEFBB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E5C-3426-4A5B-8D65-FAEBE505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A79-87B5-4355-8AEA-9B420DF6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A26-8541-4573-A60E-0FD58B66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13A-0AF0-4FE9-A3EC-5CD4B513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B71-BC5D-4B63-8A01-801202F4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3AA7-342C-497C-B6B9-2C675B847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50248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ормирование у дошкольников элементарных математических представлен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редством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х игр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4941720"/>
            <a:ext cx="6011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МДОУ ДС №14 Самко Юлия Васил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850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идактических игр в ООД благотворно влияет на усвоение ФЭМП у детей и способствует повышению уровня математического развития детей, необходимо углубление и дифференциация индивидуальной работы с каждым ребен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826920" y="191628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я детей в процессе игры, будем стремиться к тому, чтобы радость игр перешла в радость учени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должно быть радостным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3924360" y="3213000"/>
            <a:ext cx="45352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–и я забуду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– и я запомню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попробовать – и я пойму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ий</a:t>
            </a:r>
            <a:br>
              <a:rPr sz="1400"/>
            </a:b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056360" cy="25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игры нет и не может быть полноценного умственного развития. Игра – это огромное светлое окно, через которое в духовный мир ребенка вливается живительный поток представлений и понятий. Игра – это искра, зажигающая огонек пытливости и любознательности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Сухомлинск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1403280" y="263700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обладает уникальным развивающим эффект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изучение способствует развити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мяти, речи, воображения, эмоц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ует настойчивость, терпение, творческий потенциал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332000" y="436572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офессиональной компетентности по вопросу формирования элементарных математических представлений у дошкольников через дидактические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актуальности использования игровых приёмов при формировании элементарных математических представлений у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воздействовать на всестороннее развитие детей: обогащать новыми представлениями и понятиями; закреплять знания; активизировать мыслительную деятельность (умение сравнивать, обобщать, классифицировать, анализировать)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ализ эффективности проделанной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сихолого-педагогическую литературу по данной пробл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общую характеристику содержания понятия «формирование элементарных математических представл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эффективность использования игровых приемов в процессе формирования элементарных математических представлений у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картотеку игр по формированию элементарных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х представл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2600" y="333360"/>
            <a:ext cx="7242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по формированию математических предста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ифрами и числ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е во вр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риентировку в простран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еометрическими фигу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обучение детей сче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907560"/>
            <a:ext cx="403704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ой цифры не стало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олько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правь ошибк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бираем цифр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первый назовет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читай – не ошибис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торой игрушки не стало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изменилось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IMG_20170413_071638.jpg"/>
          <p:cNvPicPr/>
          <p:nvPr/>
        </p:nvPicPr>
        <p:blipFill>
          <a:blip r:embed="rId1"/>
          <a:stretch/>
        </p:blipFill>
        <p:spPr>
          <a:xfrm>
            <a:off x="4919760" y="822240"/>
            <a:ext cx="2687400" cy="209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2664000" cy="192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72520"/>
            <a:ext cx="814248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– путешествия во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836280"/>
            <a:ext cx="4097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ая недел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 ден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гда это бывает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5" descr="http://runo-teks.ru/husqayoy/828"/>
          <p:cNvPicPr/>
          <p:nvPr/>
        </p:nvPicPr>
        <p:blipFill>
          <a:blip r:embed="rId1"/>
          <a:stretch/>
        </p:blipFill>
        <p:spPr>
          <a:xfrm>
            <a:off x="3767040" y="676440"/>
            <a:ext cx="4346640" cy="1901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116000" y="270828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ориентирование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187280" y="3284640"/>
            <a:ext cx="408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гадай, кто где стоит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похожу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про свой уз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н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игруш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по комнат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геометрическими фигу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125360"/>
            <a:ext cx="4395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есный мешоче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такой ж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больше увидит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смотри вокруг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еометрическая мозаи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свой дом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предмет такой же форм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адай, что спрятал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03280" y="1844280"/>
            <a:ext cx="2160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Мария\Desktop\IMG_20200109_114007.jpg"/>
          <p:cNvPicPr/>
          <p:nvPr/>
        </p:nvPicPr>
        <p:blipFill>
          <a:blip r:embed="rId1"/>
          <a:stretch/>
        </p:blipFill>
        <p:spPr>
          <a:xfrm>
            <a:off x="1403280" y="1268280"/>
            <a:ext cx="2343240" cy="184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Мария\Desktop\IMG_20200109_145256.jpg"/>
          <p:cNvPicPr/>
          <p:nvPr/>
        </p:nvPicPr>
        <p:blipFill>
          <a:blip r:embed="rId2"/>
          <a:stretch/>
        </p:blipFill>
        <p:spPr>
          <a:xfrm>
            <a:off x="1403280" y="3446640"/>
            <a:ext cx="2305080" cy="185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907920"/>
            <a:ext cx="3571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хождение пропущенной фиг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рядов фигур, зна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иск чис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о счетн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6000" y="1598760"/>
            <a:ext cx="388764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" descr="SAM_0774.JPG"/>
          <p:cNvPicPr/>
          <p:nvPr/>
        </p:nvPicPr>
        <p:blipFill>
          <a:blip r:embed="rId1"/>
          <a:stretch/>
        </p:blipFill>
        <p:spPr>
          <a:xfrm>
            <a:off x="4200480" y="804960"/>
            <a:ext cx="2906640" cy="2419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Мария\Desktop\IMG-20200111-WA0030.jpg"/>
          <p:cNvPicPr/>
          <p:nvPr/>
        </p:nvPicPr>
        <p:blipFill>
          <a:blip r:embed="rId2"/>
          <a:stretch/>
        </p:blipFill>
        <p:spPr>
          <a:xfrm>
            <a:off x="4284720" y="3284640"/>
            <a:ext cx="27352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по ФЭМ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J:\SAM_0748.JPG"/>
          <p:cNvPicPr/>
          <p:nvPr/>
        </p:nvPicPr>
        <p:blipFill>
          <a:blip r:embed="rId1"/>
          <a:stretch/>
        </p:blipFill>
        <p:spPr>
          <a:xfrm>
            <a:off x="1895400" y="969840"/>
            <a:ext cx="562140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08:35:03Z</dcterms:created>
  <dc:creator>Stas</dc:creator>
  <dc:description/>
  <dc:language>en-US</dc:language>
  <cp:lastModifiedBy>Мария</cp:lastModifiedBy>
  <dcterms:modified xsi:type="dcterms:W3CDTF">2020-01-11T23:13:24Z</dcterms:modified>
  <cp:revision>45</cp:revision>
  <dc:subject/>
  <dc:title>Особенности использования дидактических игр в процессе формирования элементарных математических представлений у дошкольников</dc:title>
</cp:coreProperties>
</file>