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FD30-8EFE-4816-9B5F-F1FFE778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91DF-B4A5-405A-BDA7-5E48458D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8BAB-0696-421D-85D2-7F9AD2629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B9ED-D973-4FE3-8363-0C8A0E790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8673-1B50-453C-A0CF-A0974586D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F109-ED69-4C42-86B4-945BFC18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C9D3-8842-418A-97E3-431DD13F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A19-386C-48C1-9905-09C052F30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51D9-EC94-49C0-9012-3909A3DBA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5613-C6CA-428A-8330-E3AFFB75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B2B7-434F-460E-91A9-565F6C24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FBEB-6F4F-4843-AB13-018185C2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AD69A-1924-4C40-9AE4-EE0D5B4711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620640"/>
            <a:ext cx="8502480" cy="337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ормирование у дошкольников элементарных математических представлений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редством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х игр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280" y="4941720"/>
            <a:ext cx="601164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 воспитатель МДОУ ДС №14 Самко Юлия Василье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8501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дидактических игр в ООД благотворно влияет на усвоение ФЭМП у детей и способствует повышению уровня математического развития детей, необходимо углубление и дифференциация индивидуальной работы с каждым ребенком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2"/>
          <p:cNvSpPr/>
          <p:nvPr/>
        </p:nvSpPr>
        <p:spPr>
          <a:xfrm>
            <a:off x="826920" y="1916280"/>
            <a:ext cx="6985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я детей в процессе игры, будем стремиться к тому, чтобы радость игр перешла в радость учения!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ние должно быть радостным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3"/>
          <p:cNvSpPr/>
          <p:nvPr/>
        </p:nvSpPr>
        <p:spPr>
          <a:xfrm>
            <a:off x="3924360" y="3213000"/>
            <a:ext cx="4535280" cy="23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сскажи –и я забуду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жи – и я запомню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й попробовать – и я пойму»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уций</a:t>
            </a:r>
            <a:br>
              <a:rPr sz="1400"/>
            </a:br>
            <a:br>
              <a:rPr sz="1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1400"/>
            </a:br>
            <a:br>
              <a:rPr sz="1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056360" cy="25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игры нет и не может быть полноценного умственного развития. Игра – это огромное светлое окно, через которое в духовный мир ребенка вливается живительный поток представлений и понятий. Игра – это искра, зажигающая огонек пытливости и любознательности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А.Сухомлинск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2"/>
          <p:cNvSpPr/>
          <p:nvPr/>
        </p:nvSpPr>
        <p:spPr>
          <a:xfrm>
            <a:off x="1403280" y="2637000"/>
            <a:ext cx="6840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ка обладает уникальным развивающим эффекто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 изучение способствует развитию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мяти, речи, воображения, эмоций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ормирует настойчивость, терпение, творческий потенциал лич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3"/>
          <p:cNvSpPr/>
          <p:nvPr/>
        </p:nvSpPr>
        <p:spPr>
          <a:xfrm>
            <a:off x="1332000" y="4365720"/>
            <a:ext cx="669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профессиональной компетентности по вопросу формирования элементарных математических представлений у дошкольников через дидактические игр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920" y="6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691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актуальности использования игровых приёмов при формировании элементарных математических представлений у дошколь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 воздействовать на всестороннее развитие детей: обогащать новыми представлениями и понятиями; закреплять знания; активизировать мыслительную деятельность (умение сравнивать, обобщать, классифицировать, анализировать)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сти анализ эффективности проделанной рабо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анализировать психолого-педагогическую литературу по данной проблем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ть общую характеристику содержания понятия «формирование элементарных математических представл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ь эффективность использования игровых приемов в процессе формирования элементарных математических представлений у дошкольн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ть картотеку игр по формированию элементарных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матических представлени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42600" y="333360"/>
            <a:ext cx="724212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 по формированию математических представле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цифрами и числ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ешествие во време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риентировку в пространств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еометрическими фигур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развитие логического мыш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обучение детей счет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539640" y="907560"/>
            <a:ext cx="403704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акой цифры не стало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колько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Исправь ошибк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аниц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бираем цифру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первый назовет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читай – не ошибись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торой игрушки не стало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то изменилось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4" descr="IMG_20170413_071638.jpg"/>
          <p:cNvPicPr/>
          <p:nvPr/>
        </p:nvPicPr>
        <p:blipFill>
          <a:blip r:embed="rId1"/>
          <a:stretch/>
        </p:blipFill>
        <p:spPr>
          <a:xfrm>
            <a:off x="4919760" y="822240"/>
            <a:ext cx="2687400" cy="2097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4932360" y="3068640"/>
            <a:ext cx="2664000" cy="19256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9640" y="272520"/>
            <a:ext cx="8142480" cy="4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– путешествия во врем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836280"/>
            <a:ext cx="409716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вая неделя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ш день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огда это бывает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5" descr="http://runo-teks.ru/husqayoy/828"/>
          <p:cNvPicPr/>
          <p:nvPr/>
        </p:nvPicPr>
        <p:blipFill>
          <a:blip r:embed="rId1"/>
          <a:stretch/>
        </p:blipFill>
        <p:spPr>
          <a:xfrm>
            <a:off x="3767040" y="676440"/>
            <a:ext cx="4346640" cy="1901520"/>
          </a:xfrm>
          <a:prstGeom prst="rect">
            <a:avLst/>
          </a:prstGeom>
          <a:ln w="0">
            <a:noFill/>
          </a:ln>
        </p:spPr>
      </p:pic>
      <p:sp>
        <p:nvSpPr>
          <p:cNvPr id="56" name="Прямоугольник 4"/>
          <p:cNvSpPr/>
          <p:nvPr/>
        </p:nvSpPr>
        <p:spPr>
          <a:xfrm>
            <a:off x="1116000" y="270828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на ориентирование в пространст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6"/>
          <p:cNvSpPr/>
          <p:nvPr/>
        </p:nvSpPr>
        <p:spPr>
          <a:xfrm>
            <a:off x="1187280" y="3284640"/>
            <a:ext cx="4086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Отгадай, кто где стоит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похожую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сскажи про свой узор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удожн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игрушк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утешествие по комнат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49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геометрическими фигур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84720" y="1125360"/>
            <a:ext cx="4395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Чудесный мешоче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такой же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Кто больше увидит?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осмотри вокруг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Геометрическая мозаика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свой домик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Найди предмет такой же формы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гадай, что спрятали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403280" y="1844280"/>
            <a:ext cx="216072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C:\Users\Мария\Desktop\IMG_20200109_114007.jpg"/>
          <p:cNvPicPr/>
          <p:nvPr/>
        </p:nvPicPr>
        <p:blipFill>
          <a:blip r:embed="rId1"/>
          <a:stretch/>
        </p:blipFill>
        <p:spPr>
          <a:xfrm>
            <a:off x="1403280" y="1268280"/>
            <a:ext cx="2343240" cy="184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Users\Мария\Desktop\IMG_20200109_145256.jpg"/>
          <p:cNvPicPr/>
          <p:nvPr/>
        </p:nvPicPr>
        <p:blipFill>
          <a:blip r:embed="rId2"/>
          <a:stretch/>
        </p:blipFill>
        <p:spPr>
          <a:xfrm>
            <a:off x="1403280" y="3446640"/>
            <a:ext cx="2305080" cy="18540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для развития логического мышлен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42960" y="907920"/>
            <a:ext cx="357192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ахождение пропущенной фигур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олжение рядов фигур, зна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оиск чисе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о счетны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оч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6000" y="1598760"/>
            <a:ext cx="3887640" cy="384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Рисунок 4" descr="SAM_0774.JPG"/>
          <p:cNvPicPr/>
          <p:nvPr/>
        </p:nvPicPr>
        <p:blipFill>
          <a:blip r:embed="rId1"/>
          <a:stretch/>
        </p:blipFill>
        <p:spPr>
          <a:xfrm>
            <a:off x="4200480" y="804960"/>
            <a:ext cx="2906640" cy="24192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Мария\Desktop\IMG-20200111-WA0030.jpg"/>
          <p:cNvPicPr/>
          <p:nvPr/>
        </p:nvPicPr>
        <p:blipFill>
          <a:blip r:embed="rId2"/>
          <a:stretch/>
        </p:blipFill>
        <p:spPr>
          <a:xfrm>
            <a:off x="4284720" y="3284640"/>
            <a:ext cx="2735280" cy="230508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ультации по ФЭМ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2" descr="J:\SAM_0748.JPG"/>
          <p:cNvPicPr/>
          <p:nvPr/>
        </p:nvPicPr>
        <p:blipFill>
          <a:blip r:embed="rId1"/>
          <a:stretch/>
        </p:blipFill>
        <p:spPr>
          <a:xfrm>
            <a:off x="1895400" y="969840"/>
            <a:ext cx="5621400" cy="36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8T08:35:03Z</dcterms:created>
  <dc:creator>Stas</dc:creator>
  <dc:description/>
  <dc:language>en-US</dc:language>
  <cp:lastModifiedBy>Мария</cp:lastModifiedBy>
  <dcterms:modified xsi:type="dcterms:W3CDTF">2020-01-11T23:13:24Z</dcterms:modified>
  <cp:revision>45</cp:revision>
  <dc:subject/>
  <dc:title>Особенности использования дидактических игр в процессе формирования элементарных математических представлений у дошкольников</dc:title>
</cp:coreProperties>
</file>