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705-B8CD-4E57-994A-D3ACF319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522-ABBA-481A-8D41-1BC267F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3E0-CC3D-400F-9B2A-44C7C14E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473-A634-45DE-9B80-91258B1C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BCE-607C-4531-8C90-45D2D57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634-799D-42D6-9818-89D24300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72C-0E7B-4743-91AD-6AA9064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A7A-2E81-4C41-894F-AF6A4D5D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FE7-76C6-4642-A323-A3A0830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E8F-888E-4D3F-96DF-BA87BF45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AD7-B5D9-4553-8477-6D67593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EB8-6AE4-4AD9-8BE3-2C02775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0A7B-8862-4066-8DAA-0880B136B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5024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у дошкольников элементарных математических представлен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редство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х иг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4941720"/>
            <a:ext cx="601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МДОУ ДС №14 Самко Юлия Васи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850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идактических игр в ООД благотворно влияет на усвоение ФЭМП у детей и способствует повышению уровня математического развития детей, необходимо углубление и дифференциация индивидуальной работы с каждым ребен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826920" y="191628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я детей в процессе игры, будем стремиться к тому, чтобы радость игр перешла в радость учени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должно быть радостным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924360" y="3213000"/>
            <a:ext cx="45352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–и я забуд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– и я запомню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попробовать – и я пойму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й</a:t>
            </a:r>
            <a:br>
              <a:rPr sz="1400"/>
            </a:b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5636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игры нет и не может быть полноценного умственного развития. Игра – это огромное светлое окно, через которое в духовный мир ребенка вливается живительный поток представлений и понятий. Игра – это искра, зажигающая огонек пытливости и любознательности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Сухомлинск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403280" y="263700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обладает уникальным развивающим эффект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изучение способствует развити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мяти, речи, воображения, эмоц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ует настойчивость, терпение, творческий потенциал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332000" y="436572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фессиональной компетентности по вопросу формирования элементарных математических представлений у дошкольников через дидактически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актуальности использования игровых приёмов при формировании элементарных математических представлений у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воздействовать на всестороннее развитие детей: обогащать новыми представлениями и понятиями; закреплять знания; активизировать мыслительную деятельность (умение сравнивать, обобщать, классифицировать, анализировать)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эффективности проделанн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сихолого-педагогическую литературу по данной пробл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бщую характеристику содержания понятия «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эффективность использования игровых приемов в процессе формирования элементарных математических представлений у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артотеку игр по формированию элементарных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х представл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2600" y="333360"/>
            <a:ext cx="7242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по формированию математических предст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ифрами и числ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в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риентировку в простран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еометрическими фигу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обучение детей сч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907560"/>
            <a:ext cx="403704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й цифры не стал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льк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равь ошибк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бираем цифр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первый назов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итай – не ошибис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орой игрушки не стал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изменилось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IMG_20170413_071638.jpg"/>
          <p:cNvPicPr/>
          <p:nvPr/>
        </p:nvPicPr>
        <p:blipFill>
          <a:blip r:embed="rId1"/>
          <a:stretch/>
        </p:blipFill>
        <p:spPr>
          <a:xfrm>
            <a:off x="4919760" y="822240"/>
            <a:ext cx="2687400" cy="209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66400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72520"/>
            <a:ext cx="814248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– путешествия во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836280"/>
            <a:ext cx="4097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ая недел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ден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гда это быва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5" descr="http://runo-teks.ru/husqayoy/828"/>
          <p:cNvPicPr/>
          <p:nvPr/>
        </p:nvPicPr>
        <p:blipFill>
          <a:blip r:embed="rId1"/>
          <a:stretch/>
        </p:blipFill>
        <p:spPr>
          <a:xfrm>
            <a:off x="3767040" y="676440"/>
            <a:ext cx="4346640" cy="1901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116000" y="2708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ориентирование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187280" y="3284640"/>
            <a:ext cx="408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гадай, кто где стои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охожу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про свой уз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игруш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комнат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геометрическими фигу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125360"/>
            <a:ext cx="4395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есный мешоче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такой ж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больше увиди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мотри вокруг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ометрическая моза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свой дом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редмет такой же форм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, что спрятал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03280" y="1844280"/>
            <a:ext cx="2160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Мария\Desktop\IMG_20200109_114007.jpg"/>
          <p:cNvPicPr/>
          <p:nvPr/>
        </p:nvPicPr>
        <p:blipFill>
          <a:blip r:embed="rId1"/>
          <a:stretch/>
        </p:blipFill>
        <p:spPr>
          <a:xfrm>
            <a:off x="1403280" y="1268280"/>
            <a:ext cx="2343240" cy="184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Мария\Desktop\IMG_20200109_145256.jpg"/>
          <p:cNvPicPr/>
          <p:nvPr/>
        </p:nvPicPr>
        <p:blipFill>
          <a:blip r:embed="rId2"/>
          <a:stretch/>
        </p:blipFill>
        <p:spPr>
          <a:xfrm>
            <a:off x="1403280" y="3446640"/>
            <a:ext cx="2305080" cy="185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907920"/>
            <a:ext cx="3571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хождение пропущенной фиг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рядов фигур, зна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иск чис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счет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000" y="1598760"/>
            <a:ext cx="388764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SAM_0774.JPG"/>
          <p:cNvPicPr/>
          <p:nvPr/>
        </p:nvPicPr>
        <p:blipFill>
          <a:blip r:embed="rId1"/>
          <a:stretch/>
        </p:blipFill>
        <p:spPr>
          <a:xfrm>
            <a:off x="4200480" y="804960"/>
            <a:ext cx="2906640" cy="2419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Мария\Desktop\IMG-20200111-WA0030.jpg"/>
          <p:cNvPicPr/>
          <p:nvPr/>
        </p:nvPicPr>
        <p:blipFill>
          <a:blip r:embed="rId2"/>
          <a:stretch/>
        </p:blipFill>
        <p:spPr>
          <a:xfrm>
            <a:off x="4284720" y="3284640"/>
            <a:ext cx="27352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по ФЭМ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J:\SAM_0748.JPG"/>
          <p:cNvPicPr/>
          <p:nvPr/>
        </p:nvPicPr>
        <p:blipFill>
          <a:blip r:embed="rId1"/>
          <a:stretch/>
        </p:blipFill>
        <p:spPr>
          <a:xfrm>
            <a:off x="1895400" y="969840"/>
            <a:ext cx="56214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8:35:03Z</dcterms:created>
  <dc:creator>Stas</dc:creator>
  <dc:description/>
  <dc:language>en-US</dc:language>
  <cp:lastModifiedBy>Мария</cp:lastModifiedBy>
  <dcterms:modified xsi:type="dcterms:W3CDTF">2020-01-11T23:13:24Z</dcterms:modified>
  <cp:revision>45</cp:revision>
  <dc:subject/>
  <dc:title>Особенности использования дидактических игр в процессе формирования элементарных математических представлений у дошкольников</dc:title>
</cp:coreProperties>
</file>