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0ED-1211-429A-80AA-44229784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741-93D7-4A20-A40F-DE0B16CA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52ED-A416-4212-AC3E-22CF5BC4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417-D7CB-4586-AD2F-232A3366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CC79E-29AC-4699-AC95-56858969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D9423-51A4-4EBE-BA8A-F566E655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A1AAF-D26E-49B1-844A-F2AF7A69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A4952-C424-4D42-A445-F4AE1B5A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CE8DF-8B13-4EEC-854B-CC41F729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0777D-2CBB-48CD-A9BF-8B0B7A07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EA517-358E-468C-9C87-289C3E33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95C-E3E0-45CB-BE6A-686694EB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2ED65-BA51-401B-9553-64910DB7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DD527-6D87-4400-B936-43D8F893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6AC26-4403-4239-B449-C5278272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15B41-0D0B-48CA-A8E4-0366F1D8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EC393-B724-4FE6-B826-BA7BC3A2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FF78-E32D-4DA1-BB22-D0F407E6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7FA0-48AC-4115-A530-4381293D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0B8-F7C1-4B93-9046-9DB4D6F5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923-0736-4DBB-8498-DF61FC87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B50-DD8B-4DCB-9170-38C3C9EC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394-A5C2-458C-9450-D78461C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9AB1-8B12-4914-B294-555E5BB2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CA2C-805A-429F-A009-228FC308D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E594-5910-41BF-A341-FC138C36DA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Красная книга Саратовской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бласт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933720"/>
            <a:ext cx="640080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600"/>
                </a:solidFill>
                <a:latin typeface="Tahoma"/>
              </a:rPr>
              <a:t>Растения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746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лаун годич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84720" y="1905120"/>
            <a:ext cx="26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Растет в тенистых хвойных лесах, в ельниках, по краям болот. Лекарственно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плаун годичный"/>
          <p:cNvPicPr/>
          <p:nvPr/>
        </p:nvPicPr>
        <p:blipFill>
          <a:blip r:embed="rId1"/>
          <a:stretch/>
        </p:blipFill>
        <p:spPr>
          <a:xfrm>
            <a:off x="324000" y="260280"/>
            <a:ext cx="5256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35280" y="291960"/>
            <a:ext cx="3251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олеска сибирск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Многолетнее растение высотой 10 - 20 см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пролеска сибирская"/>
          <p:cNvPicPr/>
          <p:nvPr/>
        </p:nvPicPr>
        <p:blipFill>
          <a:blip r:embed="rId1"/>
          <a:stretch/>
        </p:blipFill>
        <p:spPr>
          <a:xfrm>
            <a:off x="250920" y="260280"/>
            <a:ext cx="4897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-459000"/>
            <a:ext cx="32511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ябчик рус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80000" y="692280"/>
            <a:ext cx="3178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В некоторых деревнях Поволжья до сих пор можно услышать быль о том, как рябчик русский помог в трудную минуту деревенскому мальчугану. А дело было так. Играли ребятишки в лесу, и один из них решил спрятаться от своих товарищей понадежнее. Забрался на дно оврага и притаился. С радостью слушал паренек, как удаляются голоса его друзей, которые даже предположить не могли, где его нужно искать. И вот вокруг наступила мертвая тишина. Мальчик решил, что пора вылезать, но, как оказалось, это нелегко - овраг слишком глубок. Испугался паренек и принялся звать своих друзей. Долго звал, охрип, и только еле слышные звуки вылетали из его горла. Отчаялся он, упал на склоне оврага и разрыдался. Но вдруг взгляд его остановился на красивых цветах, которые своими усиками цеплялись за стебли цветов, растущих рядом. И понял тогда мальчуган, как ему надо действовать, чтобы выбраться из оврага. Он стал карабкаться по склону, цепляясь за траву, ветки кустарника, корни деревьев. Наконец он перевалился через край оврага и упал на землю без сил. Здесь-то его вскоре и обнаружили прибежавшие на поиски из деревни взрослые, которых позвали ребятишки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рябчик русский"/>
          <p:cNvPicPr/>
          <p:nvPr/>
        </p:nvPicPr>
        <p:blipFill>
          <a:blip r:embed="rId1"/>
          <a:stretch/>
        </p:blipFill>
        <p:spPr>
          <a:xfrm>
            <a:off x="324000" y="981000"/>
            <a:ext cx="48243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651280" y="291960"/>
            <a:ext cx="3035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Тюльпан Гесн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905120"/>
            <a:ext cx="30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Ядовит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одиной этого многолетнего луковичного растения можно считать Переднюю Азию. По всей Европе выращивается как декоративное раст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тюльпан Геснера"/>
          <p:cNvPicPr/>
          <p:nvPr/>
        </p:nvPicPr>
        <p:blipFill>
          <a:blip r:embed="rId1"/>
          <a:stretch/>
        </p:blipFill>
        <p:spPr>
          <a:xfrm>
            <a:off x="395280" y="260280"/>
            <a:ext cx="4897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4619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201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35280" y="6021000"/>
            <a:ext cx="3467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Бортникер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4" descr="untitled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40000" y="291960"/>
            <a:ext cx="28083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Адонис весен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435280" y="1915920"/>
            <a:ext cx="325116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99"/>
                </a:solidFill>
                <a:latin typeface="Tahoma"/>
              </a:rPr>
              <a:t>Растёт по сухим открытым степным склонам, по кустарникам, опушкам, балкам, на известня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адонис весенний"/>
          <p:cNvPicPr/>
          <p:nvPr/>
        </p:nvPicPr>
        <p:blipFill>
          <a:blip r:embed="rId1"/>
          <a:stretch/>
        </p:blipFill>
        <p:spPr>
          <a:xfrm>
            <a:off x="179280" y="260280"/>
            <a:ext cx="475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12000" y="291960"/>
            <a:ext cx="2674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локрыльник болот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Используется для озеленения неглубоких искусственных водоемов или береговых частей водоем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белокрыльник болотный"/>
          <p:cNvPicPr/>
          <p:nvPr/>
        </p:nvPicPr>
        <p:blipFill>
          <a:blip r:embed="rId1"/>
          <a:stretch/>
        </p:blipFill>
        <p:spPr>
          <a:xfrm>
            <a:off x="250920" y="189000"/>
            <a:ext cx="47624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651640" y="333000"/>
            <a:ext cx="30463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Венерин башмачо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12000" y="1905120"/>
            <a:ext cx="267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Встречается в равнинных и горных лиственных, смешанных, реже хвойных лесах, на лесных опушках, лесных луга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венерин башмачок"/>
          <p:cNvPicPr/>
          <p:nvPr/>
        </p:nvPicPr>
        <p:blipFill>
          <a:blip r:embed="rId1"/>
          <a:stretch/>
        </p:blipFill>
        <p:spPr>
          <a:xfrm>
            <a:off x="179280" y="260280"/>
            <a:ext cx="51418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720" y="404640"/>
            <a:ext cx="3097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Гвоздика лугов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72000" y="1905120"/>
            <a:ext cx="231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Полевые гвоздики в народе называли диким мылом (их корень мылится), зорками, искрами, егорьевым копьем, травянцом, полевыми слезками, девичьей травк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гвоздика луговая"/>
          <p:cNvPicPr/>
          <p:nvPr/>
        </p:nvPicPr>
        <p:blipFill>
          <a:blip r:embed="rId1"/>
          <a:stretch/>
        </p:blipFill>
        <p:spPr>
          <a:xfrm>
            <a:off x="179280" y="620640"/>
            <a:ext cx="56199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Ирис бор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Этот ирис любит известняк и места посолнечнее и посуше.</a:t>
            </a:r>
            <a:br>
              <a:rPr sz="2400"/>
            </a:b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ирис боровой"/>
          <p:cNvPicPr/>
          <p:nvPr/>
        </p:nvPicPr>
        <p:blipFill>
          <a:blip r:embed="rId1"/>
          <a:stretch/>
        </p:blipFill>
        <p:spPr>
          <a:xfrm>
            <a:off x="395280" y="549360"/>
            <a:ext cx="540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7280" y="333000"/>
            <a:ext cx="31784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увшинка бела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580000" y="190512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Считалось, что кувшинки — это русалки, которые днем спят, превратившись в крупные белые лилии, и лишь ночью принимают свой настоящий облик. Тот, кто бережно относится к цветам кувшинки, находится под защитой Водяного цар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кувшинка белая"/>
          <p:cNvPicPr/>
          <p:nvPr/>
        </p:nvPicPr>
        <p:blipFill>
          <a:blip r:embed="rId1"/>
          <a:stretch/>
        </p:blipFill>
        <p:spPr>
          <a:xfrm>
            <a:off x="179280" y="762120"/>
            <a:ext cx="518472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56000" y="291960"/>
            <a:ext cx="253044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Майник двули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27280" y="1905120"/>
            <a:ext cx="245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99"/>
                </a:solidFill>
                <a:latin typeface="Tahoma"/>
              </a:rPr>
              <a:t>Ягоды двулистного майника в большом количестве поедаются рябчиками. Знать оттого-то в народных говорах и названа эта трава рябчиковыми ягод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майник двулистный"/>
          <p:cNvPicPr/>
          <p:nvPr/>
        </p:nvPicPr>
        <p:blipFill>
          <a:blip r:embed="rId1"/>
          <a:stretch/>
        </p:blipFill>
        <p:spPr>
          <a:xfrm>
            <a:off x="179280" y="765000"/>
            <a:ext cx="55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7280" y="291960"/>
            <a:ext cx="28195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жжевельник казац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508720" y="1905120"/>
            <a:ext cx="31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99"/>
                </a:solidFill>
                <a:latin typeface="Tahoma"/>
              </a:rPr>
              <a:t>Растение сильно ядовитое</a:t>
            </a:r>
            <a:r>
              <a:rPr b="0" lang="ru-RU" sz="3200" spc="-1" strike="noStrike">
                <a:solidFill>
                  <a:srgbClr val="ff99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можжевельник казацкий"/>
          <p:cNvPicPr/>
          <p:nvPr/>
        </p:nvPicPr>
        <p:blipFill>
          <a:blip r:embed="rId1"/>
          <a:stretch/>
        </p:blipFill>
        <p:spPr>
          <a:xfrm>
            <a:off x="179280" y="907920"/>
            <a:ext cx="511344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2:43:37Z</dcterms:created>
  <dc:creator>Алексей</dc:creator>
  <dc:description/>
  <dc:language>en-US</dc:language>
  <cp:lastModifiedBy>Алексей</cp:lastModifiedBy>
  <dcterms:modified xsi:type="dcterms:W3CDTF">2013-05-01T09:49:32Z</dcterms:modified>
  <cp:revision>8</cp:revision>
  <dc:subject/>
  <dc:title>Красная книга Саратовской области</dc:title>
</cp:coreProperties>
</file>