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5CE-B2BE-4D22-8F22-78914FFB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985-5465-400D-8CE0-2354EF83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E2D-228F-4F83-933F-ECB28C81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487-51CE-47F5-8E29-ECD7B611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E1BE6-EDC6-4C02-A8D4-6A2218AA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48A54-A66C-4FB9-AFCA-03A1892A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535A0-45C4-477B-98F8-52F7473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ADD8C-6137-4023-B6F3-59072D47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698E6-612E-46DC-AE71-4C578ED9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7CDA-7C13-497D-BFFB-5DD80B7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5A5DD-39C2-49C1-B1A8-659B6EE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49B-2CF3-45B1-A4CC-E4E1311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71ED5-54B7-4B6D-9E49-E7029B7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12DCE-4DC7-4953-BF6C-376124E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E3E04-91F8-4DB5-B393-1761D7B8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36EC4-4D90-495D-8E5E-AFF4AFF3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E83AD-2C27-4DC4-A4A0-C2912BB8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074-9C14-4618-A96C-F9C5B98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297-BEF9-43D3-B9E8-32A305E2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7C2-39E0-4412-A65C-AE78938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AB6-DB42-48BC-842F-A004C41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D46-BB9B-4F4C-9601-F2369D3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246-D29D-4E95-A77E-E88EE3A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2EE-EB45-40E8-8122-42B04D68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AA72-2AC8-421E-B4C4-1CBDEE2D0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8DD9-D4D5-4F0D-B421-CAA54456A6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расная книга Саратовско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Растени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74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лаун год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84720" y="1905120"/>
            <a:ext cx="26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Растет в тенистых хвойных лесах, в ельниках, по краям болот. Лекарственно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плаун годичный"/>
          <p:cNvPicPr/>
          <p:nvPr/>
        </p:nvPicPr>
        <p:blipFill>
          <a:blip r:embed="rId1"/>
          <a:stretch/>
        </p:blipFill>
        <p:spPr>
          <a:xfrm>
            <a:off x="324000" y="260280"/>
            <a:ext cx="525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35280" y="291960"/>
            <a:ext cx="325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леска сибир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Многолетнее растение высотой 10 - 20 с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пролеска сибирская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-459000"/>
            <a:ext cx="32511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ябчик ру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0000" y="692280"/>
            <a:ext cx="3178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В некоторых деревнях Поволжья до сих пор можно услышать быль о том, как рябчик русский помог в трудную минуту деревенскому мальчугану. А дело было так. Играли ребятишки в лесу, и один из них решил спрятаться от своих товарищей понадежнее. Забрался на дно оврага и притаился. С радостью слушал паренек, как удаляются голоса его друзей, которые даже предположить не могли, где его нужно искать. И вот вокруг наступила мертвая тишина. Мальчик решил, что пора вылезать, но, как оказалось, это нелегко - овраг слишком глубок. Испугался паренек и принялся звать своих друзей. Долго звал, охрип, и только еле слышные звуки вылетали из его горла. Отчаялся он, упал на склоне оврага и разрыдался. Но вдруг взгляд его остановился на красивых цветах, которые своими усиками цеплялись за стебли цветов, растущих рядом. И понял тогда мальчуган, как ему надо действовать, чтобы выбраться из оврага. Он стал карабкаться по склону, цепляясь за траву, ветки кустарника, корни деревьев. Наконец он перевалился через край оврага и упал на землю без сил. Здесь-то его вскоре и обнаружили прибежавшие на поиски из деревни взрослые, которых позвали ребятиш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рябчик русский"/>
          <p:cNvPicPr/>
          <p:nvPr/>
        </p:nvPicPr>
        <p:blipFill>
          <a:blip r:embed="rId1"/>
          <a:stretch/>
        </p:blipFill>
        <p:spPr>
          <a:xfrm>
            <a:off x="324000" y="981000"/>
            <a:ext cx="4824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5128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юльпан Гесн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90512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Ядовит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одиной этого многолетнего луковичного растения можно считать Переднюю Азию. По всей Европе выращивается как 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тюльпан Геснера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461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35280" y="6021000"/>
            <a:ext cx="3467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Бортникер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untitl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808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донис весен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35280" y="1915920"/>
            <a:ext cx="32511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99"/>
                </a:solidFill>
                <a:latin typeface="Tahoma"/>
              </a:rPr>
              <a:t>Растёт по сухим открытым степным склонам, по кустарникам, опушкам, балкам, на известня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адонис весенний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12000" y="291960"/>
            <a:ext cx="267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локрыльник бол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Используется для озеленения неглубоких искусственных водоемов или береговых частей водоем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белокрыльник болотный"/>
          <p:cNvPicPr/>
          <p:nvPr/>
        </p:nvPicPr>
        <p:blipFill>
          <a:blip r:embed="rId1"/>
          <a:stretch/>
        </p:blipFill>
        <p:spPr>
          <a:xfrm>
            <a:off x="250920" y="18900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1640" y="333000"/>
            <a:ext cx="30463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енерин башмач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Встречается в равнинных и горных лиственных, смешанных, реже хвойных лесах, на лесных опушках, лесных луга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венерин башмачок"/>
          <p:cNvPicPr/>
          <p:nvPr/>
        </p:nvPicPr>
        <p:blipFill>
          <a:blip r:embed="rId1"/>
          <a:stretch/>
        </p:blipFill>
        <p:spPr>
          <a:xfrm>
            <a:off x="179280" y="260280"/>
            <a:ext cx="514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720" y="404640"/>
            <a:ext cx="3097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Гвоздика луг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2000" y="190512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Полевые гвоздики в народе называли диким мылом (их корень мылится), зорками, искрами, егорьевым копьем, травянцом, полевыми слезками, девичьей травк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гвоздика луговая"/>
          <p:cNvPicPr/>
          <p:nvPr/>
        </p:nvPicPr>
        <p:blipFill>
          <a:blip r:embed="rId1"/>
          <a:stretch/>
        </p:blipFill>
        <p:spPr>
          <a:xfrm>
            <a:off x="179280" y="620640"/>
            <a:ext cx="5619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рис бо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Этот ирис любит известняк и места посолнечнее и посуше.</a:t>
            </a:r>
            <a:br>
              <a:rPr sz="2400"/>
            </a:b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рис боровой"/>
          <p:cNvPicPr/>
          <p:nvPr/>
        </p:nvPicPr>
        <p:blipFill>
          <a:blip r:embed="rId1"/>
          <a:stretch/>
        </p:blipFill>
        <p:spPr>
          <a:xfrm>
            <a:off x="395280" y="54936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7280" y="333000"/>
            <a:ext cx="3178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увшинка бел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800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Считалось, что кувшинки — это русалки, которые днем спят, превратившись в крупные белые лилии, и лишь ночью принимают свой настоящий облик. Тот, кто бережно относится к цветам кувшинки, находится под защитой Водяного ца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кувшинка белая"/>
          <p:cNvPicPr/>
          <p:nvPr/>
        </p:nvPicPr>
        <p:blipFill>
          <a:blip r:embed="rId1"/>
          <a:stretch/>
        </p:blipFill>
        <p:spPr>
          <a:xfrm>
            <a:off x="179280" y="762120"/>
            <a:ext cx="518472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Майник двули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Ягоды двулистного майника в большом количестве поедаются рябчиками. Знать оттого-то в народных говорах и названа эта трава рябчиковыми ягод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майник двулистный"/>
          <p:cNvPicPr/>
          <p:nvPr/>
        </p:nvPicPr>
        <p:blipFill>
          <a:blip r:embed="rId1"/>
          <a:stretch/>
        </p:blipFill>
        <p:spPr>
          <a:xfrm>
            <a:off x="179280" y="76500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7280" y="291960"/>
            <a:ext cx="281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жжевельник казац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астение сильно ядовитое</a:t>
            </a: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можжевельник казацкий"/>
          <p:cNvPicPr/>
          <p:nvPr/>
        </p:nvPicPr>
        <p:blipFill>
          <a:blip r:embed="rId1"/>
          <a:stretch/>
        </p:blipFill>
        <p:spPr>
          <a:xfrm>
            <a:off x="179280" y="907920"/>
            <a:ext cx="511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43:37Z</dcterms:created>
  <dc:creator>Алексей</dc:creator>
  <dc:description/>
  <dc:language>en-US</dc:language>
  <cp:lastModifiedBy>Алексей</cp:lastModifiedBy>
  <dcterms:modified xsi:type="dcterms:W3CDTF">2013-05-01T09:49:32Z</dcterms:modified>
  <cp:revision>8</cp:revision>
  <dc:subject/>
  <dc:title>Красная книга Саратовской области</dc:title>
</cp:coreProperties>
</file>