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D28-9E41-41D5-B222-86EF5C93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62DA-0837-4449-82ED-48338F8C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C6E-8D85-48F2-87C4-7AB4D7FD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EE49-7FF4-43E0-8CB0-ACA8C738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FC21B-8806-4C09-969B-29F47683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751E8-E545-40CA-BC50-9A584B59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72819-6E00-4680-9E14-57BCED8C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3B763-FF0C-4062-8855-19054F97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84F6E-B6CD-49A6-970B-31496233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53AC2-D6FB-4C35-93B3-7103DB0F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FAB70-0AB0-4332-81D6-DE6E7E2C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8116-2915-409A-A72A-6EDE5B4F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5DE0C-97C3-4A9F-A9E2-38D112A8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A213A-EB63-4DAC-8D40-465E4D8F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B061A-2ADC-4C76-A325-12909CEA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83CB7-A02B-4588-AEA4-49060664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CDFAC-165B-4172-BC23-EE3EE2A1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3197-AD85-46B9-AD9E-15C2BB95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B14-ABC0-436D-B09C-A061A1E8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150-F091-4804-84BC-21856155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FC4B-AC4F-494E-8F30-D081DEBF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EC5E-A6B0-4993-B371-BF5FA72B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89C2-5A5F-4072-A1F4-E9C25021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CFB-4CB8-4A83-BFEF-1E2F15D8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1728-340B-438D-AEF3-D6834BFBBF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5981-5917-47A8-BAC1-94D7A14E5CC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Красная книга Саратовской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област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3933720"/>
            <a:ext cx="6400800" cy="16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c600"/>
                </a:solidFill>
                <a:latin typeface="Tahoma"/>
              </a:rPr>
              <a:t>Растения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940000" y="291960"/>
            <a:ext cx="2746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лаун годич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84720" y="1905120"/>
            <a:ext cx="260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99"/>
                </a:solidFill>
                <a:latin typeface="Tahoma"/>
              </a:rPr>
              <a:t>Растет в тенистых хвойных лесах, в ельниках, по краям болот. Лекарственно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плаун годичный"/>
          <p:cNvPicPr/>
          <p:nvPr/>
        </p:nvPicPr>
        <p:blipFill>
          <a:blip r:embed="rId1"/>
          <a:stretch/>
        </p:blipFill>
        <p:spPr>
          <a:xfrm>
            <a:off x="324000" y="260280"/>
            <a:ext cx="5256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35280" y="291960"/>
            <a:ext cx="3251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ролеска сибирс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08720" y="1905120"/>
            <a:ext cx="31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99"/>
                </a:solidFill>
                <a:latin typeface="Tahoma"/>
              </a:rPr>
              <a:t>Многолетнее растение высотой 10 - 20 с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пролеска сибирская"/>
          <p:cNvPicPr/>
          <p:nvPr/>
        </p:nvPicPr>
        <p:blipFill>
          <a:blip r:embed="rId1"/>
          <a:stretch/>
        </p:blipFill>
        <p:spPr>
          <a:xfrm>
            <a:off x="250920" y="260280"/>
            <a:ext cx="4897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5640" y="-459000"/>
            <a:ext cx="3251160" cy="16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ябчик рус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80000" y="692280"/>
            <a:ext cx="31780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99"/>
                </a:solidFill>
                <a:latin typeface="Tahoma"/>
              </a:rPr>
              <a:t>В некоторых деревнях Поволжья до сих пор можно услышать быль о том, как рябчик русский помог в трудную минуту деревенскому мальчугану. А дело было так. Играли ребятишки в лесу, и один из них решил спрятаться от своих товарищей понадежнее. Забрался на дно оврага и притаился. С радостью слушал паренек, как удаляются голоса его друзей, которые даже предположить не могли, где его нужно искать. И вот вокруг наступила мертвая тишина. Мальчик решил, что пора вылезать, но, как оказалось, это нелегко - овраг слишком глубок. Испугался паренек и принялся звать своих друзей. Долго звал, охрип, и только еле слышные звуки вылетали из его горла. Отчаялся он, упал на склоне оврага и разрыдался. Но вдруг взгляд его остановился на красивых цветах, которые своими усиками цеплялись за стебли цветов, растущих рядом. И понял тогда мальчуган, как ему надо действовать, чтобы выбраться из оврага. Он стал карабкаться по склону, цепляясь за траву, ветки кустарника, корни деревьев. Наконец он перевалился через край оврага и упал на землю без сил. Здесь-то его вскоре и обнаружили прибежавшие на поиски из деревни взрослые, которых позвали ребятиш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9999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рябчик русский"/>
          <p:cNvPicPr/>
          <p:nvPr/>
        </p:nvPicPr>
        <p:blipFill>
          <a:blip r:embed="rId1"/>
          <a:stretch/>
        </p:blipFill>
        <p:spPr>
          <a:xfrm>
            <a:off x="324000" y="981000"/>
            <a:ext cx="48243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651280" y="291960"/>
            <a:ext cx="3035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Тюльпан Гесн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51280" y="1905120"/>
            <a:ext cx="303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Ядовит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Родиной этого многолетнего луковичного растения можно считать Переднюю Азию. По всей Европе выращивается как декоративное раст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тюльпан Геснера"/>
          <p:cNvPicPr/>
          <p:nvPr/>
        </p:nvPicPr>
        <p:blipFill>
          <a:blip r:embed="rId1"/>
          <a:stretch/>
        </p:blipFill>
        <p:spPr>
          <a:xfrm>
            <a:off x="395280" y="260280"/>
            <a:ext cx="4897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4619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201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435280" y="6021000"/>
            <a:ext cx="34671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Бортникер С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untitled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40000" y="291960"/>
            <a:ext cx="28083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Адонис весен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435280" y="1915920"/>
            <a:ext cx="325116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99"/>
                </a:solidFill>
                <a:latin typeface="Tahoma"/>
              </a:rPr>
              <a:t>Растёт по сухим открытым степным склонам, по кустарникам, опушкам, балкам, на известня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адонис весенний"/>
          <p:cNvPicPr/>
          <p:nvPr/>
        </p:nvPicPr>
        <p:blipFill>
          <a:blip r:embed="rId1"/>
          <a:stretch/>
        </p:blipFill>
        <p:spPr>
          <a:xfrm>
            <a:off x="179280" y="260280"/>
            <a:ext cx="4753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12000" y="291960"/>
            <a:ext cx="2674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елокрыльник болот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12000" y="1905120"/>
            <a:ext cx="267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Используется для озеленения неглубоких искусственных водоемов или береговых частей водоем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белокрыльник болотный"/>
          <p:cNvPicPr/>
          <p:nvPr/>
        </p:nvPicPr>
        <p:blipFill>
          <a:blip r:embed="rId1"/>
          <a:stretch/>
        </p:blipFill>
        <p:spPr>
          <a:xfrm>
            <a:off x="250920" y="189000"/>
            <a:ext cx="4762440" cy="63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51640" y="333000"/>
            <a:ext cx="30463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Венерин башмачо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12000" y="1905120"/>
            <a:ext cx="267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Встречается в равнинных и горных лиственных, смешанных, реже хвойных лесах, на лесных опушках, лесных луга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венерин башмачок"/>
          <p:cNvPicPr/>
          <p:nvPr/>
        </p:nvPicPr>
        <p:blipFill>
          <a:blip r:embed="rId1"/>
          <a:stretch/>
        </p:blipFill>
        <p:spPr>
          <a:xfrm>
            <a:off x="179280" y="260280"/>
            <a:ext cx="51418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720" y="404640"/>
            <a:ext cx="3097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Гвоздика луго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72000" y="1905120"/>
            <a:ext cx="231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99"/>
                </a:solidFill>
                <a:latin typeface="Tahoma"/>
              </a:rPr>
              <a:t>Полевые гвоздики в народе называли диким мылом (их корень мылится), зорками, искрами, егорьевым копьем, травянцом, полевыми слезками, девичьей травкой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гвоздика луговая"/>
          <p:cNvPicPr/>
          <p:nvPr/>
        </p:nvPicPr>
        <p:blipFill>
          <a:blip r:embed="rId1"/>
          <a:stretch/>
        </p:blipFill>
        <p:spPr>
          <a:xfrm>
            <a:off x="179280" y="620640"/>
            <a:ext cx="56199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56000" y="291960"/>
            <a:ext cx="2530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Ирис бор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27280" y="1905120"/>
            <a:ext cx="245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Этот ирис любит известняк и места посолнечнее и посуше.</a:t>
            </a:r>
            <a:br>
              <a:rPr sz="2400"/>
            </a:b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ирис боровой"/>
          <p:cNvPicPr/>
          <p:nvPr/>
        </p:nvPicPr>
        <p:blipFill>
          <a:blip r:embed="rId1"/>
          <a:stretch/>
        </p:blipFill>
        <p:spPr>
          <a:xfrm>
            <a:off x="395280" y="549360"/>
            <a:ext cx="5400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27280" y="333000"/>
            <a:ext cx="317844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увшинка бел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580000" y="190512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99"/>
                </a:solidFill>
                <a:latin typeface="Tahoma"/>
              </a:rPr>
              <a:t>Считалось, что кувшинки — это русалки, которые днем спят, превратившись в крупные белые лилии, и лишь ночью принимают свой настоящий облик. Тот, кто бережно относится к цветам кувшинки, находится под защитой Водяного цар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кувшинка белая"/>
          <p:cNvPicPr/>
          <p:nvPr/>
        </p:nvPicPr>
        <p:blipFill>
          <a:blip r:embed="rId1"/>
          <a:stretch/>
        </p:blipFill>
        <p:spPr>
          <a:xfrm>
            <a:off x="179280" y="762120"/>
            <a:ext cx="518472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56000" y="291960"/>
            <a:ext cx="2530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Майник двулис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27280" y="1905120"/>
            <a:ext cx="245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99"/>
                </a:solidFill>
                <a:latin typeface="Tahoma"/>
              </a:rPr>
              <a:t>Ягоды двулистного майника в большом количестве поедаются рябчиками. Знать оттого-то в народных говорах и названа эта трава рябчиковыми ягод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майник двулистный"/>
          <p:cNvPicPr/>
          <p:nvPr/>
        </p:nvPicPr>
        <p:blipFill>
          <a:blip r:embed="rId1"/>
          <a:stretch/>
        </p:blipFill>
        <p:spPr>
          <a:xfrm>
            <a:off x="179280" y="765000"/>
            <a:ext cx="5545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7280" y="291960"/>
            <a:ext cx="2819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жжевельник казац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508720" y="1905120"/>
            <a:ext cx="31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Растение сильно ядовитое</a:t>
            </a:r>
            <a:r>
              <a:rPr b="0" lang="ru-RU" sz="3200" spc="-1" strike="noStrike">
                <a:solidFill>
                  <a:srgbClr val="ff99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можжевельник казацкий"/>
          <p:cNvPicPr/>
          <p:nvPr/>
        </p:nvPicPr>
        <p:blipFill>
          <a:blip r:embed="rId1"/>
          <a:stretch/>
        </p:blipFill>
        <p:spPr>
          <a:xfrm>
            <a:off x="179280" y="907920"/>
            <a:ext cx="511344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2:43:37Z</dcterms:created>
  <dc:creator>Алексей</dc:creator>
  <dc:description/>
  <dc:language>en-US</dc:language>
  <cp:lastModifiedBy>Алексей</cp:lastModifiedBy>
  <dcterms:modified xsi:type="dcterms:W3CDTF">2013-05-01T09:49:32Z</dcterms:modified>
  <cp:revision>8</cp:revision>
  <dc:subject/>
  <dc:title>Красная книга Саратовской области</dc:title>
</cp:coreProperties>
</file>