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FA80-5D92-4392-ABE9-83783B2AE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CD19-C4C7-4938-9931-E11680ED22B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BCB6-0EF3-4090-B8A5-CC2F4F7DF42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7EBB-0EC1-4F35-A8A2-873C63B70D7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C6D4-32F3-491C-82F4-2463708ABD5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5733-7A95-4CF8-BF64-100173D8B5E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F3B4-B636-4DB1-87CD-B18DCDA0FB7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20D4-DF34-43C7-A586-FD5ACFD02A3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C8C4-0580-430E-A139-D90CA54E2BD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BF60-F195-4FD2-9B17-53D776889F6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B0D4-7288-447A-8D5E-A2D26A042D1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78E9-6B29-4284-B5D1-340A1589B73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376F-C07F-40E0-85CE-974C48FA433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1365-0F80-4235-944C-C24B54ACE57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25B8-303D-4238-918A-62FF3985366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A42-8AE8-4B4E-94D4-F7DEAFEA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D44-FE5D-449B-9715-1877751B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E3C8-FEF1-4E50-982B-C1DE649A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EA0-3CC8-4282-B583-D86F62F0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8921-01C7-4A43-A81A-80BD24BD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A3CB-9DB0-4413-A88D-9E87058E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AF4C-18B6-4277-8132-D1850794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CDFB-6C0D-4C0F-B737-A4292253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A96B-046D-4639-BFDB-15A47913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CCA6-2425-4A0A-9052-646C0FD5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1086-0D12-453E-8ED2-40194B62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4B8-1058-44E6-BC45-6351E828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2547-FAEA-4CAE-ABD4-A8549005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4926-9690-4EE1-923B-CC9B8503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319E-677C-4B86-88B6-BD6A5FA0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F590-DBA2-48A0-8D82-C7F3D468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A994-6D77-4F38-B062-756A37FB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A219-04C7-4ADB-875F-53B2150E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4BC5-B418-4D4A-BAA1-4A42C187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F098-74C9-4CE1-8CCD-6B4B25D2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34478-72C2-4380-A17B-0D2C32F0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ECFFF-9CF6-4EEB-8703-DB2C8AAE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58A-57D0-49BC-B27E-581987CB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A00B-7CB9-4F10-ACF8-33A25C97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B7FDF-F2DB-43D0-9656-D834B3EC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C038E-63B8-4097-88D4-869D28B0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B7D6-10EB-44CC-BBA9-43A6D4D6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563AE-6FDF-4DF6-AD72-4A6B202D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620C-6BBA-461E-95EC-B0F786C8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1FAEB-12BC-48B4-B7E1-BB10E423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644E5-AD9F-4B30-9853-7A5D8772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56798-6EB7-44BA-8B58-2A500E5F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8B667-71F7-4C2E-BCAC-AC81758F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370-17BD-4420-8E97-7CE1B2BC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5623C-33AC-4EBE-B6D3-AAB4C255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034DD-D76F-4AE9-B142-52B92079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A892E-6432-4B42-B07C-A7EF402B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E6E54-ACDD-4196-9C14-DD211BA7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AFD8-2514-47FB-9128-B4872083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77C02-426D-4CBA-BAF6-EB2DBCE8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73B81-64B2-4530-8244-BA6C5FA5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12B91-D4D8-486B-B752-2614EFDB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33026-7C64-4A14-A5FB-884016BF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F78AC-BAC2-43A5-9499-CF3855A9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137-FFB1-40A6-8202-441937D6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413FF-60E2-4755-8B78-64626BE7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08A80-714D-41EE-AF2B-20E81A8D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C6ADE-7243-440A-B24F-BB55085E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FF163-DD90-4031-B890-F9A0EDDE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72B84-5EDF-4B98-BCF4-1AAA189A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9C269-635E-4D0E-B30A-9E4F5B2D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146AA-9E08-4BBC-8420-763008F3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8C139-7014-4BA0-A8DA-C79D20B9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5B9B0-D703-4795-87A6-4EEC9D63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B5DB2-1490-40E9-BBDB-967A4BF2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6485-3940-4E9D-8F3E-FC695326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1B1EC-8E95-4519-878E-9CBFCFC9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3413E-0D65-4923-B8D4-9154D30C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21AB1-BD18-41B8-A39F-DA08FCFE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C9E04-70E6-4234-9AB7-7731DB19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CA293-2023-42E1-9619-02928A3F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95C40-3D99-46B1-800C-E400650B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26386-01F5-4247-B364-84807658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EB600-5DD8-4498-8152-04B6447C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C6222-E88B-4C7C-B6F0-A0574379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0D834-6F7B-4195-9396-C515D1C7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8BA-8897-4606-9CD1-358F1246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5B211-2DAD-42F6-AA24-ADE8ACB4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26F5F-D351-441F-95A9-47C29D73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5EA3B-D8A8-44D4-8D3A-B4DEDA21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89CF2-192F-4F4C-A796-7D19383A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7483E-4BB8-4F81-B6EC-BBE4CF44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82412-EEB3-4D74-82D3-073D854C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20545-9E81-44A7-B7C8-33CC5224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AEA92-3367-4D2B-8C67-EBFE6F5A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B3998-7CAD-4F33-92EE-01D5C9DC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E6D96-E926-406D-8049-5A0D62A6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66D-7D3C-47AA-95CA-9E8D4930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095B9-0C49-4C64-94BA-8E280CFC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53158-055C-4638-BB55-C1F4821E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2F391-EB01-4812-BEDC-9E068FC6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E11CA-28A4-4AA5-9C03-23801C67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64AC9-BFA3-4706-A847-156D7B44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59723-1756-44C1-AFF7-AC8CC391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3EB5C-7BFA-488F-9975-3C17B653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CB5DA-BDA7-4BB2-AE41-C3158684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E7D45-7FDE-4DF2-8A0D-AF4FB40E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04209-2B9C-46F1-AB6B-FC707C13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421-77CB-4E6C-ABA0-C543FE0B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D66AD-1AC9-4D05-A3FF-C84E44EC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ED505-D0DE-46B9-A998-1FF061CD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AA97E-32D8-4A93-AC87-EDF6D2CC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D581D-E2BF-4E7A-AEE1-CFCAEF23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D8F8A-D797-401A-8C43-F88B894D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5DEFC-F294-4D06-AB11-CBBB3D82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55B1F-6A8D-442E-A362-F54D92AC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2DFE-3620-42F2-8ED3-F5CCB7A45695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F73C-9435-4F31-AD03-001FC494552D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31E6-7A56-4B1B-81CF-70B806429A05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61BC-412E-426C-BB32-3955D7009482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4FAA-9AFC-428E-B60C-A3417977E10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55C2-D600-4DF8-BB2B-B868E660B6E2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3C81-6BDB-451D-92D6-9F6BEFD902AE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7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E057-91B0-421F-ABB3-12A527FA8182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32" name="матурлык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768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Табигать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Бәдретдиннең күңел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Гаилә мөнәсәбәтләренең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Ана белән бала мәхәббәтенең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Шәкертләрнең матур мөгамәләс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0" name="Рисунок 1" descr=""/>
          <p:cNvPicPr/>
          <p:nvPr/>
        </p:nvPicPr>
        <p:blipFill>
          <a:blip r:embed="rId1"/>
          <a:stretch/>
        </p:blipFill>
        <p:spPr>
          <a:xfrm>
            <a:off x="0" y="36360"/>
            <a:ext cx="364824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108000" y="-15840"/>
            <a:ext cx="914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нең идеясе – 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0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белән бала мәхәббә</a:t>
            </a:r>
            <a:r>
              <a:rPr b="1" i="1" lang="tt-RU" sz="58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те </a:t>
            </a:r>
            <a:endParaRPr b="0" lang="en-US" sz="5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24360" y="264600"/>
            <a:ext cx="5148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Ана - бөек исем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Нәрсә җитә ана булуг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атын-кызның бөтен матурлыгы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Бөтен күрке ана булуда..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4645080" y="622440"/>
            <a:ext cx="359712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-541440" y="260280"/>
            <a:ext cx="9144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атар халык мәкал</a:t>
            </a:r>
            <a:r>
              <a:rPr b="1" i="1" lang="ru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ь</a:t>
            </a:r>
            <a:r>
              <a:rPr b="1" i="1" lang="tt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ләре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күңеле балада, бала күңеле далад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теләге диңгез төбеннән чыгарыр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куены туннан җылырак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Уч төбендә тәбә пешереп ашатсаң да, анаң каршындагы изге бурычны үти алмыйсың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Баласы суга төшәр, анасы утка төшәр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– шәфкат</a:t>
            </a: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ь</a:t>
            </a: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 диңгезе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Өйнең яме ана белә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360" y="54900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0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Өй эше: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“</a:t>
            </a:r>
            <a:r>
              <a:rPr b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ормышта матурлыкның чагылышы”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дигән темага иҗади язма эш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3f7819"/>
                </a:solidFill>
                <a:latin typeface="Times New Roman"/>
                <a:ea typeface="Calibri"/>
              </a:rPr>
              <a:t>Матурлык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-  </a:t>
            </a: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барлык матур, гүзәл, күңелгә рәхәтлек, ләззәт бирә торган нәрсә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табигатьтә матур, сокланырлык урыннар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сөйкемле, үзенә нык җәлеп итә торган тышкы кыяфәт, чибәрлек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кеше характерындагы, эшчәнлегендәге  уңай, хуплана торган сыйфат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24000" y="1628640"/>
            <a:ext cx="54007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Әмирхан Еникинең </a:t>
            </a:r>
            <a:r>
              <a:rPr b="1" i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“Матурлык” </a:t>
            </a:r>
            <a:r>
              <a:rPr b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се</a:t>
            </a:r>
            <a:endParaRPr b="0" lang="en-US" sz="6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37" name="Picture 5" descr="C:\Users\Ляйсан\Desktop\Eniki.jpg"/>
          <p:cNvPicPr/>
          <p:nvPr/>
        </p:nvPicPr>
        <p:blipFill>
          <a:blip r:embed="rId1"/>
          <a:stretch/>
        </p:blipFill>
        <p:spPr>
          <a:xfrm>
            <a:off x="5145120" y="1195560"/>
            <a:ext cx="360216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79280" y="3193920"/>
            <a:ext cx="184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-108000" y="44280"/>
          <a:ext cx="9252000" cy="6810480"/>
        </p:xfrm>
        <a:graphic>
          <a:graphicData uri="http://schemas.openxmlformats.org/drawingml/2006/table">
            <a:tbl>
              <a:tblPr/>
              <a:tblGrid>
                <a:gridCol w="1376280"/>
                <a:gridCol w="5888160"/>
                <a:gridCol w="1987560"/>
              </a:tblGrid>
              <a:tr h="501840"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ЭЛ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РАЗЛ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</a:t>
                      </a: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ҢЫНН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шьлек – иң матур чак. Хикәя яшьлек хатирәләре турында.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дә матур табигать күренешләре турында сүз ба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3988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шәфкатьле эш-гамәлләр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дә рухи матурлык турында сүз ба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26216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яшь егет белән кыз арасындагы мәхәббәт хисләре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берәр рәссам, матур сәнгать әсәрләре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әлки хикәядә матур, чибәр туташлар катнашады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3f7819"/>
                </a:solidFill>
                <a:latin typeface="Times New Roman"/>
                <a:ea typeface="Calibri"/>
              </a:rPr>
              <a:t>Матурлык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-  </a:t>
            </a: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барлык матур, гүзәл, күңелгә рәхәтлек, ләззәт бирә торган нәрсә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табигатьтә матур, сокланырлык урыннар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сөйкемле, үзенә нык җәлеп итә торган тышкы кыяфәт, чибәрлек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кеше характерындагы, эшчәнлегендәге  уңай, хуплана торган сыйфат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нең темасы -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рухи матурлык 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AudioCutter_салкын чишмә.mp3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0062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ьсезлек</a:t>
            </a:r>
            <a:r>
              <a:rPr b="1" i="1" lang="tt-RU" sz="36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  –  матурлык  </a:t>
            </a: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каршы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Нәрсә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ямьсез?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Нәрсә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tt-RU" sz="36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матур?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Табигать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Бәдретдиннең күңел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Гаилә мөнәсәбәтләренең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Ана белән бала мәхәббәтенең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Шәкертләрнең матур мөгамәләс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08:48Z</dcterms:created>
  <dc:creator>Христина</dc:creator>
  <dc:description/>
  <dc:language>en-US</dc:language>
  <cp:lastModifiedBy>User</cp:lastModifiedBy>
  <dcterms:modified xsi:type="dcterms:W3CDTF">2019-11-27T14:11:59Z</dcterms:modified>
  <cp:revision>45</cp:revision>
  <dc:subject/>
  <dc:title>Слайд 1</dc:title>
</cp:coreProperties>
</file>