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C18C-D578-440A-91D5-CF799050F4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5C59-BCC1-4AEA-8DE8-0F9DFDAEDCF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75F3-4F12-4D63-A2B4-CEB84383C0C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CB8E-AA77-4715-A3FC-DB7F38A83AB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0FE9-AF4B-4FEF-9FCB-617A18873FA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602E-C4C2-4FF4-AD3A-651EC9C7F5F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3D65-5301-4BEE-AAAF-DAF167C1658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3B58-5A21-43B5-B2D8-6269E5CF651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B404-9404-46F6-9545-4612DCCDF65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5631-DEAE-4A44-B638-D11673F291F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4E49-5768-4CA5-B5FC-8A76DD18160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4AA3-38EA-49DA-BE7E-4E15D634236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6333-E9CE-4140-B999-A76972DE2EE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C6F1-E9FA-41A0-9485-A6D97392837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BA1F-47BC-49FF-A4C5-AC2C4F3BE7E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AE09-8CC6-4084-A1A7-CB72EACE0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EC8A-62D2-4E4B-B693-4CA98A67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068F-9F38-4C67-9515-C3A2E6B06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8703-F3FD-420A-8DEA-82FA45186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CCF4-B09A-4B61-A6D5-3F6EC71AC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1DD0-D922-4185-B059-F868DB74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2658-5F2F-4EBB-B574-DAF2BF1D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7057-ACC4-4126-BEE5-4B72179F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B28F-8660-4B88-AE9C-0F4E6E58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47E1-7EF6-4CF4-A330-31B9E8A5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4CC5-06DA-48AD-946F-0E0A38B7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7983-E23A-4F2B-8F2C-C31D5260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B952-1001-4933-BCFB-12E5BEC0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E7C3-F3B6-4B0A-97F3-125891C4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09098-FB99-4971-A0B6-CA75D90C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A3AA-5669-4DB1-A3C7-D926A8FF5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8DBD-3780-435F-A101-5AD3EF9FA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9D165-398C-47B4-A3CD-BF6B078CE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943BA-C552-4355-BA3A-34DDAC21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E7A8B-EF5B-4D6C-9FBF-A01BE2BC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0DF8D-0AD2-4E76-94D7-3A7ADBE4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3B095-5929-4E8E-964F-695875F9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D23D-B3B2-45E5-BB08-999AACD9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36DA2-A7F4-4BEB-B46F-E53F75B4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EC5B7-556F-4A9D-AEA0-A02C6239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CC671-9727-4667-9430-C01BA5A7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49529-0408-4245-B036-CE61DE0F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ED4B7-7162-46AA-BB9B-72846137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8AEB0-6CAD-4438-95B2-CC4870C61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5744A-7637-4791-8F13-DF1394218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B6B40-3002-4CC9-A87F-A511EBD24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DB5D5-8D36-437C-897F-211B8554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84D8C-89FB-4C26-8135-7722878B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7632-5DCE-45BB-A120-0D643F0A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8D734-BA96-4763-825E-C9AEE296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4E129-2024-46B4-AAF5-32E473AB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EB738-8C52-4C1F-A1B2-B8C8DF1E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479B3-1375-4801-AF39-8D5F31EE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25F8A-32B0-4B5D-9AE9-420F2CA6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FA93F-03CF-478E-BF9E-9A0A603A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4B28D-EF5C-49D4-B6BE-F3B9AC18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A98CF-13AD-4847-94A7-FB030389E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97247-C292-482D-9F79-4895C67FD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08152-3331-4B2D-8131-5030F3E48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F797-2BDA-4BD7-B22A-7E87F476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DDC81-FC60-43AA-8C95-1A427EFF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2520B-E08B-42A7-AD1F-B2036CD1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00E5F-58E2-41FA-BC22-BAA849B2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25762-2BCD-4BF1-BE1F-C2BCC3A9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113C9-DE61-4CAA-BA6E-3FE37F08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05525-D143-4DF1-AA22-4BAC20E0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5CA72-C623-43A7-A411-48D17774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B4DBC-2764-4DA4-AAB8-ABED4244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B82D3-1701-4502-B7DE-593C68ED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CF75F-0921-4F74-A607-EEC0C40AE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45F3-46AB-4960-918C-9F88D12D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481D4-8C10-4F90-A57D-0569EEF52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29A51-43D7-4F1A-8D25-61DB54FE4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F160A-5671-45A9-92E6-80E2347D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9D0E6-3DC6-4465-828B-0BA5E1DD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49D5B-4BA5-4B7E-9614-89977392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B3A75-E061-42AE-BCB1-C1341AED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9182A-F615-4E78-9E19-0EAEF43B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CAC9E-FDA3-4826-81A8-A66CD90B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41E97-55FB-4794-85B2-DC27481D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C5292-CAA1-4D75-B8FF-436268C9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8403-C098-4199-98A2-BC8D7413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F63A9-FEB4-4FF2-991C-E0B81D18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29309-98D0-40A3-852B-21FD11BEA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E9FAF-6BC6-402A-8141-A9A98A7D7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DA8B7-0960-4FD3-A7D2-060633EF1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AEFEC-A05B-4098-A48C-B3BA1E8F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1A2B5-B4C7-4220-ACD7-52E47022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491B7-E38D-4D9D-BEFC-B891CE84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5DCB8-5EBC-467E-B077-D9E531C0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82C1D-F31D-4926-9C26-A3EF3C7D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756D2-89CB-400A-8AF9-F6E3AD0A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A659-6E1E-4E1C-956E-43D0D80E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B475F-454A-4B09-8C6A-1587585D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00088-B995-4604-AE92-A96CFB8F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5653A-32A3-4EB9-82CB-D4C63A4F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2CB60-F911-4675-A6A2-5970B89A2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FF472-2D0C-417F-8782-6042FF790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F9790-60C4-4618-A4D1-7BCDF603B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E6881-BA6F-4F94-835E-3EB8D5D7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915F9-3981-47D3-BA97-A2CD5CAE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5E4E6-35BD-4D13-A121-E629064E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69715-83A3-4F92-BE3E-57364CE6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F564-6000-410B-97F0-02A977A9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0F31C-0198-484D-ABDC-0D407C04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671AB-6BF1-4503-8590-BA1D7B56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63A44-5642-4D6B-BB99-F2699DF4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7D776-45FF-47E5-A96F-B9A71803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9DD8F-CDC2-4CC9-9D81-C2E35A1F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2DD02-9201-426A-AE08-440C917C5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3EDAD-6C64-4AA1-8A26-792611D0B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40DE-FF6A-4C4A-A12C-CC3AF6865ACC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D719-1971-4DA0-9862-9DE18AD60F86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341C-554F-436B-8129-AAFB608A8244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64A6-CE98-44CE-A0EC-40CDC7E7640F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1752-0A8E-493F-A0DC-514430EB3ABF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65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C4FB-F3FC-43A9-A4D7-AA46E461CCC9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31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9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0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3702-805D-44B5-ACBA-EA97D2FA9E5B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37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D5ED-EAE1-44A3-8E03-D5CD3089963B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79280" y="26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4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432" name="матурлык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9768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0" y="-15840"/>
            <a:ext cx="9253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                                                           </a:t>
            </a:r>
            <a:r>
              <a:rPr b="1" i="1" lang="tt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Табигать матурлыг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i="1" lang="tt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Бәдретдиннең күңел матурлыг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                      </a:t>
            </a:r>
            <a:r>
              <a:rPr b="1" i="1" lang="tt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Гаилә мөнәсәбәтләренең матурлыг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                </a:t>
            </a:r>
            <a:r>
              <a:rPr b="1" i="1" lang="tt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Ана белән бала мәхәббәтенең матурлыг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i="1" lang="tt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Шәкертләрнең матур мөгамәләс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50" name="Рисунок 1" descr=""/>
          <p:cNvPicPr/>
          <p:nvPr/>
        </p:nvPicPr>
        <p:blipFill>
          <a:blip r:embed="rId1"/>
          <a:stretch/>
        </p:blipFill>
        <p:spPr>
          <a:xfrm>
            <a:off x="0" y="36360"/>
            <a:ext cx="3648240" cy="313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108000" y="-15840"/>
            <a:ext cx="9145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67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Хикәянең идеясе – </a:t>
            </a:r>
            <a:endParaRPr b="0" lang="en-US" sz="6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60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ана белән бала мәхәббә</a:t>
            </a:r>
            <a:r>
              <a:rPr b="1" i="1" lang="tt-RU" sz="58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те </a:t>
            </a:r>
            <a:endParaRPr b="0" lang="en-US" sz="5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4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79280" y="26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24360" y="264600"/>
            <a:ext cx="51483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Ана - бөек исем!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Нәрсә җитә ана булуга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Хатын-кызның бөтен матурлыгы,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Бөтен күрке ана булуда..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54" name="Picture 2" descr=""/>
          <p:cNvPicPr/>
          <p:nvPr/>
        </p:nvPicPr>
        <p:blipFill>
          <a:blip r:embed="rId1"/>
          <a:stretch/>
        </p:blipFill>
        <p:spPr>
          <a:xfrm>
            <a:off x="4645080" y="622440"/>
            <a:ext cx="3597120" cy="486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-541440" y="260280"/>
            <a:ext cx="91440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48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Татар халык мәкал</a:t>
            </a:r>
            <a:r>
              <a:rPr b="1" i="1" lang="ru-RU" sz="48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ь</a:t>
            </a:r>
            <a:r>
              <a:rPr b="1" i="1" lang="tt-RU" sz="48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ләре: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Ана күңеле балада, бала күңеле далада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2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Ана теләге диңгез төбеннән чыгарыр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2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Ана куены туннан җылырак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2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Уч төбендә тәбә пешереп ашатсаң да, анаң каршындагы изге бурычны үти алмыйсың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Баласы суга төшәр, анасы утка төшәр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2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Ана – шәфкат</a:t>
            </a:r>
            <a:r>
              <a:rPr b="1" i="1" lang="ru-RU" sz="32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ь</a:t>
            </a:r>
            <a:r>
              <a:rPr b="1" i="1" lang="tt-RU" sz="32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 диңгезе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2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Өйнең яме ана белән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2916000" y="260280"/>
            <a:ext cx="583236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tt-RU" sz="1800" spc="-1" strike="noStrike">
                <a:solidFill>
                  <a:srgbClr val="b9d181"/>
                </a:solidFill>
                <a:latin typeface="Trebuchet MS"/>
              </a:rPr>
              <a:t>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79280" y="26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9360" y="549000"/>
            <a:ext cx="8569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50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Өй эше:</a:t>
            </a:r>
            <a:endParaRPr b="0" lang="en-US" sz="5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40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“</a:t>
            </a:r>
            <a:r>
              <a:rPr b="1" lang="tt-RU" sz="40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Тормышта матурлыкның чагылышы”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40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дигән темага иҗади язма эш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179280" y="333360"/>
            <a:ext cx="8785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400" spc="-1" strike="noStrike">
                <a:solidFill>
                  <a:srgbClr val="3f7819"/>
                </a:solidFill>
                <a:latin typeface="Times New Roman"/>
                <a:ea typeface="Calibri"/>
              </a:rPr>
              <a:t>Матурлык</a:t>
            </a:r>
            <a:r>
              <a:rPr b="1" lang="tt-RU" sz="3400" spc="-1" strike="noStrike">
                <a:solidFill>
                  <a:srgbClr val="f0d578"/>
                </a:solidFill>
                <a:latin typeface="Times New Roman"/>
                <a:ea typeface="Calibri"/>
              </a:rPr>
              <a:t>  -  </a:t>
            </a:r>
            <a:r>
              <a:rPr b="1" i="1" lang="tt-RU" sz="3400" spc="-1" strike="noStrike">
                <a:solidFill>
                  <a:srgbClr val="161e22"/>
                </a:solidFill>
                <a:latin typeface="Times New Roman"/>
                <a:ea typeface="Calibri"/>
              </a:rPr>
              <a:t>барлык матур, гүзәл, күңелгә рәхәтлек, ләззәт бирә торган нәрсә;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400" spc="-1" strike="noStrike">
                <a:solidFill>
                  <a:srgbClr val="161e22"/>
                </a:solidFill>
                <a:latin typeface="Times New Roman"/>
                <a:ea typeface="Calibri"/>
              </a:rPr>
              <a:t>табигатьтә матур, сокланырлык урыннар;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400" spc="-1" strike="noStrike">
                <a:solidFill>
                  <a:srgbClr val="161e22"/>
                </a:solidFill>
                <a:latin typeface="Times New Roman"/>
                <a:ea typeface="Calibri"/>
              </a:rPr>
              <a:t>сөйкемле, үзенә нык җәлеп итә торган тышкы кыяфәт, чибәрлек;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400" spc="-1" strike="noStrike">
                <a:solidFill>
                  <a:srgbClr val="161e22"/>
                </a:solidFill>
                <a:latin typeface="Times New Roman"/>
                <a:ea typeface="Calibri"/>
              </a:rPr>
              <a:t>кеше характерындагы, эшчәнлегендәге  уңай, хуплана торган сыйфат.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2916000" y="260280"/>
            <a:ext cx="583236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tt-RU" sz="1800" spc="-1" strike="noStrike">
                <a:solidFill>
                  <a:srgbClr val="b9d181"/>
                </a:solidFill>
                <a:latin typeface="Trebuchet MS"/>
              </a:rPr>
              <a:t>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79280" y="26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24000" y="1628640"/>
            <a:ext cx="5400720" cy="45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65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Әмирхан Еникинең </a:t>
            </a:r>
            <a:r>
              <a:rPr b="1" i="1" lang="tt-RU" sz="65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“Матурлык” </a:t>
            </a:r>
            <a:r>
              <a:rPr b="1" lang="tt-RU" sz="65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хикәясе</a:t>
            </a:r>
            <a:endParaRPr b="0" lang="en-US" sz="65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37" name="Picture 5" descr="C:\Users\Ляйсан\Desktop\Eniki.jpg"/>
          <p:cNvPicPr/>
          <p:nvPr/>
        </p:nvPicPr>
        <p:blipFill>
          <a:blip r:embed="rId1"/>
          <a:stretch/>
        </p:blipFill>
        <p:spPr>
          <a:xfrm>
            <a:off x="5145120" y="1195560"/>
            <a:ext cx="3602160" cy="47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79280" y="26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79280" y="3193920"/>
            <a:ext cx="18432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-108000" y="44280"/>
          <a:ext cx="9252000" cy="6810480"/>
        </p:xfrm>
        <a:graphic>
          <a:graphicData uri="http://schemas.openxmlformats.org/drawingml/2006/table">
            <a:tbl>
              <a:tblPr/>
              <a:tblGrid>
                <a:gridCol w="1376280"/>
                <a:gridCol w="5888160"/>
                <a:gridCol w="1987560"/>
              </a:tblGrid>
              <a:tr h="501840">
                <a:tc>
                  <a:txBody>
                    <a:bodyPr lIns="31320" rIns="31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ЭЛ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ФАРАЗЛА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О</a:t>
                      </a:r>
                      <a:r>
                        <a:rPr b="1" lang="tt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ҢЫНН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</a:tr>
              <a:tr h="841320"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шьлек – иң матур чак. Хикәя яшьлек хатирәләре турында.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841320"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кәядә матур табигать күренешләре турында сүз бар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839880"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кәя шәфкатьле эш-гамәлләр турынд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841320"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t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кәядә рухи матурлык турында сүз бар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1262160"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кәя яшь егет белән кыз арасындагы мәхәббәт хисләре турынд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841320"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кәя берәр рәссам, матур сәнгать әсәрләре турынд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841320"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t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әлки хикәядә матур, чибәр туташлар катнашады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179280" y="333360"/>
            <a:ext cx="8785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400" spc="-1" strike="noStrike">
                <a:solidFill>
                  <a:srgbClr val="3f7819"/>
                </a:solidFill>
                <a:latin typeface="Times New Roman"/>
                <a:ea typeface="Calibri"/>
              </a:rPr>
              <a:t>Матурлык</a:t>
            </a:r>
            <a:r>
              <a:rPr b="1" lang="tt-RU" sz="3400" spc="-1" strike="noStrike">
                <a:solidFill>
                  <a:srgbClr val="f0d578"/>
                </a:solidFill>
                <a:latin typeface="Times New Roman"/>
                <a:ea typeface="Calibri"/>
              </a:rPr>
              <a:t>  -  </a:t>
            </a:r>
            <a:r>
              <a:rPr b="1" i="1" lang="tt-RU" sz="3400" spc="-1" strike="noStrike">
                <a:solidFill>
                  <a:srgbClr val="161e22"/>
                </a:solidFill>
                <a:latin typeface="Times New Roman"/>
                <a:ea typeface="Calibri"/>
              </a:rPr>
              <a:t>барлык матур, гүзәл, күңелгә рәхәтлек, ләззәт бирә торган нәрсә;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400" spc="-1" strike="noStrike">
                <a:solidFill>
                  <a:srgbClr val="161e22"/>
                </a:solidFill>
                <a:latin typeface="Times New Roman"/>
                <a:ea typeface="Calibri"/>
              </a:rPr>
              <a:t>табигатьтә матур, сокланырлык урыннар;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400" spc="-1" strike="noStrike">
                <a:solidFill>
                  <a:srgbClr val="161e22"/>
                </a:solidFill>
                <a:latin typeface="Times New Roman"/>
                <a:ea typeface="Calibri"/>
              </a:rPr>
              <a:t>сөйкемле, үзенә нык җәлеп итә торган тышкы кыяфәт, чибәрлек;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400" spc="-1" strike="noStrike">
                <a:solidFill>
                  <a:srgbClr val="161e22"/>
                </a:solidFill>
                <a:latin typeface="Times New Roman"/>
                <a:ea typeface="Calibri"/>
              </a:rPr>
              <a:t>кеше характерындагы, эшчәнлегендәге  уңай, хуплана торган сыйфат.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2916000" y="260280"/>
            <a:ext cx="583236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tt-RU" sz="1800" spc="-1" strike="noStrike">
                <a:solidFill>
                  <a:srgbClr val="b9d181"/>
                </a:solidFill>
                <a:latin typeface="Trebuchet MS"/>
              </a:rPr>
              <a:t>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0" y="-15840"/>
            <a:ext cx="9253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67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Хикәянең темасы -</a:t>
            </a:r>
            <a:endParaRPr b="0" lang="en-US" sz="6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67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рухи матурлык </a:t>
            </a:r>
            <a:endParaRPr b="0" lang="en-US" sz="6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0" y="-15840"/>
            <a:ext cx="9253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4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6" name="AudioCutter_салкын чишмә.mp3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0062" fill="hold"/>
                                        <p:tgtEl>
                                          <p:spTgt spid="4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0" y="-15840"/>
            <a:ext cx="9253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мьсезлек</a:t>
            </a:r>
            <a:r>
              <a:rPr b="1" i="1" lang="tt-RU" sz="36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  –  матурлык  </a:t>
            </a:r>
            <a:r>
              <a:rPr b="1" i="1" lang="tt-RU" sz="3600" spc="-1" strike="noStrike">
                <a:solidFill>
                  <a:srgbClr val="c42f1a"/>
                </a:solidFill>
                <a:latin typeface="Times New Roman"/>
                <a:ea typeface="Times New Roman"/>
              </a:rPr>
              <a:t>каршылыгы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600" spc="-1" strike="noStrike">
                <a:solidFill>
                  <a:srgbClr val="c42f1a"/>
                </a:solidFill>
                <a:latin typeface="Times New Roman"/>
                <a:ea typeface="Times New Roman"/>
              </a:rPr>
              <a:t>Нәрсә</a:t>
            </a:r>
            <a:r>
              <a:rPr b="1" i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ямьсез?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600" spc="-1" strike="noStrike">
                <a:solidFill>
                  <a:srgbClr val="c42f1a"/>
                </a:solidFill>
                <a:latin typeface="Times New Roman"/>
                <a:ea typeface="Times New Roman"/>
              </a:rPr>
              <a:t>Нәрсә</a:t>
            </a:r>
            <a:r>
              <a:rPr b="1" i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tt-RU" sz="36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матур?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0" y="-15840"/>
            <a:ext cx="9253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6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Табигать матурлыгы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6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Бәдретдиннең күңел матурлыгы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6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Гаилә мөнәсәбәтләренең матурлыгы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6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Ана белән бала мәхәббәтенең матурлыгы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6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Шәкертләрнең матур мөгамәләсе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10:08:48Z</dcterms:created>
  <dc:creator>Христина</dc:creator>
  <dc:description/>
  <dc:language>en-US</dc:language>
  <cp:lastModifiedBy>User</cp:lastModifiedBy>
  <dcterms:modified xsi:type="dcterms:W3CDTF">2019-11-27T14:11:59Z</dcterms:modified>
  <cp:revision>45</cp:revision>
  <dc:subject/>
  <dc:title>Слайд 1</dc:title>
</cp:coreProperties>
</file>