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6BF3-5F2A-4DCE-9983-88658CEA1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FDA9-8E9E-4857-9375-BB51C69DAEF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7578-2D8E-4B43-B0C3-DA4A5FB56A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6363-CA9A-45D2-802E-64DCD435C9B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E53-5664-4E69-A32F-A7C77B32F30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9E6A-0190-43DF-8965-022987144A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DF4A-7700-4D81-9592-C09D4B5D1CD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22C-EBE0-4451-B642-47BE81371A3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717F-18E0-4049-AA51-0ECD510E84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BA79-6FC9-45D2-A481-406648329B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FF72-1992-439B-8F7D-2464C0FD4F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1D12-C207-4CCC-ACDC-24CB9470CB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0DF3-C461-4023-A948-3AE63DD20C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DABA-A074-47AE-99A1-8A41F25EE56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26B-3AEA-48EE-B3FB-1E74A059C2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BA5-12DB-44D7-AE50-329E106C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602-976D-4C96-9F05-F407D9FC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D52-A591-410A-B2F0-428CB0D1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AAC-6CF1-45F9-B9C7-8D7C3284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845D-5E52-46AA-A8A0-140D875C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87D8-076E-4014-B56E-75950C1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8898B-06E7-4C4C-84B9-3C3DA1F9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A58-0275-488A-91FA-EC7C8386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8362-3FCD-47A4-8B72-6CF0DD7F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68DA-DEE8-40F0-A71D-AB531D1A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B86-2808-496C-942A-C2CAD42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CFFB-9974-4201-90FD-6674D588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C0F-B5D0-4921-8C85-DDA32F6B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8F21-EB19-4C99-8BA6-3176F72B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338F-5E12-4D1B-A903-53910715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0494-9A6A-4B98-96CC-88DD5ADF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BEA1-8259-4D3F-8D4C-B758941F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D366-47E2-4805-BFF7-65625358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3926-8C81-4B52-9AB2-EEF59CD1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F35A2-523B-4295-A81A-6107DB5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B4D50-CB82-4F65-A757-8035B6FD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0897A-14CC-42FF-9657-F0EC8F01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A786-E0A8-4C0F-943B-E3342A14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7C1CA-086A-4516-B5FC-C121732D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6FE43-E55A-41A3-9B0E-5EFEDDF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0AAD-F3F0-4680-8CB3-2814B6D8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DCA3-E711-4600-B6D1-22EAC08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B1D2-2163-4EAE-9FE1-008E6628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1404-4F69-49D7-BCC0-2093212C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5889F-3065-48F5-9A80-6C401B33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1709-776C-4293-B9A0-D67AE025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DFE2-58AE-4804-9A20-B90579B0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A287-3B20-4EC8-B099-6A9461E0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CFF-012F-4A04-B233-197E38CF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7C99-A52C-4AB8-89A2-D40B9CF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C435-2C02-4BC2-A224-6CCA10D3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CB8E-D820-4E09-9897-764BACD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3C93E-5DA9-446A-A57D-FD2E3082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8B6B-1B45-463B-A1F7-02103858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6ABF0-F279-40CE-A56A-177E5DB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AE007-2114-41DE-82B3-D7F8268C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405C2-3857-46E1-BDCA-E8D52CA7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EB7FD-420B-4A79-A381-6D50C338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AF5EF-ED76-4FEA-9897-BF9F8B81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FBEF-5B64-4C06-9CCA-40E57A60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34E1B-DDA0-4726-8DBA-D3807933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CA7F7-CCDD-4ADC-8249-C31ABD93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D2ADF-148D-4F6E-B998-471A2E25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D4108-C426-4028-9472-A3A820DD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1FDE-9C7E-4491-97DB-BE183B8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5C659-2C6A-45A5-99EA-47C05876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6A23-D918-4E1D-9FC6-4A19BEC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3951B-E43B-4773-9B29-D3499B8F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7E0F6-28ED-449D-8709-0BB9B7E6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2C0B0-7CEF-43F7-93E2-1F1AC1F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6BE-F7A8-44EE-94EE-DA125DB6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22154-194E-4203-AE3B-AA84CE4E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0ED4-26B5-49A2-8311-1903281D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30188-C81F-4578-84EE-F191699D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2B75E-80D4-435E-BEB4-26221A5E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BB41A-BB3A-43DB-B5C5-6F5F1D83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419E-3FDC-42FF-BE29-556651F6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47FF-46F2-4617-B2D2-D7D4D2F4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04CE-3558-4653-B4BF-359A5096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C365-29D8-46ED-89DE-CBCB926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B4C07-83CC-4C9B-B1DA-B1EB64A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788-E372-45BF-9EC9-F9D8A485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7020C-F9CF-4132-91E7-ED2765BA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A13D5-E714-4F27-9DA8-7F907523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D95F-CB75-4B09-97FF-5D2DB777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CEBB9-2CAC-4305-BBA8-E2661FA3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2674A-E823-409B-96C6-092E2E2A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FCED2-78A9-4BA3-97D8-CF698914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BB7A-6BCC-46E5-802D-01FAE096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11E2-1E8E-4A2F-8858-0DA84086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A99ED-F704-4BDA-B556-0BC8D30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8377-5223-4C2D-A159-7AD966E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AB36-BE1E-4EB4-B84E-ACF0D395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02D4B-3AA6-4989-8F66-F4426AA8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E5A20-72F6-47E9-B7E9-1A44198A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9FD5C-1B3D-47E4-94ED-849D1BD8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AAC7B-3080-4FD8-996E-FFAC98E5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736A-CC53-475E-B908-507E356E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B8F8E-A5DD-480B-8D9F-F420983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F645A-4063-40CF-B94C-5796FC2B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11C64-3B19-41EF-B7BA-F6C4276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420F5-6A8A-43D5-99A0-9EACE52D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C5E89-AAB7-4A3E-90F2-ED3CC631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7E1B-EAF8-4BAB-B786-C33AE35F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CB04F-509D-4B90-AFBD-A934950B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568DF-C231-49FB-A21D-96FB4B76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96A8-AC51-44C0-9E9E-8ECBEDFA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0AE1-9029-4DB0-9DF3-62BB115E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B65D-BACD-4DA4-9B7A-568A22D6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5F387-1718-438E-8E6E-2204A52D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FAA5-9FFF-4FA8-9EEE-C91F5C95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EB1-8A7C-4D4B-9401-715F7AF7A9B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8310-C2F4-480A-A09C-A0EA48EF058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9D4-895F-422A-BB00-89879BA30B8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9DA2-66CC-4756-9D23-98063A154C7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9AC-E072-4F6E-92BB-1D406A4CB43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65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796-4D35-4837-9131-2CEA19175349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1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9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0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2EFA-B968-43F4-9C42-6DF43E02063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37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2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3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475-98B7-4224-9FCA-6CA6127F130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432" name="матурлык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68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tt-RU" sz="24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0" name="Рисунок 1" descr=""/>
          <p:cNvPicPr/>
          <p:nvPr/>
        </p:nvPicPr>
        <p:blipFill>
          <a:blip r:embed="rId1"/>
          <a:stretch/>
        </p:blipFill>
        <p:spPr>
          <a:xfrm>
            <a:off x="0" y="36360"/>
            <a:ext cx="364824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108000" y="-15840"/>
            <a:ext cx="914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идеясе –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белән бала мәхәббә</a:t>
            </a:r>
            <a:r>
              <a:rPr b="1" i="1" lang="tt-RU" sz="58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те </a:t>
            </a:r>
            <a:endParaRPr b="0" lang="en-US" sz="5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24360" y="264600"/>
            <a:ext cx="5148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Ана - бөек исем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Нәрсә җитә ана булуг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атын-кызның бөтен матурлыгы,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Бөтен күрке ана булуда..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45080" y="622440"/>
            <a:ext cx="359712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-541440" y="260280"/>
            <a:ext cx="91440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атар халык мәкал</a:t>
            </a:r>
            <a:r>
              <a:rPr b="1" i="1" lang="ru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ь</a:t>
            </a:r>
            <a:r>
              <a:rPr b="1" i="1" lang="tt-RU" sz="48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ләре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үңеле балада, бала күңеле далад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теләге диңгез төбеннән чыгары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куены туннан җылырак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Уч төбендә тәбә пешереп ашатсаң да, анаң каршындагы изге бурычны үти алмыйсың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Баласы суга төшәр, анасы утка төшәр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Ана – шәфкат</a:t>
            </a:r>
            <a:r>
              <a:rPr b="1" i="1" lang="ru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ь</a:t>
            </a: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 диңгез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нең яме ана белән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360" y="549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50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Өй эше: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</a:t>
            </a:r>
            <a:r>
              <a:rPr b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Тормышта матурлыкның чагылышы”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40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дигән темага иҗади язма эш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24000" y="1628640"/>
            <a:ext cx="5400720" cy="45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Әмирхан Еникинең </a:t>
            </a:r>
            <a:r>
              <a:rPr b="1" i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“Матурлык” </a:t>
            </a:r>
            <a:r>
              <a:rPr b="1" lang="tt-RU" sz="65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се</a:t>
            </a:r>
            <a:endParaRPr b="0" lang="en-US" sz="6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37" name="Picture 5" descr="C:\Users\Ляйсан\Desktop\Eniki.jpg"/>
          <p:cNvPicPr/>
          <p:nvPr/>
        </p:nvPicPr>
        <p:blipFill>
          <a:blip r:embed="rId1"/>
          <a:stretch/>
        </p:blipFill>
        <p:spPr>
          <a:xfrm>
            <a:off x="5145120" y="1195560"/>
            <a:ext cx="3602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79280" y="264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79280" y="3193920"/>
            <a:ext cx="184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-108000" y="44280"/>
          <a:ext cx="9252000" cy="6810480"/>
        </p:xfrm>
        <a:graphic>
          <a:graphicData uri="http://schemas.openxmlformats.org/drawingml/2006/table">
            <a:tbl>
              <a:tblPr/>
              <a:tblGrid>
                <a:gridCol w="1376280"/>
                <a:gridCol w="5888160"/>
                <a:gridCol w="1987560"/>
              </a:tblGrid>
              <a:tr h="501840"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ЭЛ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РАЗЛ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</a:t>
                      </a: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ҢЫНН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ьлек – иң матур чак. Хикәя яшьлек хатирәләре турында.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матур табигать күренешләре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3988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шәфкатьле эш-гамәлләр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дә рухи матурлык турында сүз бар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26216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яшь егет белән кыз арасындагы мәхәббәт хис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кәя берәр рәссам, матур сәнгать әсәрләре турынд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841320"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tt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әлки хикәядә матур, чибәр туташлар катнашады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31320" rIns="31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tt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320" marR="31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79280" y="333360"/>
            <a:ext cx="8785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3f7819"/>
                </a:solidFill>
                <a:latin typeface="Times New Roman"/>
                <a:ea typeface="Calibri"/>
              </a:rPr>
              <a:t>Матурлык</a:t>
            </a:r>
            <a:r>
              <a:rPr b="1" lang="tt-RU" sz="3400" spc="-1" strike="noStrike">
                <a:solidFill>
                  <a:srgbClr val="f0d578"/>
                </a:solidFill>
                <a:latin typeface="Times New Roman"/>
                <a:ea typeface="Calibri"/>
              </a:rPr>
              <a:t>  -  </a:t>
            </a: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барлык матур, гүзәл, күңелгә рәхәтлек, ләззәт бирә торган нәрсә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табигатьтә матур, сокланырлык урыннар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сөйкемле, үзенә нык җәлеп итә торган тышкы кыяфәт, чибәрлек;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400" spc="-1" strike="noStrike">
                <a:solidFill>
                  <a:srgbClr val="161e22"/>
                </a:solidFill>
                <a:latin typeface="Times New Roman"/>
                <a:ea typeface="Calibri"/>
              </a:rPr>
              <a:t>кеше характерындагы, эшчәнлегендәге  уңай, хуплана торган сыйфат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16000" y="260280"/>
            <a:ext cx="5832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tt-RU" sz="1800" spc="-1" strike="noStrike">
                <a:solidFill>
                  <a:srgbClr val="b9d181"/>
                </a:solidFill>
                <a:latin typeface="Trebuchet MS"/>
              </a:rPr>
              <a:t>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Хикәянең темасы -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6700" spc="-1" strike="noStrike">
                <a:solidFill>
                  <a:srgbClr val="f85a80"/>
                </a:solidFill>
                <a:latin typeface="Times New Roman"/>
                <a:ea typeface="Times New Roman"/>
              </a:rPr>
              <a:t>рухи матурлык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AudioCutter_салкын чишмә.mp3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0062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мьсезлек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  –  матурлык  </a:t>
            </a: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каршы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ямьсез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c42f1a"/>
                </a:solidFill>
                <a:latin typeface="Times New Roman"/>
                <a:ea typeface="Times New Roman"/>
              </a:rPr>
              <a:t>Нәрсә</a:t>
            </a:r>
            <a:r>
              <a:rPr b="1" i="1" lang="tt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tt-RU" sz="3600" spc="-1" strike="noStrike">
                <a:solidFill>
                  <a:srgbClr val="3f7819"/>
                </a:solidFill>
                <a:latin typeface="Times New Roman"/>
                <a:ea typeface="Times New Roman"/>
              </a:rPr>
              <a:t>матур?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-15840"/>
            <a:ext cx="9253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Табигать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Бәдретдиннең күңел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Гаилә мөнәсәбәтләр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Ана белән бала мәхәббәтенең матурлыгы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tt-RU" sz="3600" spc="-1" strike="noStrike">
                <a:solidFill>
                  <a:srgbClr val="2a5010"/>
                </a:solidFill>
                <a:latin typeface="Times New Roman"/>
                <a:ea typeface="Times New Roman"/>
              </a:rPr>
              <a:t>Шәкертләрнең матур мөгамәләс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0:08:48Z</dcterms:created>
  <dc:creator>Христина</dc:creator>
  <dc:description/>
  <dc:language>en-US</dc:language>
  <cp:lastModifiedBy>User</cp:lastModifiedBy>
  <dcterms:modified xsi:type="dcterms:W3CDTF">2019-11-27T14:11:59Z</dcterms:modified>
  <cp:revision>45</cp:revision>
  <dc:subject/>
  <dc:title>Слайд 1</dc:title>
</cp:coreProperties>
</file>