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B210-E633-4957-B2EC-91D80F0C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15C-BA0A-4E2F-A888-3E4FC291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D0B-7DCF-4A34-BC27-D739DF52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22D-FA24-4D3F-9C2A-1C85F14C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B91A-AC93-4D6A-B2A3-09E1F156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45B-803D-4F7C-AA1D-7E2D5006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885C-1F97-467B-A9C7-9126A9BB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7514-30BD-448C-906D-64967B1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3185-1CCE-4E8A-ABDA-1E787344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7AFA-C0D8-4EA6-A1A1-68612962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4B57-180E-4FBF-8D58-A81B780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620-BDE2-44AC-B23D-33063208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D2AC-486B-401E-A935-2BF764B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644B-2BC6-44B4-924F-BECD225B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AEED-DC8F-42BA-BB27-E6E3336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2F52-9A80-4248-B1AE-1CBEC860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49E9-7346-411F-B5FD-93CCFC31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19E59-6D45-40A4-992B-03489B0D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2A89-BD6B-407C-94C0-1DDB371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A9E1-E384-49BD-901D-5052F63A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F9F6-1350-4C42-985C-24D252D7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E14C-343E-4A7B-8F66-CB2F8EA1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9A3-DB4E-4D0A-84C7-5C786E77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23BCC-13A8-4D67-A56A-029E0B41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107A-0DC2-4F1B-B6D7-1FD29CCB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41BA8-A09B-4E8B-974D-770AE0A1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A8DC-3C09-4C6D-B391-9A9C30E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5E4E-B2CA-4D06-90C1-48F6177F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75757-0926-4A11-A547-FFE3FF0D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D94E7-09D0-494F-989A-2812CB95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0545C-18F8-4300-A372-87F3EE73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FB8F-172A-489A-8EAA-F1E8261B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0785D-42BC-44B9-AACA-549D5D3E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5C82-8A22-4033-9856-973D39FE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2866-7526-487D-AE2E-ED2A5650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F1F6-B75D-44B3-852D-4D72332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92C2E-E1CA-4CD8-B7E3-9632D674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4EE71-0271-4484-9FB0-94020544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D8A4-9BEF-452F-BA07-80B24BD3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2A661-259F-451F-9339-4CEC9AA0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9B32-8088-4A41-ABD4-6E9AE03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2E7B4-BBEB-41C3-9BBC-4468039C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0679-9AAD-4624-A777-B8857B38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E02-E4DE-4320-A7AB-DE18FF33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B94-82E2-472C-B110-584852A0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64F-B58B-4704-A85D-45A6DF9F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547-4054-47CA-A0B5-BCABC4F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E676-38A6-458C-A608-8C5DC6F0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7348-F415-483A-AC3D-76373894080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C2D3-B5C1-44FC-8056-1FD67DDA16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2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63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67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72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73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6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77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2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FC4-2DB6-4242-B7E3-21AF88739AC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2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36C2-9DDC-45EA-9059-62C59DC499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Интернациональ с</a:t>
            </a:r>
            <a:r>
              <a:rPr b="1" lang="tt-RU" sz="4400" spc="-1" strike="noStrike">
                <a:solidFill>
                  <a:srgbClr val="ff0000"/>
                </a:solidFill>
                <a:latin typeface="Comic Sans MS"/>
              </a:rPr>
              <a:t>үзләр </a:t>
            </a: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– рус һәм башка телләрдән (итальян, испан, латин, грек,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француз, немец, инглиз</a:t>
            </a: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) алынган сүзләр </a:t>
            </a:r>
            <a:r>
              <a:rPr b="1" lang="ru-RU" sz="36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800080"/>
                </a:solidFill>
                <a:latin typeface="Arial"/>
              </a:rPr>
              <a:t>Киләчәктә синең кайсы һөнәрне сайлыйсың килә һәм ни өчен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3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5400" spc="-1" strike="noStrike">
                <a:solidFill>
                  <a:srgbClr val="ff3300"/>
                </a:solidFill>
                <a:latin typeface="Arial"/>
              </a:rPr>
              <a:t>Терминнар</a:t>
            </a:r>
            <a:r>
              <a:rPr b="1" lang="tt-RU" sz="5400" spc="-1" strike="noStrike">
                <a:solidFill>
                  <a:srgbClr val="800080"/>
                </a:solidFill>
                <a:latin typeface="Arial"/>
              </a:rPr>
              <a:t> аерым һөнәр ияләре куллана торган фәнни атамаларны белдерә.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15"/>
          <p:cNvSpPr/>
          <p:nvPr/>
        </p:nvSpPr>
        <p:spPr>
          <a:xfrm>
            <a:off x="4211640" y="407664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78920" y="620280"/>
            <a:ext cx="40388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284720" y="764640"/>
            <a:ext cx="40384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179280" y="1700280"/>
            <a:ext cx="8321760" cy="31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250920" y="270828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Rectangle 11"/>
          <p:cNvSpPr/>
          <p:nvPr/>
        </p:nvSpPr>
        <p:spPr>
          <a:xfrm>
            <a:off x="324000" y="4076640"/>
            <a:ext cx="4105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250920" y="5300640"/>
            <a:ext cx="435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4067280" y="2781360"/>
            <a:ext cx="471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571680" y="1643040"/>
            <a:ext cx="7643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95360" indent="-49536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Arial"/>
              </a:rPr>
              <a:t>РЕФЛЕКСИ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4572000" y="5445000"/>
            <a:ext cx="435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Аерым һөнәр ияләре куллана торган сүзләр 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һ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ө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н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ә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рчелек с</a:t>
            </a:r>
            <a:r>
              <a:rPr b="1" lang="tt-RU" sz="4800" spc="-1" strike="noStrike">
                <a:solidFill>
                  <a:srgbClr val="ff3300"/>
                </a:solidFill>
                <a:latin typeface="Comic Sans MS"/>
              </a:rPr>
              <a:t>ү</a:t>
            </a:r>
            <a:r>
              <a:rPr b="1" lang="tt-RU" sz="4400" spc="-1" strike="noStrike">
                <a:solidFill>
                  <a:srgbClr val="ff3300"/>
                </a:solidFill>
                <a:latin typeface="Comic Sans MS"/>
              </a:rPr>
              <a:t>зләре </a:t>
            </a:r>
            <a:r>
              <a:rPr b="1" lang="tt-RU" sz="4400" spc="-1" strike="noStrike">
                <a:solidFill>
                  <a:srgbClr val="703dff"/>
                </a:solidFill>
                <a:latin typeface="Comic Sans MS"/>
              </a:rPr>
              <a:t>дип атала</a:t>
            </a: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3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Барлык 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ө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нәр д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 мактаул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777080" cy="395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Татар халык м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каль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рен бел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ә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се</a:t>
            </a:r>
            <a:r>
              <a:rPr b="1" lang="tt-RU" sz="8000" spc="-1" strike="noStrike">
                <a:solidFill>
                  <a:srgbClr val="703dff"/>
                </a:solidFill>
                <a:latin typeface="Comic Sans MS"/>
              </a:rPr>
              <a:t>ң</a:t>
            </a:r>
            <a:r>
              <a:rPr b="1" lang="tt-RU" sz="7200" spc="-1" strike="noStrike">
                <a:solidFill>
                  <a:srgbClr val="703dff"/>
                </a:solidFill>
                <a:latin typeface="Comic Sans MS"/>
              </a:rPr>
              <a:t>ме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28400" y="4643280"/>
            <a:ext cx="80550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2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45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5500" spc="-1" strike="noStrike">
                <a:solidFill>
                  <a:srgbClr val="800080"/>
                </a:solidFill>
                <a:latin typeface="Arial"/>
              </a:rPr>
              <a:t>Әти – әниеңнең һөнәренә бәйле нинди сүзләр беләсең?</a:t>
            </a:r>
            <a:endParaRPr b="1" lang="en-US" sz="5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1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6" name="Picture 2" descr="C:\Users\111\Desktop\oregon_lumberjack.gif"/>
          <p:cNvPicPr/>
          <p:nvPr/>
        </p:nvPicPr>
        <p:blipFill>
          <a:blip r:embed="rId1"/>
          <a:stretch/>
        </p:blipFill>
        <p:spPr>
          <a:xfrm>
            <a:off x="1071720" y="0"/>
            <a:ext cx="7199280" cy="70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462880" cy="545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5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403848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4716360" y="3573360"/>
            <a:ext cx="4038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12"/>
          <p:cNvSpPr/>
          <p:nvPr/>
        </p:nvSpPr>
        <p:spPr>
          <a:xfrm>
            <a:off x="4572000" y="4076640"/>
            <a:ext cx="4038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1" name="Picture 11" descr="C:\Users\111\Desktop\мир.jpg"/>
          <p:cNvPicPr/>
          <p:nvPr/>
        </p:nvPicPr>
        <p:blipFill>
          <a:blip r:embed="rId1"/>
          <a:stretch/>
        </p:blipFill>
        <p:spPr>
          <a:xfrm>
            <a:off x="214200" y="571680"/>
            <a:ext cx="882036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9:06Z</dcterms:created>
  <dc:creator>Felix</dc:creator>
  <dc:description/>
  <dc:language>en-US</dc:language>
  <cp:lastModifiedBy>МАРС</cp:lastModifiedBy>
  <dcterms:modified xsi:type="dcterms:W3CDTF">2015-01-25T18:37:16Z</dcterms:modified>
  <cp:revision>18</cp:revision>
  <dc:subject/>
  <dc:title>Урок английского языка  в 5 классе МОУ лицей  «Технико –экономический» </dc:title>
</cp:coreProperties>
</file>