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E66-B088-4629-AB5F-CB9BB3C7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70F-74A1-4790-AD2E-47C3562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61F-04CF-4A21-9282-C7B52367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CB2-7D56-4264-9BBA-9A8E898F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C59-E573-4F18-999C-EB0CB732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C1E0-EA1B-40F1-9DCD-2277A085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3D5-1034-4A25-9A29-6DE949B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0D15-A51D-4A00-9E68-DFB10D6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216-A510-454D-8A07-96CF452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F4FC-A46E-4E49-9A2E-5C365CD7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31B2-7C7B-4C0D-9620-B2030A0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408-0465-4D53-B27C-428B65D9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290-9C6A-4A2D-BFD1-E5683B1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169A-FEEA-4552-8E87-EF21449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127-0EF0-49D5-8E6E-D40CA61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B96-D319-4E69-A288-D7DD2EB2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A532-8B50-4E75-B5EE-7C251346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B5A-90F7-4052-B757-8304CBE2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5FAE-3CF4-46C4-A24A-D908FC77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F61C-286B-4575-81BF-F9C07E8C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64D9-CD9C-4BBE-8646-4797CD29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4CD7-60F8-4F0F-95AF-59BAC49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49B-7CAD-4A29-8D71-1EB464D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AFD8-EB40-4D4D-81C8-9D69E1C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882C-D366-4CC1-AD9B-359581A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BFB8-99EE-4E1D-B075-BB49FC2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EB57-F79A-49F1-981F-101CA01D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9278-4F65-4DBC-9134-23C3D82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8DE3-3F93-485D-BDA4-076DDE3E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D065-4BE0-4316-8A0B-A6CA8981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A129-5773-4D39-A702-65B261C4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80F4-7FE8-44BF-88E9-B48C493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959B-26D2-43C1-B147-6517FB07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989-D4D5-4ADE-9E57-F030E52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98E4-2B98-4E81-9C36-710E518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8BFC-DD55-48F4-AABA-E9BBAB3F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51D5-EF77-4E0F-81BF-8AFD6962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E091-BA19-4F9F-8E80-7CE1F79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62DA-BA08-4EF8-AB18-B34A88B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EC2C-7A23-45AE-9F5C-978F955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DEA2-E8AC-4604-B314-7DCA3B9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1A16-9856-4B4C-819A-FADD4A67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D596-DBCB-4569-977B-F87453D5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5A0-B180-4388-B09B-7F2C100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EE5-4F4E-4E13-8AF8-07F354FB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7A-808B-4268-B7C0-A285A1D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93F-7119-423C-B981-837D077C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071-DC9E-45E7-B6F3-3B55FF25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9E1-0B20-499F-B4E5-40195DA3FF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C10B-1E17-4337-A552-389C7AB5D0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7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7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F8B0-B610-4A81-AF7B-5BB4C5453F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0C8-31D6-4117-A037-F238004D3C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тернациональ с</a:t>
            </a:r>
            <a:r>
              <a:rPr b="1" lang="tt-RU" sz="4400" spc="-1" strike="noStrike">
                <a:solidFill>
                  <a:srgbClr val="ff0000"/>
                </a:solidFill>
                <a:latin typeface="Comic Sans MS"/>
              </a:rPr>
              <a:t>үзләр 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– рус һәм башка телләрдән (итальян, испан, латин, грек,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француз, немец, инглиз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) алынган сүзләр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Киләчәктә синең кайсы һөнәрне сайлыйсың килә һәм ни өчен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3300"/>
                </a:solidFill>
                <a:latin typeface="Arial"/>
              </a:rPr>
              <a:t>Терминнар</a:t>
            </a: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 аерым һөнәр ияләре куллана торган фәнни атамаларны белдерә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571680" y="1643040"/>
            <a:ext cx="7643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Аерым һөнәр ияләре куллана торган сүзләр 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һ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ө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ә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рчелек с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ү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зләре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дип атала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Барлык 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ө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нәр д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 мактаул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9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Татар халык м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каль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рен бе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се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ң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ме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500" spc="-1" strike="noStrike">
                <a:solidFill>
                  <a:srgbClr val="800080"/>
                </a:solidFill>
                <a:latin typeface="Arial"/>
              </a:rPr>
              <a:t>Әти – әниеңнең һөнәренә бәйле нинди сүзләр беләсең?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2" descr="C:\Users\111\Desktop\oregon_lumberjack.gif"/>
          <p:cNvPicPr/>
          <p:nvPr/>
        </p:nvPicPr>
        <p:blipFill>
          <a:blip r:embed="rId1"/>
          <a:stretch/>
        </p:blipFill>
        <p:spPr>
          <a:xfrm>
            <a:off x="1071720" y="0"/>
            <a:ext cx="71992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9:06Z</dcterms:created>
  <dc:creator>Felix</dc:creator>
  <dc:description/>
  <dc:language>en-US</dc:language>
  <cp:lastModifiedBy>МАРС</cp:lastModifiedBy>
  <dcterms:modified xsi:type="dcterms:W3CDTF">2015-01-25T18:37:16Z</dcterms:modified>
  <cp:revision>18</cp:revision>
  <dc:subject/>
  <dc:title>Урок английского языка  в 5 классе МОУ лицей  «Технико –экономический» </dc:title>
</cp:coreProperties>
</file>