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9AF-2DB1-458B-B924-D4B99A03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133-02F9-4BCC-A529-6291EFD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5B1-9AB5-4408-B60B-680454BD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2E5-1C9A-48BA-BD84-F9D48BA2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168-49FC-46D2-BA94-03DA49D5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206-DF85-4266-87C6-8D6F828E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798-605D-4A7B-87E2-82871E8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9914-C616-4DBA-BB26-2AEFDDBD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3691-5D79-4054-A923-022FBBB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5208-931C-4E21-8916-DC3B7960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A6B-36B8-45A4-9EC3-A897C86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B43-A9B1-4AA3-BC67-A8EB6D31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7059-7207-4189-A3CE-614DE52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4B4-0A6D-4FA2-A9CD-1E5D74F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0D9-EA0B-4CC9-A0BB-3ECAA49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4663-2237-40CC-9A52-C60C1989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084-1344-4D02-8A9B-FDCD4BB4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934D-78B1-476F-B1DF-296822A0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FC58-B6D5-4B86-AF44-D3F778A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D7BD-9669-45B2-AB36-DF142164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D0CF-621D-431F-A022-E9C3432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EA9A-DB83-4035-8C66-A3906E78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CAF-5611-43C8-B86F-62C9BAB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0A31-C6D4-43AC-8C50-F6B7494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118B-FDF6-4EFC-AE6F-AE08C87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EFE9-78B7-4F76-8C34-2157D92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58BF-B55A-4B4D-A4C1-3C9CC1D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5D81-6E7F-474C-A38B-776BEE3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A871-2004-4572-8631-0CF72100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6AE2-146D-46CC-9021-36954D11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2B7C-FA6B-4D26-9BD0-A0468576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C7CE-C50B-4643-A8E6-3D3326E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D6B9-31CD-475B-9CA6-CD22D990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CD6-73D6-4623-94A2-F4741DB1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9964-E4FF-4D7B-BE55-8F42F111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E8AB-5FBF-43BA-9EB9-EC61DEBB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1994-70AD-4BC8-8ED9-7D2CC817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AAB8-DAF9-4601-88A8-8B7E96E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7621-9846-4487-8C44-6A0C0C6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E6A3-14B1-47B5-B84B-0704D87E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98D0-3B6B-4B72-BB52-CC4E93C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DEE2-2315-4AE3-9F31-895CE9D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D2A2-C614-48C4-B538-344C150D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3C1-4096-47DB-B834-4CF9E27C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F53-B990-4D4B-969E-220985C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1A5-AB34-4E67-89EC-774C842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808-34CD-44C1-9748-2880B22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1A4-527F-47EC-AB46-768C34DE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11A7-7E69-40CC-98AA-1E6E0EE064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682-C134-4C4D-861B-47CE01AA2D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7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7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579-7F89-4208-9654-8D5C93562B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503-5DC4-4C08-A9F9-36789674F2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тернациональ с</a:t>
            </a:r>
            <a:r>
              <a:rPr b="1" lang="tt-RU" sz="4400" spc="-1" strike="noStrike">
                <a:solidFill>
                  <a:srgbClr val="ff0000"/>
                </a:solidFill>
                <a:latin typeface="Comic Sans MS"/>
              </a:rPr>
              <a:t>үзләр 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– рус һәм башка телләрдән (итальян, испан, латин, грек,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француз, немец, инглиз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) алынган сүзләр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Киләчәктә синең кайсы һөнәрне сайлыйсың килә һәм ни өчен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3300"/>
                </a:solidFill>
                <a:latin typeface="Arial"/>
              </a:rPr>
              <a:t>Терминнар</a:t>
            </a: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 аерым һөнәр ияләре куллана торган фәнни атамаларны белдерә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571680" y="1643040"/>
            <a:ext cx="7643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Аерым һөнәр ияләре куллана торган сүзләр 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һ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ө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ә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рчелек с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ү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зләре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дип атала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Барлык 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ө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нәр д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 мактаул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9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Татар халык м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каль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рен бе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се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ң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ме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500" spc="-1" strike="noStrike">
                <a:solidFill>
                  <a:srgbClr val="800080"/>
                </a:solidFill>
                <a:latin typeface="Arial"/>
              </a:rPr>
              <a:t>Әти – әниеңнең һөнәренә бәйле нинди сүзләр беләсең?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2" descr="C:\Users\111\Desktop\oregon_lumberjack.gif"/>
          <p:cNvPicPr/>
          <p:nvPr/>
        </p:nvPicPr>
        <p:blipFill>
          <a:blip r:embed="rId1"/>
          <a:stretch/>
        </p:blipFill>
        <p:spPr>
          <a:xfrm>
            <a:off x="1071720" y="0"/>
            <a:ext cx="71992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9:06Z</dcterms:created>
  <dc:creator>Felix</dc:creator>
  <dc:description/>
  <dc:language>en-US</dc:language>
  <cp:lastModifiedBy>МАРС</cp:lastModifiedBy>
  <dcterms:modified xsi:type="dcterms:W3CDTF">2015-01-25T18:37:16Z</dcterms:modified>
  <cp:revision>18</cp:revision>
  <dc:subject/>
  <dc:title>Урок английского языка  в 5 классе МОУ лицей  «Технико –экономический» </dc:title>
</cp:coreProperties>
</file>