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5D1-FE3E-43EB-9E0A-654F706D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2822-50E6-44E4-859B-DFB03153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50F-BD66-40EC-9FC8-4FCECC6A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14CE-0B4C-4FF4-BDB5-94D5AD49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702-50F4-4C6B-88CE-A152AC8B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5B0-8CEC-472B-A12C-D4D16843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0F0-A9F7-4328-845E-203E7D59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B20-1F4B-49A4-9F94-BEF7716F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1DA-EC9C-4C27-8AAB-2BFC517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866-A773-4F55-A69D-2E95A37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56C-7D6D-479E-9A53-094A8135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77C-14C3-403F-88DF-1067F260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AAA4-B456-46B6-A4DF-76C8A87467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lermontov25"/>
          <p:cNvPicPr/>
          <p:nvPr/>
        </p:nvPicPr>
        <p:blipFill>
          <a:blip r:embed="rId2"/>
          <a:stretch/>
        </p:blipFill>
        <p:spPr>
          <a:xfrm>
            <a:off x="2987640" y="1484280"/>
            <a:ext cx="3343320" cy="388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907920"/>
            <a:ext cx="5688360" cy="144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Лермонтов М.Ю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635280" y="551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814 - 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lermontov25"/>
          <p:cNvPicPr/>
          <p:nvPr/>
        </p:nvPicPr>
        <p:blipFill>
          <a:blip r:embed="rId2"/>
          <a:stretch/>
        </p:blipFill>
        <p:spPr>
          <a:xfrm>
            <a:off x="900000" y="1268280"/>
            <a:ext cx="2846520" cy="3311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24360" y="981000"/>
            <a:ext cx="4176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37 году имя Лермонтова стало известно всей образованной России благодаря стихотворению «Смерть поэта», написанному по поводу кончины А.С.Пушкина. Это стихотворение вызвало неудовольствие царского двора. Лермонтов вскоре был арестован, а потом переведён в Нижегородский драгунский полк, располагавшийся на Кавка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сной 1838 г. , благодаря хлопотам бабушки, Лермонтова возвратили в гвардию, в тот же лейб-гвардейский гусарский по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ermontov гравюра Ф"/>
          <p:cNvPicPr/>
          <p:nvPr/>
        </p:nvPicPr>
        <p:blipFill>
          <a:blip r:embed="rId2"/>
          <a:stretch/>
        </p:blipFill>
        <p:spPr>
          <a:xfrm>
            <a:off x="5508720" y="1268280"/>
            <a:ext cx="2581200" cy="403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950760" y="1216080"/>
            <a:ext cx="4268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етербурге Лермонтов сразу вошёл в свет, его видели во многих аристократических домах. Он входит в пушкинский круг писателей и знакомится с Жуковским, Вяземским, Плетнёвым, Баратынским.  Поэта снова отправили на Кавказ, в действующую армию. Он участвовал в боевых действиях, проявил себя исключительно храбрым и блестящим офицером, был награждён золотой саблей с надписью «За храбр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187280" y="3645000"/>
            <a:ext cx="68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апреле 1841 г. Лермонтов пытался выйти в отставку. Не получив положительного ответа, опять вынужден был уехать на Кавказ. Здесь  произошёл конфликт  Лермонтова  с Мартыновым, переросший в дуэль.  Лермонтов считал ссору незначительной, а примирение необходимым, но Мартынов считал по-друг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5 июля 1841 г. состоялась дуэль. Лермонтов был у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Вид Пятигорска"/>
          <p:cNvPicPr/>
          <p:nvPr/>
        </p:nvPicPr>
        <p:blipFill>
          <a:blip r:embed="rId2"/>
          <a:stretch/>
        </p:blipFill>
        <p:spPr>
          <a:xfrm>
            <a:off x="4788000" y="836640"/>
            <a:ext cx="2949480" cy="2200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Вид Тифлиса"/>
          <p:cNvPicPr/>
          <p:nvPr/>
        </p:nvPicPr>
        <p:blipFill>
          <a:blip r:embed="rId3"/>
          <a:stretch/>
        </p:blipFill>
        <p:spPr>
          <a:xfrm>
            <a:off x="1692360" y="836640"/>
            <a:ext cx="2786040" cy="2239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2050920" y="31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Тифли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076720" y="31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Вид Пятигор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могила Часовня в Тарханах"/>
          <p:cNvPicPr/>
          <p:nvPr/>
        </p:nvPicPr>
        <p:blipFill>
          <a:blip r:embed="rId2"/>
          <a:stretch/>
        </p:blipFill>
        <p:spPr>
          <a:xfrm>
            <a:off x="900000" y="1125360"/>
            <a:ext cx="2820960" cy="4464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995640" y="1557360"/>
            <a:ext cx="419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бушка обратилась к Никола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І  с просьбой перевезти тело Лермонтова из Пятигорска в Тарханы. Поэт был погребён в фамильном склепе Арсеньевых в Тарханах, где он покоится и сейч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1835280" y="692280"/>
            <a:ext cx="568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ва поэтических мир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4" descr="lermontov25"/>
          <p:cNvPicPr/>
          <p:nvPr/>
        </p:nvPicPr>
        <p:blipFill>
          <a:blip r:embed="rId2"/>
          <a:stretch/>
        </p:blipFill>
        <p:spPr>
          <a:xfrm>
            <a:off x="4643280" y="1628640"/>
            <a:ext cx="260064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Пушкин"/>
          <p:cNvPicPr/>
          <p:nvPr/>
        </p:nvPicPr>
        <p:blipFill>
          <a:blip r:embed="rId3"/>
          <a:stretch/>
        </p:blipFill>
        <p:spPr>
          <a:xfrm>
            <a:off x="1620720" y="1628640"/>
            <a:ext cx="2268720" cy="302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900000" y="4797360"/>
            <a:ext cx="71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т двух поэтов столь существенно различных, как Пушкин и Лермонтов. Пушкин – поэт внутреннего чувства души; Лермонтов – поэт беспощадной мысли, истин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Г.Белинский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lermontov_u_p"/>
          <p:cNvPicPr/>
          <p:nvPr/>
        </p:nvPicPr>
        <p:blipFill>
          <a:blip r:embed="rId2"/>
          <a:stretch/>
        </p:blipFill>
        <p:spPr>
          <a:xfrm>
            <a:off x="1692360" y="1341360"/>
            <a:ext cx="1938240" cy="2919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lermontova_m_m"/>
          <p:cNvPicPr/>
          <p:nvPr/>
        </p:nvPicPr>
        <p:blipFill>
          <a:blip r:embed="rId3"/>
          <a:stretch/>
        </p:blipFill>
        <p:spPr>
          <a:xfrm>
            <a:off x="4643280" y="1341360"/>
            <a:ext cx="2276640" cy="2881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6"/>
          <p:cNvSpPr txBox="1"/>
          <p:nvPr/>
        </p:nvSpPr>
        <p:spPr>
          <a:xfrm>
            <a:off x="1908000" y="620640"/>
            <a:ext cx="5381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дители М.Ю.Лермонтова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332000" y="4365720"/>
            <a:ext cx="70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.Ю.Лермонтов родился 3(15) октября 1814 г. в семье армейского капитана Юрия Петровича Лермонтова и Марии Михайловны Лермонтовой ( урожденной Арсеньевой). Юрий Петрович пленил свою богатую невесту внешней красотой и редким добродушием. Мария Михайловна вышла замуж , несмотря на протесты своей мате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lermontova_m_m"/>
          <p:cNvPicPr/>
          <p:nvPr/>
        </p:nvPicPr>
        <p:blipFill>
          <a:blip r:embed="rId2"/>
          <a:stretch/>
        </p:blipFill>
        <p:spPr>
          <a:xfrm>
            <a:off x="1676520" y="765000"/>
            <a:ext cx="2693880" cy="309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Лермонтов ребенок"/>
          <p:cNvPicPr/>
          <p:nvPr/>
        </p:nvPicPr>
        <p:blipFill>
          <a:blip r:embed="rId3"/>
          <a:stretch/>
        </p:blipFill>
        <p:spPr>
          <a:xfrm>
            <a:off x="4836960" y="836640"/>
            <a:ext cx="2519640" cy="3024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900000" y="4005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817 г. Мария Михайловна заболела скоротечной чахоткой и умерла в возрасте 21 года, оставив своего единственного сына сиротой. «Когда я был трёх лет, то была песня, от которой я плакал…Её певала мне покойная мать»,- записал позднее Лермонтов в своём днев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arseneva_e_a"/>
          <p:cNvPicPr/>
          <p:nvPr/>
        </p:nvPicPr>
        <p:blipFill>
          <a:blip r:embed="rId2"/>
          <a:stretch/>
        </p:blipFill>
        <p:spPr>
          <a:xfrm>
            <a:off x="1116000" y="907920"/>
            <a:ext cx="2644920" cy="309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24360" y="1268280"/>
            <a:ext cx="424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Лермонтова, Елизавета Алексеевна Арсеньева, решительно отказала Юрию Петровичу в желании оставить сына у него, ссылаясь на бедность армейского капитана. Она увезла внука в своё имение Тарханы в Пензенской губер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900000" y="44370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мейная драма наложила отпечаток на  характер Лермонтова. Сердце мальчика  разрывалось между доброй бабушкой и любимым от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Тарханы"/>
          <p:cNvPicPr/>
          <p:nvPr/>
        </p:nvPicPr>
        <p:blipFill>
          <a:blip r:embed="rId2"/>
          <a:stretch/>
        </p:blipFill>
        <p:spPr>
          <a:xfrm>
            <a:off x="3132000" y="1341360"/>
            <a:ext cx="3160800" cy="2106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4"/>
          <p:cNvSpPr txBox="1"/>
          <p:nvPr/>
        </p:nvSpPr>
        <p:spPr>
          <a:xfrm>
            <a:off x="2987640" y="549360"/>
            <a:ext cx="3024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рханы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Picture 5" descr="house_01_h80"/>
          <p:cNvPicPr/>
          <p:nvPr/>
        </p:nvPicPr>
        <p:blipFill>
          <a:blip r:embed="rId3"/>
          <a:stretch/>
        </p:blipFill>
        <p:spPr>
          <a:xfrm>
            <a:off x="826920" y="2133720"/>
            <a:ext cx="1955880" cy="1303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ouse_04_h80"/>
          <p:cNvPicPr/>
          <p:nvPr/>
        </p:nvPicPr>
        <p:blipFill>
          <a:blip r:embed="rId4"/>
          <a:stretch/>
        </p:blipFill>
        <p:spPr>
          <a:xfrm>
            <a:off x="6516720" y="2276640"/>
            <a:ext cx="1739880" cy="116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ouse_02_h80"/>
          <p:cNvPicPr/>
          <p:nvPr/>
        </p:nvPicPr>
        <p:blipFill>
          <a:blip r:embed="rId5"/>
          <a:stretch/>
        </p:blipFill>
        <p:spPr>
          <a:xfrm>
            <a:off x="4788000" y="3933720"/>
            <a:ext cx="2603520" cy="1735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use_03_h80"/>
          <p:cNvPicPr/>
          <p:nvPr/>
        </p:nvPicPr>
        <p:blipFill>
          <a:blip r:embed="rId6"/>
          <a:stretch/>
        </p:blipFill>
        <p:spPr>
          <a:xfrm>
            <a:off x="1547640" y="3933720"/>
            <a:ext cx="26035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lermontov_02_w80"/>
          <p:cNvPicPr/>
          <p:nvPr/>
        </p:nvPicPr>
        <p:blipFill>
          <a:blip r:embed="rId2"/>
          <a:stretch/>
        </p:blipFill>
        <p:spPr>
          <a:xfrm>
            <a:off x="1187280" y="981000"/>
            <a:ext cx="2022480" cy="2376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419640" y="836640"/>
            <a:ext cx="4628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бушка окружила внука заботой и лаской, не жалела средств для развития многообразных талантов мальчика, рано проснувшихся в нём.  Она наняла учителей, и Лермонтов на дому получил образование, не хуже столичного. С детских лет он писал стихи, рисовал, увлекался музы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26920" y="3789360"/>
            <a:ext cx="736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детстве Лермонтов много болел. Тяжелый ревматизм надолго приковывал мальчика к постели, приучал к задумчивости и одиночеству. Когда Лермонтову исполнилось 10 лет, бабушка увезла мальчика на Кавказ лечить ревматическую боле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Лермонтов"/>
          <p:cNvPicPr/>
          <p:nvPr/>
        </p:nvPicPr>
        <p:blipFill>
          <a:blip r:embed="rId2"/>
          <a:stretch/>
        </p:blipFill>
        <p:spPr>
          <a:xfrm>
            <a:off x="1042920" y="1341360"/>
            <a:ext cx="278604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4211640" y="3429000"/>
            <a:ext cx="3889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рмонтов, получив прекрасное домашнее образование, подготовился для поступления в Московский университетский пансион, куда был зачислен 1 сентября 1828 года в четвёртый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Московский университетский благородн"/>
          <p:cNvPicPr/>
          <p:nvPr/>
        </p:nvPicPr>
        <p:blipFill>
          <a:blip r:embed="rId3"/>
          <a:stretch/>
        </p:blipFill>
        <p:spPr>
          <a:xfrm>
            <a:off x="4284720" y="765000"/>
            <a:ext cx="3317760" cy="24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Моск"/>
          <p:cNvPicPr/>
          <p:nvPr/>
        </p:nvPicPr>
        <p:blipFill>
          <a:blip r:embed="rId2"/>
          <a:stretch/>
        </p:blipFill>
        <p:spPr>
          <a:xfrm>
            <a:off x="2340000" y="836640"/>
            <a:ext cx="4392720" cy="2724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00000" y="3789360"/>
            <a:ext cx="722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рмонтов учился прилежно и был не однажды награждён призами, чем очень годился. Выйдя из пансиона в 1830 г., он сразу же подал прошение о приёме его студентом в Московский универс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Школа прапорщиков в Петербурге"/>
          <p:cNvPicPr/>
          <p:nvPr/>
        </p:nvPicPr>
        <p:blipFill>
          <a:blip r:embed="rId2"/>
          <a:stretch/>
        </p:blipFill>
        <p:spPr>
          <a:xfrm>
            <a:off x="4211640" y="765000"/>
            <a:ext cx="369900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Лермонтов худ"/>
          <p:cNvPicPr/>
          <p:nvPr/>
        </p:nvPicPr>
        <p:blipFill>
          <a:blip r:embed="rId3"/>
          <a:stretch/>
        </p:blipFill>
        <p:spPr>
          <a:xfrm>
            <a:off x="900000" y="1413000"/>
            <a:ext cx="3063960" cy="3744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1"/>
          <p:cNvSpPr/>
          <p:nvPr/>
        </p:nvSpPr>
        <p:spPr>
          <a:xfrm>
            <a:off x="4211640" y="2421000"/>
            <a:ext cx="3979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рез год, в 1832 году, Лермонтов ушёл из университета и выехал в Петербург. Там он поступил в Школу гвардейских подпрапорщиков и кавалерийских юнкеров, где также отличился, успешно выдержал экзамен при переходе в старший класс и по окончании был произведён в корнеты лейб-гвардии Гусарского пол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971640" y="5373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трет кисти Ф.Буд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58:10Z</dcterms:created>
  <dc:creator>Евгения</dc:creator>
  <dc:description/>
  <dc:language>en-US</dc:language>
  <cp:lastModifiedBy>user1</cp:lastModifiedBy>
  <dcterms:modified xsi:type="dcterms:W3CDTF">2017-11-21T17:02:56Z</dcterms:modified>
  <cp:revision>27</cp:revision>
  <dc:subject/>
  <dc:title>Слайд 1</dc:title>
</cp:coreProperties>
</file>