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72BEC-368D-4301-ABD9-1D56CB0C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64E5C-A752-4033-9CDA-695A2781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34EFE-E073-4892-8820-4E1E79BBA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4C999-DACD-49F3-BA10-0A5DFE62B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67CD4-31AE-42AF-ABDF-2163F16E9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0CB67-5650-439B-BFD5-862C887A3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EAD8E-3DD1-47DA-8F84-472B9E0FC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7853A-92AD-4B4E-9045-B526478FA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B60CC-EC69-4D89-81A9-DB618559B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607E5-318A-4CD6-988B-439451C6F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25809-6487-4EF5-A862-D41D45C5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F1ED-9739-4C34-8941-CBAE70E2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46CF-8DF8-4956-9548-7EF0FAFED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547F6-03BE-49B4-9091-D6D533B3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BF620-D7A8-42EB-BCE8-E956F2E74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B0479-8139-412B-9298-85D20A8CC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B4896-364C-474D-970F-113F678BA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EFE20-FC93-4BAE-AA92-94D9253AF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2E90C-90FD-4DE8-930C-1E54120D5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CA9AB-0C27-47F6-B665-CCA803EFD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97D5-67C4-4220-BA34-EA2C4472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130C-F28C-4441-A8FC-6743576AB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B16D-3664-4212-8077-103B606F4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6F92-9256-4BE6-90C5-9339244A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CC65-EC10-4E3E-ADC8-EA3A2AFB8D9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C8C7-C16C-469C-A203-BF99322B715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5"/>
          <p:cNvSpPr/>
          <p:nvPr/>
        </p:nvSpPr>
        <p:spPr>
          <a:xfrm>
            <a:off x="716040" y="2092320"/>
            <a:ext cx="77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Укыту-тәрбия эшчәнлегендә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илли мирасның әһәмияте</a:t>
            </a:r>
            <a:endParaRPr b="0" lang="en-US" sz="4400" spc="-1" strike="noStrike">
              <a:solidFill>
                <a:srgbClr val="000000"/>
              </a:solidFill>
              <a:latin typeface="Arial"/>
            </a:endParaRPr>
          </a:p>
        </p:txBody>
      </p:sp>
      <p:sp>
        <p:nvSpPr>
          <p:cNvPr id="83" name="Rectangle 4"/>
          <p:cNvSpPr/>
          <p:nvPr/>
        </p:nvSpPr>
        <p:spPr>
          <a:xfrm>
            <a:off x="972360" y="546120"/>
            <a:ext cx="6757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Казан шәһәре  Яңа-Савин райо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a:t>
            </a:r>
            <a:r>
              <a:rPr b="1" lang="ru-RU" sz="2400" spc="-1" strike="noStrike">
                <a:solidFill>
                  <a:srgbClr val="cc0000"/>
                </a:solidFill>
                <a:latin typeface="Times New Roman"/>
                <a:ea typeface="Times New Roman"/>
              </a:rPr>
              <a:t>Татар телендә  белем бирүче 13 нче гимназия</a:t>
            </a:r>
            <a:r>
              <a:rPr b="1" lang="tt-RU" sz="2400" spc="-1" strike="noStrike">
                <a:solidFill>
                  <a:srgbClr val="cc0000"/>
                </a:solidFill>
                <a:latin typeface="Times New Roman"/>
                <a:ea typeface="Times New Roman"/>
              </a:rPr>
              <a:t>”</a:t>
            </a:r>
            <a:endParaRPr b="0" lang="en-US" sz="2400" spc="-1" strike="noStrike">
              <a:solidFill>
                <a:srgbClr val="000000"/>
              </a:solidFill>
              <a:latin typeface="Arial"/>
            </a:endParaRPr>
          </a:p>
        </p:txBody>
      </p:sp>
      <p:sp>
        <p:nvSpPr>
          <p:cNvPr id="84" name="Rectangle 5"/>
          <p:cNvSpPr/>
          <p:nvPr/>
        </p:nvSpPr>
        <p:spPr>
          <a:xfrm>
            <a:off x="229320" y="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85" name="Прямоугольник 6"/>
          <p:cNvSpPr/>
          <p:nvPr/>
        </p:nvSpPr>
        <p:spPr>
          <a:xfrm>
            <a:off x="3348000" y="4051440"/>
            <a:ext cx="54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I </a:t>
            </a:r>
            <a:r>
              <a:rPr b="1" lang="ru-RU" sz="2400" spc="-1" strike="noStrike">
                <a:solidFill>
                  <a:srgbClr val="cc0000"/>
                </a:solidFill>
                <a:latin typeface="Times New Roman"/>
                <a:ea typeface="Times New Roman"/>
              </a:rPr>
              <a:t>квалификацион категориял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татар теле  һәм әдәбияты укытучыс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Шагараева  Алинә Илсур кызы</a:t>
            </a:r>
            <a:endParaRPr b="0" lang="en-US" sz="2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i="1" lang="tt-RU" sz="4000" spc="-1" strike="noStrike">
                <a:solidFill>
                  <a:srgbClr val="066c84"/>
                </a:solidFill>
                <a:latin typeface="Times New Roman"/>
                <a:ea typeface="Times New Roman"/>
              </a:rPr>
              <a:t>Халык педагогикасының </a:t>
            </a:r>
            <a:r>
              <a:rPr b="1" lang="tt-RU" sz="3600" spc="-1" strike="noStrike">
                <a:solidFill>
                  <a:srgbClr val="066c84"/>
                </a:solidFill>
                <a:latin typeface="Times New Roman"/>
                <a:ea typeface="Times New Roman"/>
              </a:rPr>
              <a:t>нигезенә бу халыкның үзенә генә хас булган милли психологик үзенчәлекләре, тәрбия алымнары, тормыш - көнкүрешне оештыру, үз - үзеңне тоту рәвеше, әхлак нормалары, милли сыйфатлары салынган.</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lang="tt-RU" sz="3600" spc="-1" strike="noStrike">
                <a:solidFill>
                  <a:srgbClr val="066c84"/>
                </a:solidFill>
                <a:latin typeface="Times New Roman"/>
                <a:ea typeface="Times New Roman"/>
              </a:rPr>
              <a:t>Буыннан - буынга килгән һәм тәрбия процессында кулланылган ысуллар, нәтиҗәле алымнар, гомуми кабул ителгән һәм гадәткә кергән таләпләр, гыйлем – күнекмәләр, педагогик карашлар яшь буынга белем - тәрбия бирүдә аеруча зур роль уйный.</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0066"/>
                </a:solidFill>
                <a:latin typeface="Times New Roman"/>
                <a:ea typeface="Times New Roman"/>
              </a:rPr>
              <a:t>ГАИЛӘНЕҢ ТӘРБИЯДӘГЕ РОЛЕ</a:t>
            </a:r>
            <a:endParaRPr b="0" lang="en-US" sz="4000" spc="-1" strike="noStrike">
              <a:solidFill>
                <a:srgbClr val="000000"/>
              </a:solidFill>
              <a:latin typeface="Calibri"/>
            </a:endParaRPr>
          </a:p>
        </p:txBody>
      </p:sp>
      <p:pic>
        <p:nvPicPr>
          <p:cNvPr id="102" name="Picture 2" descr="C:\Users\111\Desktop\семья.jpg"/>
          <p:cNvPicPr/>
          <p:nvPr/>
        </p:nvPicPr>
        <p:blipFill>
          <a:blip r:embed="rId1"/>
          <a:srcRect l="0" t="11700" r="0" b="11700"/>
          <a:stretch/>
        </p:blipFill>
        <p:spPr>
          <a:xfrm>
            <a:off x="142920" y="1143000"/>
            <a:ext cx="8858160" cy="5715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4"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АВЫЗ ИҖАТЫ - </a:t>
            </a:r>
            <a:endParaRPr b="0" lang="en-US" sz="4800" spc="-1" strike="noStrike">
              <a:solidFill>
                <a:srgbClr val="000000"/>
              </a:solidFill>
              <a:latin typeface="Calibri"/>
            </a:endParaRPr>
          </a:p>
        </p:txBody>
      </p:sp>
      <p:sp>
        <p:nvSpPr>
          <p:cNvPr id="106" name=""/>
          <p:cNvSpPr txBox="1"/>
          <p:nvPr/>
        </p:nvSpPr>
        <p:spPr>
          <a:xfrm>
            <a:off x="357120" y="1142640"/>
            <a:ext cx="8429760" cy="54291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    </a:t>
            </a:r>
            <a:r>
              <a:rPr b="1" lang="tt-RU" sz="2800" spc="-1" strike="noStrike">
                <a:solidFill>
                  <a:srgbClr val="066c84"/>
                </a:solidFill>
                <a:latin typeface="Times New Roman"/>
                <a:ea typeface="Times New Roman"/>
              </a:rPr>
              <a:t>халыкның рухи хәзинәсе, ерак заманнарда яшәгән      кешенең эчке дөньясын чагылдыра торган тормышчан чыганак. Халык авыз иҗаты әсәрләрендә җанлы сөйләм теленең үзенчәлекләре, халыкның фикер байлыгы, сүз тапкырлыгы, күп төрле сурәт-бизәк чаралары тупланган. Аларда халыкның уй-хыяллары, гаделлек өчен көрәше, якты киләчәккә омтылышы гәүдәләнә. Шунлыктан фольклор әсәрләре һәркемгә якын, һәркемне дулкынландыра, яхшылыкка, әдәпле һәм намуслы булырга өнди.</a:t>
            </a:r>
            <a:endParaRPr b="0" lang="en-US" sz="28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8"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ГОРЕФ-ГАДӘТЛӘР</a:t>
            </a:r>
            <a:endParaRPr b="0" lang="en-US" sz="6000" spc="-1" strike="noStrike">
              <a:solidFill>
                <a:srgbClr val="000000"/>
              </a:solidFill>
              <a:latin typeface="Calibri"/>
            </a:endParaRPr>
          </a:p>
        </p:txBody>
      </p:sp>
      <p:sp>
        <p:nvSpPr>
          <p:cNvPr id="110" name=""/>
          <p:cNvSpPr txBox="1"/>
          <p:nvPr/>
        </p:nvSpPr>
        <p:spPr>
          <a:xfrm>
            <a:off x="571680" y="1428840"/>
            <a:ext cx="7858080" cy="4697280"/>
          </a:xfrm>
          <a:prstGeom prst="rect">
            <a:avLst/>
          </a:prstGeom>
          <a:noFill/>
          <a:ln w="0">
            <a:noFill/>
          </a:ln>
        </p:spPr>
        <p:txBody>
          <a:bodyPr anchor="t">
            <a:normAutofit fontScale="94000"/>
          </a:bodyPr>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        </a:t>
            </a:r>
            <a:r>
              <a:rPr b="1" lang="tt-RU" sz="3200" spc="-1" strike="noStrike">
                <a:solidFill>
                  <a:srgbClr val="066c84"/>
                </a:solidFill>
                <a:latin typeface="Times New Roman"/>
                <a:ea typeface="Times New Roman"/>
              </a:rPr>
              <a:t>Халык авыз иҗаты әсәрләре белән беррәттән, татар халкының гореф-гадәтләре, йола бәйрәмнәре дә яшь буында әхлаклылык тәрбияләүгә булыша. Кече яшьтәге мәктәп балаларына әхлакый тәрбия бирүдә халкыбызның гореф-гадәтләрен, борынгыдан килгән традицияләрен куллануның роле зур булуы һәркемгә мәгълүм. </a:t>
            </a:r>
            <a:endParaRPr b="0" lang="en-US" sz="3200" spc="-1" strike="noStrike">
              <a:solidFill>
                <a:srgbClr val="000000"/>
              </a:solidFill>
              <a:latin typeface="Calibri"/>
            </a:endParaRPr>
          </a:p>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2"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ӘДӘБИЯТ</a:t>
            </a:r>
            <a:endParaRPr b="0" lang="en-US" sz="5400" spc="-1" strike="noStrike">
              <a:solidFill>
                <a:srgbClr val="000000"/>
              </a:solidFill>
              <a:latin typeface="Calibri"/>
            </a:endParaRPr>
          </a:p>
        </p:txBody>
      </p:sp>
      <p:sp>
        <p:nvSpPr>
          <p:cNvPr id="11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Әдәби әсәрләр кешелек туплаган рухи байлыкны, әдәп-әхлак кагыйдәләрен, </a:t>
            </a:r>
            <a:r>
              <a:rPr b="1" i="1" lang="tt-RU" sz="3200" spc="-1" strike="noStrike">
                <a:solidFill>
                  <a:srgbClr val="066c84"/>
                </a:solidFill>
                <a:latin typeface="Times New Roman"/>
                <a:ea typeface="Times New Roman"/>
              </a:rPr>
              <a:t>“нәрсә ул яхшы”, “нәрсә ул яман”</a:t>
            </a:r>
            <a:r>
              <a:rPr b="1" lang="tt-RU" sz="3200" spc="-1" strike="noStrike">
                <a:solidFill>
                  <a:srgbClr val="066c84"/>
                </a:solidFill>
                <a:latin typeface="Times New Roman"/>
                <a:ea typeface="Times New Roman"/>
              </a:rPr>
              <a:t> төшенчәләрен укучыга үтемле итеп җиткерә. Әдәбиятны юкка гына </a:t>
            </a:r>
            <a:r>
              <a:rPr b="1" i="1" lang="tt-RU" sz="3200" spc="-1" strike="noStrike">
                <a:solidFill>
                  <a:srgbClr val="066c84"/>
                </a:solidFill>
                <a:latin typeface="Times New Roman"/>
                <a:ea typeface="Times New Roman"/>
              </a:rPr>
              <a:t>“кешелек хәтере”, “тормыш дәреслеге”</a:t>
            </a:r>
            <a:r>
              <a:rPr b="1" lang="tt-RU" sz="3200" spc="-1" strike="noStrike">
                <a:solidFill>
                  <a:srgbClr val="066c84"/>
                </a:solidFill>
                <a:latin typeface="Times New Roman"/>
                <a:ea typeface="Times New Roman"/>
              </a:rPr>
              <a:t> дип йөртмиләр. Укучы әдәбият аша дөньяны, кешене танып белә, тормыш тәҗрибәсен үзләштерә, яшәешкә, тереклеккә дәрт ал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7"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ӘДӘНИЯТ ҺӘМ СӘНГАТЬ</a:t>
            </a:r>
            <a:endParaRPr b="0" lang="en-US" sz="4400" spc="-1" strike="noStrike">
              <a:solidFill>
                <a:srgbClr val="000000"/>
              </a:solidFill>
              <a:latin typeface="Calibri"/>
            </a:endParaRPr>
          </a:p>
        </p:txBody>
      </p:sp>
      <p:sp>
        <p:nvSpPr>
          <p:cNvPr id="118"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Мәдәният һәм сәнгать — дөньяны нечкәләп, матур итеп күрә белү сәләтенә өйрәтә торган тагын бер якты тәрәзә ул.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Иҗат культурасы белән якынрак танышкан саен яшүсмердә кешенең әхлакый йөзенә, рухи байлыгына, интеллектына карата аеруча сизгерлек туа, кызыксынучанлыгы, эчке матурлыгы үсә.</a:t>
            </a:r>
            <a:r>
              <a:rPr b="1"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20"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cc0000"/>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C:\Users\111\Desktop\ислам.jpg"/>
          <p:cNvPicPr/>
          <p:nvPr/>
        </p:nvPicPr>
        <p:blipFill>
          <a:blip r:embed="rId1"/>
          <a:stretch/>
        </p:blipFill>
        <p:spPr>
          <a:xfrm>
            <a:off x="214200" y="1071720"/>
            <a:ext cx="8643960" cy="5572080"/>
          </a:xfrm>
          <a:prstGeom prst="rect">
            <a:avLst/>
          </a:prstGeom>
          <a:ln w="0">
            <a:noFill/>
          </a:ln>
        </p:spPr>
      </p:pic>
      <p:sp>
        <p:nvSpPr>
          <p:cNvPr id="12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ынычлык, халыклар арасында дуслык, үзара ярдәмләшү өчен көрәшә, кешеләрне бозыклык эшләүдән тыя. Дин берәүне дә начарлыкка өйрәтми. Анда гел яхшылыкка гына өндәгән күпсанлы чакыру,  вәгазьләр бар.</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6"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Татар халкында әхлак кагыйдәләре ислам әхлагы кагыйдәләре белән тыгыз бәйләнгән.</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Ислам дине буенча, әдәп һәм тыйнаклык -  кешеләрне ямьсез эшләрдән туктаткан бер калкан, сакчы. Кеше һәрвакыт әдәпле, саф әхлаклы булырга тиеш.</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РИЗА ФӘХРЕДДИН:</a:t>
            </a:r>
            <a:endParaRPr b="0" lang="en-US" sz="4800" spc="-1" strike="noStrike">
              <a:solidFill>
                <a:srgbClr val="000000"/>
              </a:solidFill>
              <a:latin typeface="Calibri"/>
            </a:endParaRPr>
          </a:p>
        </p:txBody>
      </p:sp>
      <p:sp>
        <p:nvSpPr>
          <p:cNvPr id="128" name=""/>
          <p:cNvSpPr txBox="1"/>
          <p:nvPr/>
        </p:nvSpPr>
        <p:spPr>
          <a:xfrm>
            <a:off x="4071600" y="785520"/>
            <a:ext cx="4786200" cy="5694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a:t>
            </a:r>
            <a:r>
              <a:rPr b="1" lang="tt-RU" sz="2600" spc="-1" strike="noStrike">
                <a:solidFill>
                  <a:srgbClr val="066c84"/>
                </a:solidFill>
                <a:latin typeface="Times New Roman"/>
                <a:ea typeface="Calibri"/>
              </a:rPr>
              <a:t>... мәктәпнең вазифасы – фәкать гыйлем өйрәтү белән генә чикләнмичә, бәлки эченә җыелган балаларның күңелләренә Алланы сөю, гүзәл гадәтләр, тырышу, эшлеклелек, туганлык, гайрәт, инсафлылык, гүзәл холык, гаделлек, батырлык, җанлылык кебек яхшылык орлыкларын тәмам игътибар белән чәчү вә </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тәрбияләп үстерү булачактыр...”</a:t>
            </a:r>
            <a:endParaRPr b="0" lang="en-US" sz="2600" spc="-1" strike="noStrike">
              <a:solidFill>
                <a:srgbClr val="000000"/>
              </a:solidFill>
              <a:latin typeface="Calibri"/>
            </a:endParaRPr>
          </a:p>
        </p:txBody>
      </p:sp>
      <p:pic>
        <p:nvPicPr>
          <p:cNvPr id="129" name="Picture 4" descr="C:\Users\111\Desktop\news-5fZ6FiQ7Br.jpg"/>
          <p:cNvPicPr/>
          <p:nvPr/>
        </p:nvPicPr>
        <p:blipFill>
          <a:blip r:embed="rId1"/>
          <a:stretch/>
        </p:blipFill>
        <p:spPr>
          <a:xfrm>
            <a:off x="142920" y="1071720"/>
            <a:ext cx="3995640" cy="540036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49291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ИГЪТИБАРЫГЫЗ ӨЧЕН ЗУР РӘХМӘТ!</a:t>
            </a:r>
            <a:endParaRPr b="0" lang="en-US" sz="5400" spc="-1" strike="noStrike">
              <a:solidFill>
                <a:srgbClr val="000000"/>
              </a:solidFill>
              <a:latin typeface="Calibri"/>
            </a:endParaRPr>
          </a:p>
        </p:txBody>
      </p:sp>
      <p:sp>
        <p:nvSpPr>
          <p:cNvPr id="131" name=""/>
          <p:cNvSpPr txBox="1"/>
          <p:nvPr/>
        </p:nvSpPr>
        <p:spPr>
          <a:xfrm>
            <a:off x="4071600" y="785520"/>
            <a:ext cx="4786200" cy="492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9"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ТЕЛ</a:t>
            </a:r>
            <a:endParaRPr b="0" lang="en-US" sz="6000" spc="-1" strike="noStrike">
              <a:solidFill>
                <a:srgbClr val="000000"/>
              </a:solidFill>
              <a:latin typeface="Calibri"/>
            </a:endParaRPr>
          </a:p>
        </p:txBody>
      </p:sp>
      <p:sp>
        <p:nvSpPr>
          <p:cNvPr id="91"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Укыту-тәрбия процессында телнең роле нинди соң?</a:t>
            </a:r>
            <a:endParaRPr b="0" lang="en-US" sz="4800" spc="-1" strike="noStrike">
              <a:solidFill>
                <a:srgbClr val="000000"/>
              </a:solidFill>
              <a:latin typeface="Calibri"/>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ел – җәмгыятьнең, һәрбер аерым шәхеснең берни белән дә алыштырып булмый торган рухи байлыгы. Ул халыкның акыл хәзинәсен, гореф-гадәтен, иң яхшы традицияләрен, дөньяга карашын, мәдәниятен борынгы заманнардан түкми-чәчми безнең көннәргә алып килгән.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Ана телен яхшы белү укучыларның яңа белемнәрне үзләштерүдә, гомуми үсеш дәрәҗәләрен күтәрүдә, фикер йөртү сәләтләрен үстерүдә, киләчәктә җәмгыять тормышында актив катнашырга әзерләүдә һәм сайлап алган хезмәтләрендә уңышларга ирешүдә мөһим шарт булып тора.</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111\Desktop\тел.jpg"/>
          <p:cNvPicPr/>
          <p:nvPr/>
        </p:nvPicPr>
        <p:blipFill>
          <a:blip r:embed="rId1"/>
          <a:stretch/>
        </p:blipFill>
        <p:spPr>
          <a:xfrm>
            <a:off x="0" y="54000"/>
            <a:ext cx="9144000" cy="680400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9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ПЕДАГОГИКАСЫ</a:t>
            </a:r>
            <a:endParaRPr b="0" lang="en-US" sz="4800" spc="-1" strike="noStrike">
              <a:solidFill>
                <a:srgbClr val="000000"/>
              </a:solidFill>
              <a:latin typeface="Calibri"/>
            </a:endParaRPr>
          </a:p>
        </p:txBody>
      </p:sp>
      <p:sp>
        <p:nvSpPr>
          <p:cNvPr id="98"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Халык педагогикасы нид</a:t>
            </a:r>
            <a:r>
              <a:rPr b="1" lang="tt-RU" sz="4800" spc="-1" strike="noStrike">
                <a:solidFill>
                  <a:srgbClr val="cc0000"/>
                </a:solidFill>
                <a:latin typeface="Calibri"/>
              </a:rPr>
              <a:t>ән гыйбарәт</a:t>
            </a:r>
            <a:r>
              <a:rPr b="1" lang="ru-RU" sz="4800" spc="-1" strike="noStrike">
                <a:solidFill>
                  <a:srgbClr val="cc0000"/>
                </a:solidFill>
                <a:latin typeface="Calibri"/>
              </a:rPr>
              <a:t>?</a:t>
            </a:r>
            <a:endParaRPr b="0" lang="en-US" sz="48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cc0000"/>
                </a:solidFill>
                <a:latin typeface="Calibri"/>
              </a:rPr>
              <a:t>Аның нигезен нәрсә тәшкил итә?</a:t>
            </a:r>
            <a:endParaRPr b="0" lang="en-US" sz="4800" spc="-1" strike="noStrike">
              <a:solidFill>
                <a:srgbClr val="000000"/>
              </a:solidFill>
              <a:latin typeface="Calibri"/>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7:04:34Z</dcterms:created>
  <dc:creator>User</dc:creator>
  <dc:description/>
  <dc:language>en-US</dc:language>
  <cp:lastModifiedBy>МАРС</cp:lastModifiedBy>
  <dcterms:modified xsi:type="dcterms:W3CDTF">2015-04-28T19:36:14Z</dcterms:modified>
  <cp:revision>66</cp:revision>
  <dc:subject/>
  <dc:title>Слайд 1</dc:title>
</cp:coreProperties>
</file>