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4E71-6C8D-47B7-A815-966D5E3D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A86-BE05-4ED0-BBFE-F40E2191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4EB-E677-414E-975F-79629DAB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8BD1-F8DA-416B-A7F5-59FD1395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CC3-DE56-4E4B-9389-BEE58827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971-CA08-4863-BF00-5423857F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4A54-3BAF-4417-8994-73ECEB7B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B6F-0B23-4651-AA8F-718E313B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6F9-01AB-44F0-8FAC-AD5C1DE8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334-F017-4990-9EC4-4C477FA0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6BA-DB32-42D6-BC18-DE4451F6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544-12D7-400C-82A3-34FFD92A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EB6E-1E99-4F37-993B-00B737F85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s://ds04.infourok.ru/uploads/ex/0d9f/0006281e-0a3159ff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er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er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ng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vourite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utifu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er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er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ng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vourite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utifu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s://pickimage.ru/wp-content/uploads/images/detskie/sea/rekaimore4.jpg"/>
          <p:cNvPicPr/>
          <p:nvPr/>
        </p:nvPicPr>
        <p:blipFill>
          <a:blip r:embed="rId1"/>
          <a:stretch/>
        </p:blipFill>
        <p:spPr>
          <a:xfrm>
            <a:off x="971640" y="0"/>
            <a:ext cx="2023920" cy="141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s://s1.1zoom.me/big3/772/360540-svetik.jpg"/>
          <p:cNvPicPr/>
          <p:nvPr/>
        </p:nvPicPr>
        <p:blipFill>
          <a:blip r:embed="rId2"/>
          <a:stretch/>
        </p:blipFill>
        <p:spPr>
          <a:xfrm>
            <a:off x="6156360" y="1197000"/>
            <a:ext cx="2351160" cy="1446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https://feniks-dvor.ru/wp-content/uploads/2019/06/10254.jpg"/>
          <p:cNvPicPr/>
          <p:nvPr/>
        </p:nvPicPr>
        <p:blipFill>
          <a:blip r:embed="rId3"/>
          <a:stretch/>
        </p:blipFill>
        <p:spPr>
          <a:xfrm>
            <a:off x="826920" y="227664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ɪg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smɔ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ː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ʃɔ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ː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lɒ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ŋ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e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naɪs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rible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ˈhɒrəbl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ʃɔ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ː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l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ɔ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ː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ɪg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smɔ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ː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ʃɔ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ː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lɒ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ŋ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e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naɪs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rible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ˈhɒrəbl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ʃɔ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ː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l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ɔ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ː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3785" r="46810" b="3549"/>
          <a:stretch/>
        </p:blipFill>
        <p:spPr>
          <a:xfrm>
            <a:off x="0" y="0"/>
            <a:ext cx="2362320" cy="2314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52127" t="3785" r="31916" b="3549"/>
          <a:stretch/>
        </p:blipFill>
        <p:spPr>
          <a:xfrm>
            <a:off x="6934320" y="685800"/>
            <a:ext cx="885600" cy="2895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rcRect l="67024" t="7564" r="0" b="9218"/>
          <a:stretch/>
        </p:blipFill>
        <p:spPr>
          <a:xfrm>
            <a:off x="7104240" y="3962520"/>
            <a:ext cx="2039760" cy="289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rcRect l="9165" t="12220" r="0" b="18892"/>
          <a:stretch/>
        </p:blipFill>
        <p:spPr>
          <a:xfrm>
            <a:off x="0" y="3657600"/>
            <a:ext cx="27432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</a:t>
            </a: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6</a:t>
            </a:r>
            <a:r>
              <a:rPr b="1" lang="en-US" sz="7200" spc="-1" strike="noStrike" baseline="30000">
                <a:solidFill>
                  <a:srgbClr val="002060"/>
                </a:solidFill>
                <a:latin typeface="Times New Roman"/>
                <a:ea typeface="Calibri"/>
              </a:rPr>
              <a:t>th</a:t>
            </a:r>
            <a:r>
              <a:rPr b="1" lang="en-US" sz="7200" spc="-1" strike="noStrike">
                <a:solidFill>
                  <a:srgbClr val="002060"/>
                </a:solidFill>
                <a:latin typeface="Times New Roman"/>
                <a:ea typeface="Calibri"/>
              </a:rPr>
              <a:t> of November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ɪg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smɔ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ː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ʃɔ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ː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lɒ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ŋ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e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naɪs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rible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ˈhɒrəbl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ʃɔ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ː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4082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l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ɔ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ː</a:t>
            </a: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]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3785" r="46810" b="3549"/>
          <a:stretch/>
        </p:blipFill>
        <p:spPr>
          <a:xfrm>
            <a:off x="0" y="0"/>
            <a:ext cx="2362320" cy="2314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52127" t="3785" r="31916" b="3549"/>
          <a:stretch/>
        </p:blipFill>
        <p:spPr>
          <a:xfrm>
            <a:off x="6934320" y="685800"/>
            <a:ext cx="885600" cy="2895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rcRect l="67024" t="7564" r="0" b="9218"/>
          <a:stretch/>
        </p:blipFill>
        <p:spPr>
          <a:xfrm>
            <a:off x="7104240" y="3962520"/>
            <a:ext cx="2039760" cy="2895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rcRect l="9165" t="12220" r="0" b="18892"/>
          <a:stretch/>
        </p:blipFill>
        <p:spPr>
          <a:xfrm>
            <a:off x="0" y="3657600"/>
            <a:ext cx="27432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714640" y="151920"/>
            <a:ext cx="297180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a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horrib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h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ma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hor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ong</a:t>
            </a: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04920"/>
            <a:ext cx="27432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t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hil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b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sr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oh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lo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B. p. 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is the 26th of Novemb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day is Tuesday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7229"/>
          <a:stretch/>
        </p:blipFill>
        <p:spPr>
          <a:xfrm>
            <a:off x="241308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ɒ]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ck, clock, clock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og plays with a frog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rog plays with the dog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ck, clock, clock.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61672"/>
          <a:stretch/>
        </p:blipFill>
        <p:spPr>
          <a:xfrm>
            <a:off x="0" y="1066680"/>
            <a:ext cx="9144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re Are Lots of Fl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9339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19T13:34:39Z</dcterms:created>
  <dc:creator>1</dc:creator>
  <dc:description/>
  <dc:language>en-US</dc:language>
  <cp:lastModifiedBy>1</cp:lastModifiedBy>
  <dcterms:modified xsi:type="dcterms:W3CDTF">2019-11-19T14:22:2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