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1CC-8344-4DF2-9C10-A08DEC0E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B84-DF0E-4A66-A7D3-4363D889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3FC-3998-4687-B0ED-1BDA20CE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3B6-698F-4D7A-8490-6546F024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F7F-62FC-4467-9138-F64652E7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74C-3F7E-4B89-8852-BA78EFF6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816-3E62-4A01-A345-A0E3F45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A65-0493-47F8-A946-E5FFCF47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259-48A1-4908-9E22-28342B0B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FC3-D943-44D5-8116-58F6E61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4C7-2CC8-4667-892A-35D69EA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34F-18EF-4272-9667-BFB2EB7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A000306-1806-4245-9661-4E1EF3A573FF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36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 MT"/>
              </a:rPr>
              <a:t>Today is 12</a:t>
            </a:r>
            <a:r>
              <a:rPr b="0" lang="en-US" sz="7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7000" spc="-1" strike="noStrike">
                <a:solidFill>
                  <a:srgbClr val="000000"/>
                </a:solidFill>
                <a:latin typeface="Gill Sans MT"/>
              </a:rPr>
              <a:t> of March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MT"/>
              </a:rPr>
              <a:t>Today is Tuesday 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464653"/>
                </a:solidFill>
                <a:latin typeface="Bookman Old Style"/>
              </a:rPr>
              <a:t>[ei]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640" y="13406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i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n, r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i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n, go aw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ome again another d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Little Johny wants to pl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i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n, rain, go aw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148000" y="3645000"/>
            <a:ext cx="3995640" cy="30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Over, between, into, up, down, out of.</a:t>
            </a: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Helmet</a:t>
            </a: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Olympic Games</a:t>
            </a: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Taekwondo</a:t>
            </a: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464653"/>
                </a:solidFill>
                <a:latin typeface="Bookman Old Style"/>
              </a:rPr>
              <a:t>Check up yourselves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364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The bird fli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house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He is sitting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is mother and father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I am going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house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. He is climbing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tree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. We g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hill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. Children are running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ut of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ouse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7. Ann is going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stairs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8. My bed i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windows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9. My brother co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oom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0. The cat is climbing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tree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60" y="83664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6000"/>
          </a:bodyPr>
          <a:p>
            <a:pPr indent="0" algn="ctr">
              <a:lnSpc>
                <a:spcPct val="100000"/>
              </a:lnSpc>
              <a:buNone/>
            </a:pPr>
            <a:br>
              <a:rPr sz="4900"/>
            </a:br>
            <a:r>
              <a:rPr b="0" lang="en-US" sz="8000" spc="-1" strike="noStrike">
                <a:solidFill>
                  <a:srgbClr val="464653"/>
                </a:solidFill>
                <a:latin typeface="Bookman Old Style"/>
              </a:rPr>
              <a:t>Home task:</a:t>
            </a:r>
            <a:br>
              <a:rPr sz="3200"/>
            </a:b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7640" y="19202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ru-RU" sz="6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ru-RU" sz="6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6600" spc="-1" strike="noStrike">
                <a:solidFill>
                  <a:srgbClr val="000000"/>
                </a:solidFill>
                <a:latin typeface="Gill Sans MT"/>
              </a:rPr>
              <a:t>.60, </a:t>
            </a: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test</a:t>
            </a:r>
            <a:r>
              <a:rPr b="0" lang="ru-RU" sz="6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35</TotalTime>
  <Application>LibreOffice/7.4.7.2$Linux_X86_64 LibreOffice_project/40$Build-2</Application>
  <AppVersion>15.0000</AppVersion>
  <Words>157</Words>
  <Paragraphs>25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11:16:25Z</dcterms:created>
  <dc:creator>днс</dc:creator>
  <dc:description/>
  <dc:language>en-US</dc:language>
  <cp:lastModifiedBy>Эльвина</cp:lastModifiedBy>
  <dcterms:modified xsi:type="dcterms:W3CDTF">2019-03-10T10:26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