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7AF2-ABF5-4824-8D60-911828EEB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EEC-84C1-4F4F-B89B-E66EC82D4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7B5-67F7-4C04-81E1-89916940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212-B261-489E-8084-4DC866D0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4F2-1BA0-4276-AE20-70F033BB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36B-A58C-488D-B4CA-B9851C15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CFF-1EBB-4E42-BB50-4C616E91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BF6-A6EB-4B92-AD80-683A23B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4F0-3CCF-4A2A-824F-BE32BFE6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77B-F8F1-4E48-A345-035E4F7A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F48-728E-4FF6-8028-277AF5A3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4D0-F185-4FDD-A981-F58B65C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04C-AC18-487E-BF27-88126CC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C6E-FC1F-4DAA-9AC1-F1F254D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8C24-B007-456B-9765-FB33EF424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Безымянный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19680" y="0"/>
            <a:ext cx="4324320" cy="288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124080" y="3154320"/>
            <a:ext cx="41148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2"/>
          <p:cNvSpPr/>
          <p:nvPr/>
        </p:nvSpPr>
        <p:spPr>
          <a:xfrm>
            <a:off x="0" y="0"/>
            <a:ext cx="53276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Христианский храм разделялся на три основны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1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алта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1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средняя часть храма, или"церковь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01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притв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hram_struct0"/>
          <p:cNvPicPr/>
          <p:nvPr/>
        </p:nvPicPr>
        <p:blipFill>
          <a:blip r:embed="rId1"/>
          <a:stretch/>
        </p:blipFill>
        <p:spPr>
          <a:xfrm>
            <a:off x="5715000" y="228600"/>
            <a:ext cx="3429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0" y="3657600"/>
            <a:ext cx="5486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Ставят здание алтарной частью на восток – навстречу солн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1000"/>
                </a:solidFill>
                <a:latin typeface="Times New Roman"/>
                <a:ea typeface="Times New Roman"/>
              </a:rPr>
              <a:t>Снаружи восточную сторону легко узнать по полукруглым выступам, в которых размещается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5T14:52:43Z</dcterms:created>
  <dc:creator>1</dc:creator>
  <dc:description/>
  <dc:language>en-US</dc:language>
  <cp:lastModifiedBy>1</cp:lastModifiedBy>
  <dcterms:modified xsi:type="dcterms:W3CDTF">2020-01-22T12:42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