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0A22-2DF4-459F-8499-15B5C2DB4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8369-7C5F-4027-B9AA-1EC62D0C1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5C7F-8C8F-4780-8D7C-AA46004FC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23C1-F0C4-4521-BF9E-103BFF087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B43E-5F8D-4B50-B434-BFA9752BF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697E-9E9F-4DB3-9E5D-91BF01FD4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E63E-8D78-47D0-8EA7-68A7C994A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F4B6-8FD6-49AE-A6CE-EC5E031F3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851C-F480-4751-8413-CBF9AA52C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0289-52C5-4C28-A7DD-2A0ADCE2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31D0-E925-465C-8DF5-8E5497853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389B-951F-4D04-9FC4-AAD8A5E68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61B51-119B-4945-A41C-FC7BF236D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495680" y="4114800"/>
            <a:ext cx="106704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=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ребусы"/>
          <p:cNvPicPr/>
          <p:nvPr/>
        </p:nvPicPr>
        <p:blipFill>
          <a:blip r:embed="rId1"/>
          <a:stretch/>
        </p:blipFill>
        <p:spPr>
          <a:xfrm>
            <a:off x="380880" y="1752480"/>
            <a:ext cx="362160" cy="28958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ребусы"/>
          <p:cNvPicPr/>
          <p:nvPr/>
        </p:nvPicPr>
        <p:blipFill>
          <a:blip r:embed="rId2"/>
          <a:stretch/>
        </p:blipFill>
        <p:spPr>
          <a:xfrm>
            <a:off x="685800" y="2209680"/>
            <a:ext cx="2286000" cy="1703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ребусы"/>
          <p:cNvPicPr/>
          <p:nvPr/>
        </p:nvPicPr>
        <p:blipFill>
          <a:blip r:embed="rId3"/>
          <a:stretch/>
        </p:blipFill>
        <p:spPr>
          <a:xfrm>
            <a:off x="3314880" y="1828800"/>
            <a:ext cx="352080" cy="2819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ребусы"/>
          <p:cNvPicPr/>
          <p:nvPr/>
        </p:nvPicPr>
        <p:blipFill>
          <a:blip r:embed="rId4"/>
          <a:stretch/>
        </p:blipFill>
        <p:spPr>
          <a:xfrm>
            <a:off x="3886200" y="1371600"/>
            <a:ext cx="1709640" cy="2514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ребусы"/>
          <p:cNvPicPr/>
          <p:nvPr/>
        </p:nvPicPr>
        <p:blipFill>
          <a:blip r:embed="rId5"/>
          <a:stretch/>
        </p:blipFill>
        <p:spPr>
          <a:xfrm>
            <a:off x="3581280" y="4114800"/>
            <a:ext cx="1009800" cy="384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ребусы"/>
          <p:cNvPicPr/>
          <p:nvPr/>
        </p:nvPicPr>
        <p:blipFill>
          <a:blip r:embed="rId6"/>
          <a:stretch/>
        </p:blipFill>
        <p:spPr>
          <a:xfrm>
            <a:off x="5486400" y="19810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ребусы"/>
          <p:cNvPicPr/>
          <p:nvPr/>
        </p:nvPicPr>
        <p:blipFill>
          <a:blip r:embed="rId7"/>
          <a:stretch/>
        </p:blipFill>
        <p:spPr>
          <a:xfrm>
            <a:off x="7238880" y="205740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Наказание – это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запрет на определенную деятельность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мера государственного воздействия на того, кто совершил проступок, преступление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о ком- то или о чём - то трудном, тяжёлом, неприятн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4570560" cy="5943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rcRect l="62362" t="4663" r="8988" b="11441"/>
          <a:stretch/>
        </p:blipFill>
        <p:spPr>
          <a:xfrm>
            <a:off x="5257800" y="0"/>
            <a:ext cx="3886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годня я узна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ыло интересн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ыло трудн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понял, ч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не захотелось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0" t="70488" r="0" b="0"/>
          <a:stretch/>
        </p:blipFill>
        <p:spPr>
          <a:xfrm>
            <a:off x="0" y="5237280"/>
            <a:ext cx="914400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1-27T07:02:15Z</dcterms:created>
  <dc:creator>1</dc:creator>
  <dc:description/>
  <dc:language>en-US</dc:language>
  <cp:lastModifiedBy>1</cp:lastModifiedBy>
  <dcterms:modified xsi:type="dcterms:W3CDTF">2019-11-27T08:42:11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