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4E0-E2F0-4790-99C6-5628FACF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812-AB7B-40D5-A7CA-A9590D64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CBF-8ADA-4DC0-B9B0-E3C2DDF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C85-B6E8-4FC2-8B49-C61B9A1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C2A-C2C5-4B52-B245-347D6A41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D42-CFC6-4B02-ABE7-78BAAD95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AEB-D9D3-4F71-B707-95A56FEF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E45-8DE5-4371-ADD9-22440EA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4FF-83BF-46AB-8B74-0DF71B3B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55C-48F3-4D7F-AD54-E1C15B4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E8E-8713-406A-A632-58031EA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B4A-77BA-4A19-ACC9-C4A87CA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C637-8A75-4D31-A5CF-9A7AC2C12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fs00.infourok.ru/images/doc/231/67581/4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ное сравнение чисел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что такое разностное сравнение числа; научиться выполнять разностное сравнение чисе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..10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4688" t="8332" r="3126" b="14582"/>
          <a:stretch/>
        </p:blipFill>
        <p:spPr>
          <a:xfrm>
            <a:off x="0" y="51444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стр. 73 №3 (4 столбик); стр.74, № 6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4920"/>
          <a:ext cx="8229600" cy="5821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04920"/>
          <a:ext cx="8229600" cy="5300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7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+17       6+2  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-6          54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-6...22-4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...18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2T09:38:56Z</dcterms:created>
  <dc:creator>1</dc:creator>
  <dc:description/>
  <dc:language>en-US</dc:language>
  <cp:lastModifiedBy>1</cp:lastModifiedBy>
  <dcterms:modified xsi:type="dcterms:W3CDTF">2019-10-22T10:03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