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90E-D851-47B1-B2E5-2C8B4230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6CC-0DE9-4AD7-A9D3-70C46626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109-7AB1-4768-8086-5238BCC9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C34-7148-457A-96B6-ECD52022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8CE7-3EA9-4E00-93AE-90E67C33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17CE-8296-4765-8D18-2B1329B5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767A-E78E-41D3-8B09-91E49616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DA39-CBCB-46ED-AB3D-D8026E6D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CF18-26F2-4164-8CFA-6E220E42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E862-3AD8-4CD5-AA8F-462FC130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F8D6-7E30-4320-AE56-6F842E23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DB1C-85E4-476F-8E3D-81FC3C96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6BD6-C752-49CA-9524-FD80576B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0022-D501-4AA4-825D-E86A202D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216B-E207-4EF3-B498-56ED3E7C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0596-2549-4913-9F92-3FCF195C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0047-1171-4306-8219-AD0906D4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D2BA5-3612-402B-BD5A-99A08FA7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A3F1A-5215-4FE8-A18D-3DBDE638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B5C72-AFAD-4013-8208-49AC128D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08291-582C-4E3D-B318-2B710432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1C960-311F-4DB4-A8D4-CF5814B9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A5F-6CAA-4B60-84C0-94012741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3BCFE-8E8E-4A0F-AE9C-1F786847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D88DD-ADCB-4633-AD3A-F8F95610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1642B-235B-4FCD-AE54-71C641E4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E8154-C122-47F0-B4BB-9A360F2B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5EF11-E491-4C55-84A7-852B8EF7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C3C82-3A54-4F75-9304-00BAC7FD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05EDB-1B1B-44AD-8717-D4F835A5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B20-E5D4-4987-B877-98A2CB71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6C64-C529-4F63-B6C2-330B9EC5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054-56FF-4ED8-ACC1-BCDAFBDA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29D-B421-481B-A8E5-81FDEB5A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DCC-D04D-4701-A572-831E74B1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9CD-EC3A-4FC0-B192-234C51D8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48D6-559D-4FB8-A811-12B632415B95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6B05-4D48-4A41-8542-61A6553AB548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C80E-D80D-4D9B-90E8-C2E4DD5AF546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Устный счет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1282e"/>
                </a:solidFill>
                <a:latin typeface="Arial Black"/>
              </a:rPr>
              <a:t>ТЕМА:</a:t>
            </a:r>
            <a:endParaRPr b="0" lang="en-US" sz="6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ение задач с величинами "цена, количество, стоимость"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1282e"/>
                </a:solidFill>
                <a:latin typeface="Arial Black"/>
              </a:rPr>
              <a:t>ЦЕЛИ:</a:t>
            </a:r>
            <a:endParaRPr b="0" lang="en-US" sz="6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репить умения решать задачи изученного вида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ть смысл величин «цена, количество, стоимость»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5 октябр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лассная работа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50920" y="1700280"/>
          <a:ext cx="8569080" cy="3457440"/>
        </p:xfrm>
        <a:graphic>
          <a:graphicData uri="http://schemas.openxmlformats.org/drawingml/2006/table">
            <a:tbl>
              <a:tblPr/>
              <a:tblGrid>
                <a:gridCol w="2857320"/>
                <a:gridCol w="2855880"/>
                <a:gridCol w="2855880"/>
              </a:tblGrid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имост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акова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ру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к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1282e"/>
                </a:solidFill>
                <a:latin typeface="Arial Black"/>
              </a:rPr>
              <a:t>ПРОВЕРЬ СЕБЯ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стюмы: 75:3=25 (шт)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юбки: 30:30=1 (м)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рюки: 130*20=2600 (см)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4278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1282e"/>
                </a:solidFill>
                <a:latin typeface="Arial Black"/>
              </a:rPr>
              <a:t>КРИТЕРИИ ОЦЕНИВАНИЯ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000" y="206028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ошибок – оценка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5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ошибка – оценка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4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– оценка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2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4T11:59:53Z</dcterms:created>
  <dc:creator>днс</dc:creator>
  <dc:description/>
  <dc:language>en-US</dc:language>
  <cp:lastModifiedBy>Эльвина</cp:lastModifiedBy>
  <dcterms:modified xsi:type="dcterms:W3CDTF">2019-10-11T17:19:25Z</dcterms:modified>
  <cp:revision>5</cp:revision>
  <dc:subject/>
  <dc:title>Слайд 1</dc:title>
</cp:coreProperties>
</file>