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642-B4A6-4F8F-B2B2-8FBD0B71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078-C215-4948-9557-AEB24A21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C02-14BB-4132-B816-C4310308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BEA-04A5-43EA-9557-B2B2DC30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A78-670F-43E2-BDC7-02FE287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258-E765-461C-8BC7-9E1E849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509-76CC-4E78-A556-7FFABC9A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E2B-8778-43E7-B537-912C504A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E01-92FB-4853-993E-ABF7AD9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43E-AB3A-4BFD-8B50-21B55D3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655-F9F0-4643-8338-CB349BC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2D3-405A-4335-898C-EC3958E6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FC6F-492E-45D4-9443-0D2479A1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4.infourok.ru/uploads/ex/0d9f/0006281e-0a3159ff/img0.jpg"/>
          <p:cNvPicPr/>
          <p:nvPr/>
        </p:nvPicPr>
        <p:blipFill>
          <a:blip r:embed="rId1"/>
          <a:stretch/>
        </p:blipFill>
        <p:spPr>
          <a:xfrm>
            <a:off x="0" y="-14400"/>
            <a:ext cx="93726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1120" y="121932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n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wɒn]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guins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e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ɪn]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tch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kæʧ]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rich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ɒstrɪʧ]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æfrɪkə]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251460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23637" t="10909" r="16364" b="0"/>
          <a:stretch/>
        </p:blipFill>
        <p:spPr>
          <a:xfrm>
            <a:off x="0" y="3124080"/>
            <a:ext cx="2514600" cy="248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752480" y="4940280"/>
            <a:ext cx="289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he 15th of Octob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uesda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 æ ]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cat, a little cat,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cat is not very fat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fat, because it is sad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, very sad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2840" y="838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https://i.pinimg.com/originals/e3/0b/38/e30b388eb0de35586e090a8a93ee9605.jpg"/>
          <p:cNvPicPr/>
          <p:nvPr/>
        </p:nvPicPr>
        <p:blipFill>
          <a:blip r:embed="rId1"/>
          <a:srcRect l="24050" t="11782" r="54945" b="48218"/>
          <a:stretch/>
        </p:blipFill>
        <p:spPr>
          <a:xfrm>
            <a:off x="228600" y="4572000"/>
            <a:ext cx="267984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https://i.pinimg.com/originals/e3/0b/38/e30b388eb0de35586e090a8a93ee9605.jpg"/>
          <p:cNvPicPr/>
          <p:nvPr/>
        </p:nvPicPr>
        <p:blipFill>
          <a:blip r:embed="rId2"/>
          <a:srcRect l="798" t="22447" r="77569" b="37558"/>
          <a:stretch/>
        </p:blipFill>
        <p:spPr>
          <a:xfrm>
            <a:off x="6915240" y="3809880"/>
            <a:ext cx="1933560" cy="2543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https://i.pinimg.com/originals/e3/0b/38/e30b388eb0de35586e090a8a93ee9605.jpg"/>
          <p:cNvPicPr/>
          <p:nvPr/>
        </p:nvPicPr>
        <p:blipFill>
          <a:blip r:embed="rId3"/>
          <a:srcRect l="77290" t="22217" r="0" b="42666"/>
          <a:stretch/>
        </p:blipFill>
        <p:spPr>
          <a:xfrm>
            <a:off x="152280" y="228600"/>
            <a:ext cx="22892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https://i.pinimg.com/originals/e3/0b/38/e30b388eb0de35586e090a8a93ee9605.jpg"/>
          <p:cNvPicPr/>
          <p:nvPr/>
        </p:nvPicPr>
        <p:blipFill>
          <a:blip r:embed="rId4"/>
          <a:srcRect l="37199" t="46893" r="37629" b="10003"/>
          <a:stretch/>
        </p:blipFill>
        <p:spPr>
          <a:xfrm>
            <a:off x="7004160" y="228600"/>
            <a:ext cx="191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clock is ___the wall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ball is ____the tabl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cat is ____ the armchair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carpet is ____the floor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lamp is ____the ta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The flowers are____ the v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-228600"/>
            <a:ext cx="67820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3474720"/>
            <a:ext cx="7315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clock is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ball is under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cat is behind the arm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carpet is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lamp is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he flowers are in the vase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is is my mum. ____ name's J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is is my sister. ____name`s M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is is my brother. ____ name's F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his is my father. _____name's Joh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hat is your name? _____ name'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8T15:28:12Z</dcterms:created>
  <dc:creator>1</dc:creator>
  <dc:description/>
  <dc:language>en-US</dc:language>
  <cp:lastModifiedBy>1</cp:lastModifiedBy>
  <dcterms:modified xsi:type="dcterms:W3CDTF">2019-10-08T16:04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