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093-7606-4732-B7EA-63A94A84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039-A96D-485F-BA32-36B59CE9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2D8-7848-4DA7-A0F3-31A92EAB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FB0-5907-4065-8609-8FA20174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4E0B-9B12-42AF-9B23-A7BB3162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D28-2255-4667-A994-2AA2C172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9FB-A020-4199-924B-7179D265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DC3-ACAF-40B7-8AF2-41D6986F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477E-8F7C-4D31-BE32-83BF2BC6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B894-262D-42A7-BDA5-E71132DF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38C8-E3CF-4C90-B4DD-BDD961E9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B5D-C465-4DFF-8B47-46FB6C64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96C3-F4BC-4602-BFC3-095806E4D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s://ds04.infourok.ru/uploads/ex/0d9f/0006281e-0a3159ff/img0.jpg"/>
          <p:cNvPicPr/>
          <p:nvPr/>
        </p:nvPicPr>
        <p:blipFill>
          <a:blip r:embed="rId1"/>
          <a:stretch/>
        </p:blipFill>
        <p:spPr>
          <a:xfrm>
            <a:off x="0" y="-14400"/>
            <a:ext cx="93726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91120" y="1219320"/>
            <a:ext cx="4952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an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swɒn]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guins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e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wɪn]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tch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kæʧ]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rich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ɒstrɪʧ]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a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æfrɪkə]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2514600" cy="1571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743200" y="23623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rcRect l="23637" t="10909" r="16364" b="0"/>
          <a:stretch/>
        </p:blipFill>
        <p:spPr>
          <a:xfrm>
            <a:off x="0" y="3124080"/>
            <a:ext cx="2514600" cy="2489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752480" y="4940280"/>
            <a:ext cx="289584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is the 15th of Octob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is Tuesday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 æ ]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ttle cat, a little cat,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ttle cat is not very fat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 fat, because it is sad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very, very sad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42840" y="838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</a:t>
            </a: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</a:t>
            </a: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https://i.pinimg.com/originals/e3/0b/38/e30b388eb0de35586e090a8a93ee9605.jpg"/>
          <p:cNvPicPr/>
          <p:nvPr/>
        </p:nvPicPr>
        <p:blipFill>
          <a:blip r:embed="rId1"/>
          <a:srcRect l="24050" t="11782" r="54945" b="48218"/>
          <a:stretch/>
        </p:blipFill>
        <p:spPr>
          <a:xfrm>
            <a:off x="228600" y="4572000"/>
            <a:ext cx="2679840" cy="19335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" descr="https://i.pinimg.com/originals/e3/0b/38/e30b388eb0de35586e090a8a93ee9605.jpg"/>
          <p:cNvPicPr/>
          <p:nvPr/>
        </p:nvPicPr>
        <p:blipFill>
          <a:blip r:embed="rId2"/>
          <a:srcRect l="798" t="22447" r="77569" b="37558"/>
          <a:stretch/>
        </p:blipFill>
        <p:spPr>
          <a:xfrm>
            <a:off x="6915240" y="3809880"/>
            <a:ext cx="1933560" cy="25434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https://i.pinimg.com/originals/e3/0b/38/e30b388eb0de35586e090a8a93ee9605.jpg"/>
          <p:cNvPicPr/>
          <p:nvPr/>
        </p:nvPicPr>
        <p:blipFill>
          <a:blip r:embed="rId3"/>
          <a:srcRect l="77290" t="22217" r="0" b="42666"/>
          <a:stretch/>
        </p:blipFill>
        <p:spPr>
          <a:xfrm>
            <a:off x="152280" y="228600"/>
            <a:ext cx="228924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0" descr="https://i.pinimg.com/originals/e3/0b/38/e30b388eb0de35586e090a8a93ee9605.jpg"/>
          <p:cNvPicPr/>
          <p:nvPr/>
        </p:nvPicPr>
        <p:blipFill>
          <a:blip r:embed="rId4"/>
          <a:srcRect l="37199" t="46893" r="37629" b="10003"/>
          <a:stretch/>
        </p:blipFill>
        <p:spPr>
          <a:xfrm>
            <a:off x="7004160" y="228600"/>
            <a:ext cx="1911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41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he clock is ___the wall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ball is ____the tabl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he cat is ____ the armchair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he carpet is ____the floor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The lamp is ____the tab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The flowers are____ the v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-228600"/>
            <a:ext cx="67820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3474720"/>
            <a:ext cx="73152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clock is on the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ball is under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cat is behind the armc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 carpet is on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The lamp is o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The flowers are in the vase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7820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This is my mum. ____ name's J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This is my sister. ____name`s Ma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This is my brother. ____ name's F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This is my father. _____name's Joh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What is your name? _____ name's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08T15:28:12Z</dcterms:created>
  <dc:creator>1</dc:creator>
  <dc:description/>
  <dc:language>en-US</dc:language>
  <cp:lastModifiedBy>1</cp:lastModifiedBy>
  <dcterms:modified xsi:type="dcterms:W3CDTF">2019-10-08T16:04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