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A4C-1D05-4947-B935-1F583113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3D3-9096-41B9-B1E4-AE838718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7FF-898F-4BF9-9573-42DD51D2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AA5-6CCC-473E-88D2-8ACB5EA7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AC9D-BBB4-481C-86FF-6CAD3527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5706-C487-4AA1-AB87-80A80167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2FE9-D59C-43BA-A483-DA851BF6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F265-6997-4221-B477-0983BD1A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7D8D-ABD9-4E59-B5CB-C9112132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2F56-706E-4792-BEB3-AFF7C962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9C5B-C5B4-4142-BAF2-08E57782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6F7-FA9C-4642-BB06-23D72F4A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ECDF-4700-498B-9D03-6A2FC7CA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03B4-9BEC-4766-A329-E35D5044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AB97-F90B-407D-B424-1F24BBB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30C3-4107-4F57-A62F-7CBCDB5C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A468-95F3-4FA7-AAC9-9E462641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666-84CC-47EE-9B84-A9BDA187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7D7-0D4D-4E3A-B895-130EFCC6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D55-239F-4039-931C-01FE1B48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BEC-8393-418A-BC1A-E5726DDF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AF7-C924-4C19-8518-DFFE6716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C5D-C2C3-4ADE-B40C-C3C4AEC7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D36-6159-4BB7-A52E-13AD8CAB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6194-9560-4979-A8F8-FA22B2F57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789E-2FCC-420D-9D8C-25148FE5D4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mg0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тличить сложное предложение от простого предложения с однородными члена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ся не путать сложные предложения и простые предложения с однородными членами, грамотно писать сложные предложения и расставлять знаки препин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5T14:59:11Z</dcterms:created>
  <dc:creator>1</dc:creator>
  <dc:description/>
  <dc:language>en-US</dc:language>
  <cp:lastModifiedBy>1</cp:lastModifiedBy>
  <dcterms:modified xsi:type="dcterms:W3CDTF">2020-01-22T12:49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