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E0D81-FBBD-4B13-9C7B-D9E70D3536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29610-EA71-44EC-B959-79DDE94D91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259AB-A879-4F6D-AE6A-AC150AD2A9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B4CD3-64EE-497E-8C6F-3C793A8289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DE666-D589-480B-8365-63853071F4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55C52-934C-4A70-9861-51885E083B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45324-70D6-4297-98A7-90BC32CF5A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DD7FA-991F-45FF-8F52-7EB3781A27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3473F-007A-4993-BA3F-C32CC5FE5A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E45D0-C51B-4B8E-9FAB-9A572385D4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B9F-F44B-44B0-9969-C5F04F39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C21-2081-4A9A-AC03-017217D2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1AF-464E-4587-911C-F95BF26E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B6A-E00E-4C36-BAAD-E144CD74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E204-A5A6-4B8B-ACF5-0DE92C53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2145-70A0-40A0-BA2D-206F2C92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67EA-76CD-4CD9-BA49-25749774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3567-165A-433D-987A-C76CBFBB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6788-F190-469A-BC06-0A919859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DE84-ABB7-4F98-8093-811BA392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1EAE-BFA3-485A-B015-1F3311D6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1F7-1985-42B5-9B8F-BD11A56E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419F-EA99-4B3E-B2D8-712A7B2E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DAA7-1D81-49BB-A8EC-9E7867B6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3EB3-4878-4A10-A6B1-B3A8885A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27D5-B68D-4FC7-88CD-8368B071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FDFB-ED45-4C80-B97F-E55D2CF2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218-977C-4E26-828E-C9FFAEAB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6BA-C42D-4B51-8BD0-CD4FC3E4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BD6-66F2-4178-BC51-D41C25A3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C78-2525-44B4-A833-87442130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0B8-6211-49F7-83EA-14CAE97D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C46-748C-4ACE-B134-1C5D80F1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0C2F-D4E4-4290-A3D1-D2B2A824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64BF48-48BF-4ED6-8CC7-9F6DEC93D4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DAEE69-B98A-4B1A-864C-26834F1A0F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368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800" spc="-1" strike="noStrike">
                <a:solidFill>
                  <a:srgbClr val="c00000"/>
                </a:solidFill>
                <a:latin typeface="Times New Roman"/>
              </a:rPr>
              <a:t>English   ABC </a:t>
            </a:r>
            <a:br>
              <a:rPr sz="17800"/>
            </a:br>
            <a:br>
              <a:rPr sz="8800"/>
            </a:br>
            <a:r>
              <a:rPr b="1" lang="ru-RU" sz="7200" spc="-1" strike="noStrike">
                <a:solidFill>
                  <a:srgbClr val="feec94"/>
                </a:solidFill>
                <a:latin typeface="Edwardian Script ITC"/>
              </a:rPr>
              <a:t>презентация по английскому языку </a:t>
            </a:r>
            <a:br>
              <a:rPr sz="7200"/>
            </a:br>
            <a:r>
              <a:rPr b="1" lang="ru-RU" sz="7200" spc="-1" strike="noStrike">
                <a:solidFill>
                  <a:srgbClr val="feec94"/>
                </a:solidFill>
                <a:latin typeface="Edwardian Script ITC"/>
              </a:rPr>
              <a:t>для 2  класса</a:t>
            </a:r>
            <a:br>
              <a:rPr sz="8800"/>
            </a:b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2040" y="5072040"/>
            <a:ext cx="36432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орозова А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432720" y="1357200"/>
            <a:ext cx="6836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62160" y="4500720"/>
            <a:ext cx="682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146200" y="1357200"/>
            <a:ext cx="6152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C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148360" y="4572000"/>
            <a:ext cx="7142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D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85920" y="500040"/>
            <a:ext cx="2714760" cy="203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1285920" y="3857760"/>
            <a:ext cx="271476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6191280" y="39290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4"/>
          <a:stretch/>
        </p:blipFill>
        <p:spPr>
          <a:xfrm>
            <a:off x="6072120" y="482760"/>
            <a:ext cx="2786040" cy="2089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2077920" y="2643120"/>
            <a:ext cx="11224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p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9240" y="5929200"/>
            <a:ext cx="947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7002000" y="2643120"/>
            <a:ext cx="7567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c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7078320" y="6000840"/>
            <a:ext cx="8881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d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428040" y="1143000"/>
            <a:ext cx="6332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01120" y="4714920"/>
            <a:ext cx="5356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5360400" y="1143000"/>
            <a:ext cx="6883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G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505480" y="4572000"/>
            <a:ext cx="7142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H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85920" y="371484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1309680" y="268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3"/>
          <a:stretch/>
        </p:blipFill>
        <p:spPr>
          <a:xfrm>
            <a:off x="6500880" y="214200"/>
            <a:ext cx="2214360" cy="2190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4"/>
          <a:stretch/>
        </p:blipFill>
        <p:spPr>
          <a:xfrm>
            <a:off x="6357960" y="3571920"/>
            <a:ext cx="2435040" cy="2214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1651680" y="2357280"/>
            <a:ext cx="1873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leph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219400" y="5786280"/>
            <a:ext cx="866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7291080" y="2500200"/>
            <a:ext cx="7858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g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r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7080480" y="5857920"/>
            <a:ext cx="11426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h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360720" y="1428840"/>
            <a:ext cx="415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60360" y="5000760"/>
            <a:ext cx="4489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J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290560" y="1500120"/>
            <a:ext cx="650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K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146920" y="4857840"/>
            <a:ext cx="4870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6000840" y="3841920"/>
            <a:ext cx="2643120" cy="197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1000080" y="41112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1004760" y="3929040"/>
            <a:ext cx="2495520" cy="207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4"/>
          <a:stretch/>
        </p:blipFill>
        <p:spPr>
          <a:xfrm>
            <a:off x="6286680" y="357120"/>
            <a:ext cx="235728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1650600" y="2571840"/>
            <a:ext cx="13021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ns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862280" y="6000840"/>
            <a:ext cx="759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j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7004160" y="2714760"/>
            <a:ext cx="90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935760" y="5929200"/>
            <a:ext cx="8967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362880" y="1500120"/>
            <a:ext cx="9518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32720" y="4786200"/>
            <a:ext cx="7279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N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290920" y="1428840"/>
            <a:ext cx="7354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O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433840" y="4857840"/>
            <a:ext cx="669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P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452600" y="33984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1500120" y="3929040"/>
            <a:ext cx="2500560" cy="1857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3"/>
          <a:stretch/>
        </p:blipFill>
        <p:spPr>
          <a:xfrm>
            <a:off x="6357960" y="379440"/>
            <a:ext cx="2436840" cy="2049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4"/>
          <a:stretch/>
        </p:blipFill>
        <p:spPr>
          <a:xfrm>
            <a:off x="6429240" y="3895560"/>
            <a:ext cx="2428920" cy="1890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>
            <a:off x="2001240" y="2428920"/>
            <a:ext cx="170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onk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146680" y="5786280"/>
            <a:ext cx="9979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6859800" y="2428920"/>
            <a:ext cx="15066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6865920" y="5786280"/>
            <a:ext cx="1319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nc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61800" y="1428840"/>
            <a:ext cx="740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Q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432000" y="4929120"/>
            <a:ext cx="601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60760" y="1428840"/>
            <a:ext cx="579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432760" y="4857840"/>
            <a:ext cx="566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500120" y="428760"/>
            <a:ext cx="2554200" cy="207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357200" y="3857760"/>
            <a:ext cx="2571840" cy="1928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6215040" y="393840"/>
            <a:ext cx="2500200" cy="2033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4"/>
          <a:stretch/>
        </p:blipFill>
        <p:spPr>
          <a:xfrm>
            <a:off x="6357960" y="3803760"/>
            <a:ext cx="2357280" cy="19825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2007720" y="2500200"/>
            <a:ext cx="13773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q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u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933560" y="5786280"/>
            <a:ext cx="1238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r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ob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62680" y="2428920"/>
            <a:ext cx="854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7074720" y="5786280"/>
            <a:ext cx="962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t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290160" y="1571760"/>
            <a:ext cx="7246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U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61800" y="5214960"/>
            <a:ext cx="6667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V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290920" y="1571760"/>
            <a:ext cx="9367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W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434200" y="5072040"/>
            <a:ext cx="6426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1214280" y="331920"/>
            <a:ext cx="2724480" cy="2025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1214280" y="3857760"/>
            <a:ext cx="2714760" cy="207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6496200" y="285840"/>
            <a:ext cx="2219040" cy="2071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6478560" y="3857760"/>
            <a:ext cx="2236680" cy="2143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9"/>
          <p:cNvSpPr/>
          <p:nvPr/>
        </p:nvSpPr>
        <p:spPr>
          <a:xfrm>
            <a:off x="1650240" y="2357280"/>
            <a:ext cx="18878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u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mbrel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2001960" y="5929200"/>
            <a:ext cx="867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v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7069320" y="5929200"/>
            <a:ext cx="11775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6796440" y="2357280"/>
            <a:ext cx="1712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w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565920" y="1643040"/>
            <a:ext cx="6350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Y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500040" y="4714920"/>
            <a:ext cx="588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Z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857240" y="3929040"/>
            <a:ext cx="3071880" cy="2000160"/>
          </a:xfrm>
          <a:prstGeom prst="rect">
            <a:avLst/>
          </a:prstGeom>
          <a:ln w="0">
            <a:noFill/>
          </a:ln>
        </p:spPr>
      </p:pic>
      <p:sp>
        <p:nvSpPr>
          <p:cNvPr id="203" name="Oval 4"/>
          <p:cNvSpPr/>
          <p:nvPr/>
        </p:nvSpPr>
        <p:spPr>
          <a:xfrm>
            <a:off x="1857240" y="642960"/>
            <a:ext cx="2928960" cy="1928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5478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862960" y="1571760"/>
            <a:ext cx="14396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y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l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002280" y="4714920"/>
            <a:ext cx="92772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z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2286000" y="428760"/>
            <a:ext cx="371484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8000" spc="-1" strike="noStrike">
                <a:solidFill>
                  <a:srgbClr val="ff0000"/>
                </a:solidFill>
                <a:latin typeface="Calibri"/>
              </a:rPr>
              <a:t>ABC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428760" y="1928880"/>
            <a:ext cx="8215200" cy="30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Aa</a:t>
            </a:r>
            <a:r>
              <a:rPr b="0" lang="ru-RU" sz="4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92d050"/>
                </a:solidFill>
                <a:latin typeface="Calibri"/>
              </a:rPr>
              <a:t>Bb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b0f0"/>
                </a:solidFill>
                <a:latin typeface="Calibri"/>
              </a:rPr>
              <a:t>Cc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Dd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cc9900"/>
                </a:solidFill>
                <a:latin typeface="Calibri"/>
              </a:rPr>
              <a:t>Ee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92d050"/>
                </a:solidFill>
                <a:latin typeface="Calibri"/>
              </a:rPr>
              <a:t>Ff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b0f0"/>
                </a:solidFill>
                <a:latin typeface="Calibri"/>
              </a:rPr>
              <a:t>Gg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Hh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cc00cc"/>
                </a:solidFill>
                <a:latin typeface="Calibri"/>
              </a:rPr>
              <a:t>Ii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c000"/>
                </a:solidFill>
                <a:latin typeface="Calibri"/>
              </a:rPr>
              <a:t>Jj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Kk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Ll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Mm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cc9900"/>
                </a:solidFill>
                <a:latin typeface="Calibri"/>
              </a:rPr>
              <a:t>Nn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Oo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Pp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92d050"/>
                </a:solidFill>
                <a:latin typeface="Calibri"/>
              </a:rPr>
              <a:t>Qq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9d3232"/>
                </a:solidFill>
                <a:latin typeface="Calibri"/>
              </a:rPr>
              <a:t>Rr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b0f0"/>
                </a:solidFill>
                <a:latin typeface="Calibri"/>
              </a:rPr>
              <a:t>Ss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Tt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cc00"/>
                </a:solidFill>
                <a:latin typeface="Calibri"/>
              </a:rPr>
              <a:t>Uu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Vv   </a:t>
            </a:r>
            <a:r>
              <a:rPr b="0" lang="ru-RU" sz="4800" spc="-1" strike="noStrike">
                <a:solidFill>
                  <a:srgbClr val="cc00cc"/>
                </a:solidFill>
                <a:latin typeface="Calibri"/>
              </a:rPr>
              <a:t>Ww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cc00"/>
                </a:solidFill>
                <a:latin typeface="Calibri"/>
              </a:rPr>
              <a:t>Xx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cc9900"/>
                </a:solidFill>
                <a:latin typeface="Calibri"/>
              </a:rPr>
              <a:t>Yy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Zz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8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8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20-01-25T15:13:29Z</dcterms:modified>
  <cp:revision>2</cp:revision>
  <dc:subject/>
  <dc:title>English   ABC   презентация по английскому языку  для 2  класса </dc:title>
</cp:coreProperties>
</file>