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6888-FAFB-4FD0-81B2-E72955475C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E77BF-916B-4BD6-903B-7D622A5C6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5440-87FE-4B12-982A-A5DA9EFAB6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474C-BD1B-4BE9-AD46-15B4093FE0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3A491-2B7E-4D45-8C48-51E615871E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C66F-1203-4CC6-B0BA-B49FA5FC3F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FEDA-7E83-4817-B072-36529E463D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79E70-2F08-4BF8-94A6-D87FAD3106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48372-098A-4F89-87D2-6528B62339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4A29A-2863-429F-A9F2-B31BD87916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03C-9403-4ACE-9FCE-DC76A2C4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81A-329F-4903-BD56-CD02C8E4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0CB-4291-4463-9E66-F244260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C64-D9FC-44E9-A612-3A0D7708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87A1-F7A5-4343-BF0C-B5546407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0FF2-AE94-40C6-984C-67819B4E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D0A-CFC2-4097-A285-9A9E5B80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FD6F-12C8-4890-9883-B69EBFA6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286-7510-46A0-AADE-5764B11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CFC-63C1-4AB3-A747-2204130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BA2A-FF8E-422B-B500-590FFE2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7F3-F837-4928-A252-317287E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C648-B76C-44FE-B709-3BE985C2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BAB-EA22-4B53-AC33-2EACD3F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58F-1AA4-4FF1-B3B0-9ACA2189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2599-DFB9-4133-9B03-1128A6FB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D80-4E11-41D1-85D6-D1C27764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C7D-2979-47C4-B5F6-4FB6449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E3A-69B8-41C0-BF74-FEDD10D8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9FE-7E98-4E69-8D0B-E89E276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CB4-3CAA-4A49-B363-00957F4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8B3-5481-4B76-9E4E-E918C50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93B-41D8-47EA-BBE5-AB89679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301-69C1-4FB6-805E-D60A472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B745F2-D53C-4216-A03D-3C6D48947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AC235B-06ED-4899-93F4-7122576B4E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800" spc="-1" strike="noStrike">
                <a:solidFill>
                  <a:srgbClr val="c00000"/>
                </a:solidFill>
                <a:latin typeface="Times New Roman"/>
              </a:rPr>
              <a:t>English   ABC </a:t>
            </a:r>
            <a:br>
              <a:rPr sz="17800"/>
            </a:br>
            <a:br>
              <a:rPr sz="88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презентация по английскому языку </a:t>
            </a:r>
            <a:br>
              <a:rPr sz="72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для 2  класса</a:t>
            </a:r>
            <a:br>
              <a:rPr sz="88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2040" y="5072040"/>
            <a:ext cx="36432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розова А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432720" y="1357200"/>
            <a:ext cx="683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62160" y="4500720"/>
            <a:ext cx="682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46200" y="1357200"/>
            <a:ext cx="615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836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191280" y="39290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4"/>
          <a:stretch/>
        </p:blipFill>
        <p:spPr>
          <a:xfrm>
            <a:off x="6072120" y="48276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077920" y="2643120"/>
            <a:ext cx="11224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9240" y="5929200"/>
            <a:ext cx="947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002000" y="2643120"/>
            <a:ext cx="75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7078320" y="6000840"/>
            <a:ext cx="888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28040" y="1143000"/>
            <a:ext cx="633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01120" y="4714920"/>
            <a:ext cx="535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360400" y="1143000"/>
            <a:ext cx="6883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G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50548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H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85920" y="371484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309680" y="268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14360" cy="219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6357960" y="3571920"/>
            <a:ext cx="2435040" cy="2214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1651680" y="2357280"/>
            <a:ext cx="1873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e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219400" y="5786280"/>
            <a:ext cx="866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291080" y="2500200"/>
            <a:ext cx="7858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g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80480" y="5857920"/>
            <a:ext cx="1142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h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60720" y="1428840"/>
            <a:ext cx="415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60360" y="5000760"/>
            <a:ext cx="448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J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290560" y="1500120"/>
            <a:ext cx="65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K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46920" y="4857840"/>
            <a:ext cx="487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6000840" y="384192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1000080" y="411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1004760" y="3929040"/>
            <a:ext cx="249552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6286680" y="35712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650600" y="2571840"/>
            <a:ext cx="1302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s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862280" y="6000840"/>
            <a:ext cx="75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04160" y="2714760"/>
            <a:ext cx="90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935760" y="5929200"/>
            <a:ext cx="8967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62880" y="1500120"/>
            <a:ext cx="951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32720" y="4786200"/>
            <a:ext cx="72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290920" y="1428840"/>
            <a:ext cx="735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433840" y="4857840"/>
            <a:ext cx="66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452600" y="3398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3"/>
          <a:stretch/>
        </p:blipFill>
        <p:spPr>
          <a:xfrm>
            <a:off x="6357960" y="379440"/>
            <a:ext cx="2436840" cy="2049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4"/>
          <a:stretch/>
        </p:blipFill>
        <p:spPr>
          <a:xfrm>
            <a:off x="6429240" y="3895560"/>
            <a:ext cx="2428920" cy="189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2001240" y="2428920"/>
            <a:ext cx="170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nk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146680" y="5786280"/>
            <a:ext cx="99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859800" y="2428920"/>
            <a:ext cx="1506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6865920" y="5786280"/>
            <a:ext cx="1319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nc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61800" y="1428840"/>
            <a:ext cx="74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Q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32000" y="4929120"/>
            <a:ext cx="601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60760" y="1428840"/>
            <a:ext cx="57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432760" y="4857840"/>
            <a:ext cx="566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2554200" cy="20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357200" y="3857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6215040" y="393840"/>
            <a:ext cx="2500200" cy="203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6357960" y="3803760"/>
            <a:ext cx="2357280" cy="1982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2007720" y="2500200"/>
            <a:ext cx="1377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933560" y="5786280"/>
            <a:ext cx="1238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b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62680" y="2428920"/>
            <a:ext cx="854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074720" y="5786280"/>
            <a:ext cx="962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90160" y="1571760"/>
            <a:ext cx="724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61800" y="5214960"/>
            <a:ext cx="66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V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290920" y="1571760"/>
            <a:ext cx="93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W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434200" y="5072040"/>
            <a:ext cx="642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214280" y="331920"/>
            <a:ext cx="2724480" cy="202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6496200" y="285840"/>
            <a:ext cx="2219040" cy="2071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6478560" y="3857760"/>
            <a:ext cx="2236680" cy="2143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1650240" y="2357280"/>
            <a:ext cx="1887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br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001960" y="5929200"/>
            <a:ext cx="867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7069320" y="5929200"/>
            <a:ext cx="11775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796440" y="2357280"/>
            <a:ext cx="1712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w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65920" y="1643040"/>
            <a:ext cx="635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00040" y="4714920"/>
            <a:ext cx="588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Z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857240" y="3929040"/>
            <a:ext cx="3071880" cy="2000160"/>
          </a:xfrm>
          <a:prstGeom prst="rect">
            <a:avLst/>
          </a:prstGeom>
          <a:ln w="0">
            <a:noFill/>
          </a:ln>
        </p:spPr>
      </p:pic>
      <p:sp>
        <p:nvSpPr>
          <p:cNvPr id="203" name="Oval 4"/>
          <p:cNvSpPr/>
          <p:nvPr/>
        </p:nvSpPr>
        <p:spPr>
          <a:xfrm>
            <a:off x="1857240" y="642960"/>
            <a:ext cx="2928960" cy="1928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7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862960" y="1571760"/>
            <a:ext cx="1439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l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002280" y="4714920"/>
            <a:ext cx="92772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z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2286000" y="428760"/>
            <a:ext cx="371484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AB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28760" y="1928880"/>
            <a:ext cx="82152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Aa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Bb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Cc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Dd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Ee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Ff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Gg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Hh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Ii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Jj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Kk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Ll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M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Nn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Oo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Pp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Qq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d3232"/>
                </a:solidFill>
                <a:latin typeface="Calibri"/>
              </a:rPr>
              <a:t>Rr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Ss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Tt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Uu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Vv 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Ww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Xx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Yy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Zz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5:13:29Z</dcterms:modified>
  <cp:revision>2</cp:revision>
  <dc:subject/>
  <dc:title>English   ABC   презентация по английскому языку  для 2  класса </dc:title>
</cp:coreProperties>
</file>