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dt" idx="7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9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C14EAE-5BA2-443A-A2E8-4FEDA7B039B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824FB-9D50-4476-A347-FAA3702BD5A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F6811-8A92-49CE-B785-2E5BF2626BD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42AA30-24B3-421B-ACD4-2C5D10CA41B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BAD4C8-C3D5-4159-A340-B69263FB16A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50AF9E-104A-4A29-8313-434B92BA85A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9ADAF-45FC-4396-923B-F402A661F8A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7F7BF5-0917-4A7B-814A-897C7CC5658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4CE5D-44DA-4DFA-A247-1A13ACA4FAC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C3A2E-0FA9-4615-ACEB-9F3099FF353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E0DD-72BB-493B-9D0D-8029B7C00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493B-874D-4954-88EA-8D7AB66E0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C86C-CDE2-4A45-B841-734BFBF22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7560-0C0B-4473-ADFA-12DC36188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8615-7A4D-4681-A40C-34C25DA10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966F7-5124-4C1D-A23B-C819A699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C83D-291B-475C-8D04-36DC7C19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D095F-D99C-4654-B2DE-0BB98952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5B71-6E59-42E1-94B5-B457BAC48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F775-CBD7-4664-B9F4-6021F713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5D9C-EB2D-460F-976A-D553A23A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BA9A-7BC3-4108-8906-E216609CA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05DF-50AF-4274-A021-5FDADA20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6856C-417F-4B5B-8092-966EFF44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09BD2-815B-4490-BC27-7CC9B28C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B591-EC97-432B-BFF7-5C68E3FE7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A15A-8E78-484B-9E19-938EB1519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FCE7-85C6-476A-9921-C81640BDE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636C-48F7-4516-ABD8-9B00E434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BB12-0E1C-47EA-AADF-63DDE2F7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4C4B-0540-4CD2-8969-E9924444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75AB-1A2B-451A-93AF-49EAA63F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63022-DD3E-41BD-AC1A-CC2F5B0BD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4D78-281A-466B-B45C-5EDB12CD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AC3333E-2C57-465B-8537-BA1A60EDB17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ECA03A3-7ED3-45F6-9CE6-09BE6686256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000080"/>
            <a:ext cx="7772400" cy="3687840"/>
          </a:xfrm>
          <a:prstGeom prst="rect">
            <a:avLst/>
          </a:prstGeom>
          <a:noFill/>
          <a:ln w="0">
            <a:noFill/>
          </a:ln>
        </p:spPr>
        <p:txBody>
          <a:bodyPr tIns="9144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800" spc="-1" strike="noStrike">
                <a:solidFill>
                  <a:srgbClr val="c00000"/>
                </a:solidFill>
                <a:latin typeface="Times New Roman"/>
              </a:rPr>
              <a:t>English   ABC </a:t>
            </a:r>
            <a:br>
              <a:rPr sz="17800"/>
            </a:br>
            <a:br>
              <a:rPr sz="8800"/>
            </a:br>
            <a:r>
              <a:rPr b="1" lang="ru-RU" sz="7200" spc="-1" strike="noStrike">
                <a:solidFill>
                  <a:srgbClr val="feec94"/>
                </a:solidFill>
                <a:latin typeface="Edwardian Script ITC"/>
              </a:rPr>
              <a:t>презентация по английскому языку </a:t>
            </a:r>
            <a:br>
              <a:rPr sz="7200"/>
            </a:br>
            <a:r>
              <a:rPr b="1" lang="ru-RU" sz="7200" spc="-1" strike="noStrike">
                <a:solidFill>
                  <a:srgbClr val="feec94"/>
                </a:solidFill>
                <a:latin typeface="Edwardian Script ITC"/>
              </a:rPr>
              <a:t>для 2  класса</a:t>
            </a:r>
            <a:br>
              <a:rPr sz="8800"/>
            </a:br>
            <a:endParaRPr b="1" lang="en-US" sz="72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5072040" y="5072040"/>
            <a:ext cx="364320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Морозова А.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1"/>
          <p:cNvSpPr/>
          <p:nvPr/>
        </p:nvSpPr>
        <p:spPr>
          <a:xfrm>
            <a:off x="432720" y="1357200"/>
            <a:ext cx="6836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A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362160" y="4500720"/>
            <a:ext cx="682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B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5146200" y="1357200"/>
            <a:ext cx="6152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C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5148360" y="4572000"/>
            <a:ext cx="7142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D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1285920" y="500040"/>
            <a:ext cx="2714760" cy="2035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2"/>
          <a:stretch/>
        </p:blipFill>
        <p:spPr>
          <a:xfrm>
            <a:off x="1285920" y="3857760"/>
            <a:ext cx="2714760" cy="2035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3"/>
          <a:stretch/>
        </p:blipFill>
        <p:spPr>
          <a:xfrm>
            <a:off x="6191280" y="3929040"/>
            <a:ext cx="2666880" cy="20001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8" descr=""/>
          <p:cNvPicPr/>
          <p:nvPr/>
        </p:nvPicPr>
        <p:blipFill>
          <a:blip r:embed="rId4"/>
          <a:stretch/>
        </p:blipFill>
        <p:spPr>
          <a:xfrm>
            <a:off x="6072120" y="482760"/>
            <a:ext cx="2786040" cy="2089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9"/>
          <p:cNvSpPr/>
          <p:nvPr/>
        </p:nvSpPr>
        <p:spPr>
          <a:xfrm>
            <a:off x="2077920" y="2643120"/>
            <a:ext cx="112248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a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p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2289240" y="5929200"/>
            <a:ext cx="94752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b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i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11"/>
          <p:cNvSpPr/>
          <p:nvPr/>
        </p:nvSpPr>
        <p:spPr>
          <a:xfrm>
            <a:off x="7002000" y="2643120"/>
            <a:ext cx="75672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c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12"/>
          <p:cNvSpPr/>
          <p:nvPr/>
        </p:nvSpPr>
        <p:spPr>
          <a:xfrm>
            <a:off x="7078320" y="6000840"/>
            <a:ext cx="88812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d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o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60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1"/>
          <p:cNvSpPr/>
          <p:nvPr/>
        </p:nvSpPr>
        <p:spPr>
          <a:xfrm>
            <a:off x="428040" y="1143000"/>
            <a:ext cx="6332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501120" y="4714920"/>
            <a:ext cx="5356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F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5360400" y="1143000"/>
            <a:ext cx="68832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G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5505480" y="4572000"/>
            <a:ext cx="7142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H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1285920" y="3714840"/>
            <a:ext cx="2762280" cy="2071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"/>
          <p:cNvPicPr/>
          <p:nvPr/>
        </p:nvPicPr>
        <p:blipFill>
          <a:blip r:embed="rId2"/>
          <a:stretch/>
        </p:blipFill>
        <p:spPr>
          <a:xfrm>
            <a:off x="1309680" y="268200"/>
            <a:ext cx="2762280" cy="2071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"/>
          <p:cNvPicPr/>
          <p:nvPr/>
        </p:nvPicPr>
        <p:blipFill>
          <a:blip r:embed="rId3"/>
          <a:stretch/>
        </p:blipFill>
        <p:spPr>
          <a:xfrm>
            <a:off x="6500880" y="214200"/>
            <a:ext cx="2214360" cy="2190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8" descr=""/>
          <p:cNvPicPr/>
          <p:nvPr/>
        </p:nvPicPr>
        <p:blipFill>
          <a:blip r:embed="rId4"/>
          <a:stretch/>
        </p:blipFill>
        <p:spPr>
          <a:xfrm>
            <a:off x="6357960" y="3571920"/>
            <a:ext cx="2435040" cy="221436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9"/>
          <p:cNvSpPr/>
          <p:nvPr/>
        </p:nvSpPr>
        <p:spPr>
          <a:xfrm>
            <a:off x="1651680" y="2357280"/>
            <a:ext cx="18738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e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lepha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10"/>
          <p:cNvSpPr/>
          <p:nvPr/>
        </p:nvSpPr>
        <p:spPr>
          <a:xfrm>
            <a:off x="2219400" y="5786280"/>
            <a:ext cx="86652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f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is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7291080" y="2500200"/>
            <a:ext cx="7858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g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ir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12"/>
          <p:cNvSpPr/>
          <p:nvPr/>
        </p:nvSpPr>
        <p:spPr>
          <a:xfrm>
            <a:off x="7080480" y="5857920"/>
            <a:ext cx="11426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h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"/>
          <p:cNvSpPr/>
          <p:nvPr/>
        </p:nvSpPr>
        <p:spPr>
          <a:xfrm>
            <a:off x="360720" y="1428840"/>
            <a:ext cx="4154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360360" y="5000760"/>
            <a:ext cx="44892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Jj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5290560" y="1500120"/>
            <a:ext cx="6501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Kk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5146920" y="4857840"/>
            <a:ext cx="4870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6000840" y="3841920"/>
            <a:ext cx="2643120" cy="19731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2"/>
          <a:stretch/>
        </p:blipFill>
        <p:spPr>
          <a:xfrm>
            <a:off x="1000080" y="411120"/>
            <a:ext cx="2786040" cy="2089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3"/>
          <a:stretch/>
        </p:blipFill>
        <p:spPr>
          <a:xfrm>
            <a:off x="1004760" y="3929040"/>
            <a:ext cx="2495520" cy="2071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"/>
          <p:cNvPicPr/>
          <p:nvPr/>
        </p:nvPicPr>
        <p:blipFill>
          <a:blip r:embed="rId4"/>
          <a:stretch/>
        </p:blipFill>
        <p:spPr>
          <a:xfrm>
            <a:off x="6286680" y="357120"/>
            <a:ext cx="2357280" cy="22860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9"/>
          <p:cNvSpPr/>
          <p:nvPr/>
        </p:nvSpPr>
        <p:spPr>
          <a:xfrm>
            <a:off x="1650600" y="2571840"/>
            <a:ext cx="130212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i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nsec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1862280" y="6000840"/>
            <a:ext cx="7599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j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u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7004160" y="2714760"/>
            <a:ext cx="9018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k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i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6935760" y="5929200"/>
            <a:ext cx="8967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l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"/>
          <p:cNvSpPr/>
          <p:nvPr/>
        </p:nvSpPr>
        <p:spPr>
          <a:xfrm>
            <a:off x="362880" y="1500120"/>
            <a:ext cx="9518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M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432720" y="4786200"/>
            <a:ext cx="72792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N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5290920" y="1428840"/>
            <a:ext cx="7354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O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5433840" y="4857840"/>
            <a:ext cx="6699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P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1452600" y="339840"/>
            <a:ext cx="2786040" cy="2089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"/>
          <p:cNvPicPr/>
          <p:nvPr/>
        </p:nvPicPr>
        <p:blipFill>
          <a:blip r:embed="rId2"/>
          <a:stretch/>
        </p:blipFill>
        <p:spPr>
          <a:xfrm>
            <a:off x="1500120" y="3929040"/>
            <a:ext cx="2500560" cy="18572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7" descr=""/>
          <p:cNvPicPr/>
          <p:nvPr/>
        </p:nvPicPr>
        <p:blipFill>
          <a:blip r:embed="rId3"/>
          <a:stretch/>
        </p:blipFill>
        <p:spPr>
          <a:xfrm>
            <a:off x="6357960" y="379440"/>
            <a:ext cx="2436840" cy="20494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"/>
          <p:cNvPicPr/>
          <p:nvPr/>
        </p:nvPicPr>
        <p:blipFill>
          <a:blip r:embed="rId4"/>
          <a:stretch/>
        </p:blipFill>
        <p:spPr>
          <a:xfrm>
            <a:off x="6429240" y="3895560"/>
            <a:ext cx="2428920" cy="18907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9"/>
          <p:cNvSpPr/>
          <p:nvPr/>
        </p:nvSpPr>
        <p:spPr>
          <a:xfrm>
            <a:off x="2001240" y="2428920"/>
            <a:ext cx="1709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m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onke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146680" y="5786280"/>
            <a:ext cx="99792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n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11"/>
          <p:cNvSpPr/>
          <p:nvPr/>
        </p:nvSpPr>
        <p:spPr>
          <a:xfrm>
            <a:off x="6859800" y="2428920"/>
            <a:ext cx="15066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o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ran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12"/>
          <p:cNvSpPr/>
          <p:nvPr/>
        </p:nvSpPr>
        <p:spPr>
          <a:xfrm>
            <a:off x="6865920" y="5786280"/>
            <a:ext cx="13194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p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enci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61800" y="1428840"/>
            <a:ext cx="7401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Qq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432000" y="4929120"/>
            <a:ext cx="6012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R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5360760" y="1428840"/>
            <a:ext cx="5799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5432760" y="4857840"/>
            <a:ext cx="566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T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5" descr=""/>
          <p:cNvPicPr/>
          <p:nvPr/>
        </p:nvPicPr>
        <p:blipFill>
          <a:blip r:embed="rId1"/>
          <a:stretch/>
        </p:blipFill>
        <p:spPr>
          <a:xfrm>
            <a:off x="1500120" y="428760"/>
            <a:ext cx="2554200" cy="2071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2"/>
          <a:stretch/>
        </p:blipFill>
        <p:spPr>
          <a:xfrm>
            <a:off x="1357200" y="3857760"/>
            <a:ext cx="2571840" cy="1928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"/>
          <p:cNvPicPr/>
          <p:nvPr/>
        </p:nvPicPr>
        <p:blipFill>
          <a:blip r:embed="rId3"/>
          <a:stretch/>
        </p:blipFill>
        <p:spPr>
          <a:xfrm>
            <a:off x="6215040" y="393840"/>
            <a:ext cx="2500200" cy="2033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8" descr=""/>
          <p:cNvPicPr/>
          <p:nvPr/>
        </p:nvPicPr>
        <p:blipFill>
          <a:blip r:embed="rId4"/>
          <a:stretch/>
        </p:blipFill>
        <p:spPr>
          <a:xfrm>
            <a:off x="6357960" y="3803760"/>
            <a:ext cx="2357280" cy="198252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9"/>
          <p:cNvSpPr/>
          <p:nvPr/>
        </p:nvSpPr>
        <p:spPr>
          <a:xfrm>
            <a:off x="2007720" y="2500200"/>
            <a:ext cx="13773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q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ue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1933560" y="5786280"/>
            <a:ext cx="12384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r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obo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62680" y="2428920"/>
            <a:ext cx="854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s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u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7074720" y="5786280"/>
            <a:ext cx="9622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t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r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290160" y="1571760"/>
            <a:ext cx="72468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U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361800" y="5214960"/>
            <a:ext cx="66672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V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5290920" y="1571760"/>
            <a:ext cx="93672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W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5434200" y="5072040"/>
            <a:ext cx="64260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Xx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5" descr=""/>
          <p:cNvPicPr/>
          <p:nvPr/>
        </p:nvPicPr>
        <p:blipFill>
          <a:blip r:embed="rId1"/>
          <a:stretch/>
        </p:blipFill>
        <p:spPr>
          <a:xfrm>
            <a:off x="1214280" y="331920"/>
            <a:ext cx="2724480" cy="20253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"/>
          <p:cNvPicPr/>
          <p:nvPr/>
        </p:nvPicPr>
        <p:blipFill>
          <a:blip r:embed="rId2"/>
          <a:stretch/>
        </p:blipFill>
        <p:spPr>
          <a:xfrm>
            <a:off x="1214280" y="3857760"/>
            <a:ext cx="2714760" cy="20714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"/>
          <p:cNvPicPr/>
          <p:nvPr/>
        </p:nvPicPr>
        <p:blipFill>
          <a:blip r:embed="rId3"/>
          <a:stretch/>
        </p:blipFill>
        <p:spPr>
          <a:xfrm>
            <a:off x="6496200" y="285840"/>
            <a:ext cx="2219040" cy="20714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"/>
          <p:cNvPicPr/>
          <p:nvPr/>
        </p:nvPicPr>
        <p:blipFill>
          <a:blip r:embed="rId4"/>
          <a:stretch/>
        </p:blipFill>
        <p:spPr>
          <a:xfrm>
            <a:off x="6478560" y="3857760"/>
            <a:ext cx="2236680" cy="214308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9"/>
          <p:cNvSpPr/>
          <p:nvPr/>
        </p:nvSpPr>
        <p:spPr>
          <a:xfrm>
            <a:off x="1650240" y="2357280"/>
            <a:ext cx="18878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u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mbrel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2001960" y="5929200"/>
            <a:ext cx="8679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v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Rectangle 11"/>
          <p:cNvSpPr/>
          <p:nvPr/>
        </p:nvSpPr>
        <p:spPr>
          <a:xfrm>
            <a:off x="7069320" y="5929200"/>
            <a:ext cx="11775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X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-r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12"/>
          <p:cNvSpPr/>
          <p:nvPr/>
        </p:nvSpPr>
        <p:spPr>
          <a:xfrm>
            <a:off x="6796440" y="2357280"/>
            <a:ext cx="17121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w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ind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1"/>
          <p:cNvSpPr/>
          <p:nvPr/>
        </p:nvSpPr>
        <p:spPr>
          <a:xfrm>
            <a:off x="565920" y="1643040"/>
            <a:ext cx="6350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Y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2"/>
          <p:cNvSpPr/>
          <p:nvPr/>
        </p:nvSpPr>
        <p:spPr>
          <a:xfrm>
            <a:off x="500040" y="4714920"/>
            <a:ext cx="58896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Zz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1857240" y="3929040"/>
            <a:ext cx="3071880" cy="2000160"/>
          </a:xfrm>
          <a:prstGeom prst="rect">
            <a:avLst/>
          </a:prstGeom>
          <a:ln w="0">
            <a:noFill/>
          </a:ln>
        </p:spPr>
      </p:pic>
      <p:sp>
        <p:nvSpPr>
          <p:cNvPr id="203" name="Oval 4"/>
          <p:cNvSpPr/>
          <p:nvPr/>
        </p:nvSpPr>
        <p:spPr>
          <a:xfrm>
            <a:off x="1857240" y="642960"/>
            <a:ext cx="2928960" cy="19288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5478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5862960" y="1571760"/>
            <a:ext cx="1439640" cy="6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alibri"/>
              </a:rPr>
              <a:t>y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ello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6002280" y="4714920"/>
            <a:ext cx="927720" cy="7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z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o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plit dir="out" orient="horz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"/>
          <p:cNvSpPr/>
          <p:nvPr/>
        </p:nvSpPr>
        <p:spPr>
          <a:xfrm>
            <a:off x="2286000" y="428760"/>
            <a:ext cx="3714840" cy="14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ru-RU" sz="8000" spc="-1" strike="noStrike">
                <a:solidFill>
                  <a:srgbClr val="ff0000"/>
                </a:solidFill>
                <a:latin typeface="Calibri"/>
              </a:rPr>
              <a:t>ABC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428760" y="1928880"/>
            <a:ext cx="8215200" cy="30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alibri"/>
              </a:rPr>
              <a:t>Aa</a:t>
            </a:r>
            <a:r>
              <a:rPr b="0" lang="ru-RU" sz="48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92d050"/>
                </a:solidFill>
                <a:latin typeface="Calibri"/>
              </a:rPr>
              <a:t>Bb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800" spc="-1" strike="noStrike">
                <a:solidFill>
                  <a:srgbClr val="00b0f0"/>
                </a:solidFill>
                <a:latin typeface="Calibri"/>
              </a:rPr>
              <a:t>Cc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Dd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800" spc="-1" strike="noStrike">
                <a:solidFill>
                  <a:srgbClr val="cc9900"/>
                </a:solidFill>
                <a:latin typeface="Calibri"/>
              </a:rPr>
              <a:t>Ee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800" spc="-1" strike="noStrike">
                <a:solidFill>
                  <a:srgbClr val="92d050"/>
                </a:solidFill>
                <a:latin typeface="Calibri"/>
              </a:rPr>
              <a:t>Ff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800" spc="-1" strike="noStrike">
                <a:solidFill>
                  <a:srgbClr val="00b0f0"/>
                </a:solidFill>
                <a:latin typeface="Calibri"/>
              </a:rPr>
              <a:t>Gg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800" spc="-1" strike="noStrike">
                <a:solidFill>
                  <a:srgbClr val="c00000"/>
                </a:solidFill>
                <a:latin typeface="Calibri"/>
              </a:rPr>
              <a:t>Hh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800" spc="-1" strike="noStrike">
                <a:solidFill>
                  <a:srgbClr val="cc00cc"/>
                </a:solidFill>
                <a:latin typeface="Calibri"/>
              </a:rPr>
              <a:t>Ii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800" spc="-1" strike="noStrike">
                <a:solidFill>
                  <a:srgbClr val="ffc000"/>
                </a:solidFill>
                <a:latin typeface="Calibri"/>
              </a:rPr>
              <a:t>Jj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800" spc="-1" strike="noStrike">
                <a:solidFill>
                  <a:srgbClr val="7030a0"/>
                </a:solidFill>
                <a:latin typeface="Calibri"/>
              </a:rPr>
              <a:t>Kk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Ll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b050"/>
                </a:solidFill>
                <a:latin typeface="Calibri"/>
              </a:rPr>
              <a:t>Mm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cc9900"/>
                </a:solidFill>
                <a:latin typeface="Calibri"/>
              </a:rPr>
              <a:t>Nn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800" spc="-1" strike="noStrike">
                <a:solidFill>
                  <a:srgbClr val="0070c0"/>
                </a:solidFill>
                <a:latin typeface="Calibri"/>
              </a:rPr>
              <a:t>Oo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800" spc="-1" strike="noStrike">
                <a:solidFill>
                  <a:srgbClr val="ffff00"/>
                </a:solidFill>
                <a:latin typeface="Calibri"/>
              </a:rPr>
              <a:t>Pp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800" spc="-1" strike="noStrike">
                <a:solidFill>
                  <a:srgbClr val="92d050"/>
                </a:solidFill>
                <a:latin typeface="Calibri"/>
              </a:rPr>
              <a:t>Qq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800" spc="-1" strike="noStrike">
                <a:solidFill>
                  <a:srgbClr val="9d3232"/>
                </a:solidFill>
                <a:latin typeface="Calibri"/>
              </a:rPr>
              <a:t>Rr 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800" spc="-1" strike="noStrike">
                <a:solidFill>
                  <a:srgbClr val="00b0f0"/>
                </a:solidFill>
                <a:latin typeface="Calibri"/>
              </a:rPr>
              <a:t>Ss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800" spc="-1" strike="noStrike">
                <a:solidFill>
                  <a:srgbClr val="ff0000"/>
                </a:solidFill>
                <a:latin typeface="Calibri"/>
              </a:rPr>
              <a:t>Tt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4800" spc="-1" strike="noStrike">
                <a:solidFill>
                  <a:srgbClr val="00cc00"/>
                </a:solidFill>
                <a:latin typeface="Calibri"/>
              </a:rPr>
              <a:t>Uu 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Vv   </a:t>
            </a:r>
            <a:r>
              <a:rPr b="0" lang="ru-RU" sz="4800" spc="-1" strike="noStrike">
                <a:solidFill>
                  <a:srgbClr val="cc00cc"/>
                </a:solidFill>
                <a:latin typeface="Calibri"/>
              </a:rPr>
              <a:t>Ww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800" spc="-1" strike="noStrike">
                <a:solidFill>
                  <a:srgbClr val="00cc00"/>
                </a:solidFill>
                <a:latin typeface="Calibri"/>
              </a:rPr>
              <a:t>Xx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800" spc="-1" strike="noStrike">
                <a:solidFill>
                  <a:srgbClr val="cc9900"/>
                </a:solidFill>
                <a:latin typeface="Calibri"/>
              </a:rPr>
              <a:t>Yy</a:t>
            </a: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   Zz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8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83,-3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8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83,-3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</cp:lastModifiedBy>
  <dcterms:modified xsi:type="dcterms:W3CDTF">2020-01-25T15:13:29Z</dcterms:modified>
  <cp:revision>2</cp:revision>
  <dc:subject/>
  <dc:title>English   ABC   презентация по английскому языку  для 2  класса </dc:title>
</cp:coreProperties>
</file>