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71C-325A-4B2C-B13B-8C2DFAC1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6AE-4C43-4474-ABC5-5E5FC2E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B7C-3E1C-4053-A4F9-F113C70D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0B9-857F-4F4B-89F6-F629E76C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172-4E98-4B19-9EF3-A56E010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DBE-109B-4D8E-86F7-874A699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9B9-4898-4A8D-8E43-C0C3C7E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E60-C988-420F-99D4-254A421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71E-124E-4C09-B9AA-B6F5BAA9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526-C939-4E79-AC2C-4CB09B3C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0C7-0467-472F-9F81-1BB11D2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6C3-6B10-4B54-8B3B-4736D71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449B-504D-4D27-8412-6BC8570F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2209680"/>
          </a:xfrm>
          <a:prstGeom prst="rect">
            <a:avLst/>
          </a:prstGeom>
          <a:solidFill>
            <a:srgbClr val="cc99ff"/>
          </a:solidFill>
          <a:ln cap="rnd" w="57240">
            <a:solidFill>
              <a:srgbClr val="99cc00">
                <a:alpha val="66000"/>
              </a:srgbClr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рядковые числитель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для урока английского языка в 3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: Морозова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ажи по образцу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ir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e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english"/>
          <p:cNvPicPr/>
          <p:nvPr/>
        </p:nvPicPr>
        <p:blipFill>
          <a:blip r:embed="rId1"/>
          <a:stretch/>
        </p:blipFill>
        <p:spPr>
          <a:xfrm>
            <a:off x="685800" y="1752480"/>
            <a:ext cx="8458200" cy="4491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808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08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380880" y="3352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80880" y="28195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429000" y="4724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0880" y="4724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80880" y="42670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80880" y="5181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80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34290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3429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34290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34290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4290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34290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342900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66294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66294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66294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6629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 it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овые числительные - очень отличитель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мни правило та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о совсем-совсем прос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, третий и втор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признают лишь с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- (the) second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- (the) th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твертого по девятнадц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одинаковый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числам нуж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б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 порядку всех расстави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 - (the) fourth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- (the) 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- (the) sixth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 - (the) sev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- (the) eigh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 - (the) ni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дцатый, тридцатый и хоть девяно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ь тоже очень про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место букв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сякий ра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бавля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enty - (the) twentie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Запом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on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w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sec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hre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thi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Shape 1"/>
          <p:cNvSpPr/>
          <p:nvPr/>
        </p:nvSpPr>
        <p:spPr>
          <a:xfrm>
            <a:off x="436680" y="-135000"/>
            <a:ext cx="82278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78" descr=""/>
          <p:cNvPicPr/>
          <p:nvPr/>
        </p:nvPicPr>
        <p:blipFill>
          <a:blip r:embed="rId1"/>
          <a:stretch/>
        </p:blipFill>
        <p:spPr>
          <a:xfrm>
            <a:off x="1044720" y="195120"/>
            <a:ext cx="79041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Shape 1"/>
          <p:cNvSpPr/>
          <p:nvPr/>
        </p:nvSpPr>
        <p:spPr>
          <a:xfrm>
            <a:off x="436680" y="-135000"/>
            <a:ext cx="82278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0" descr=""/>
          <p:cNvPicPr/>
          <p:nvPr/>
        </p:nvPicPr>
        <p:blipFill>
          <a:blip r:embed="rId1"/>
          <a:stretch/>
        </p:blipFill>
        <p:spPr>
          <a:xfrm>
            <a:off x="782640" y="130320"/>
            <a:ext cx="7640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календари"/>
          <p:cNvPicPr/>
          <p:nvPr/>
        </p:nvPicPr>
        <p:blipFill>
          <a:blip r:embed="rId1"/>
          <a:stretch/>
        </p:blipFill>
        <p:spPr>
          <a:xfrm rot="19998600">
            <a:off x="685800" y="159984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hat date is it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3657600"/>
            <a:ext cx="3508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oday is the…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010280" y="1371600"/>
            <a:ext cx="1905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кален"/>
          <p:cNvPicPr/>
          <p:nvPr/>
        </p:nvPicPr>
        <p:blipFill>
          <a:blip r:embed="rId2"/>
          <a:stretch/>
        </p:blipFill>
        <p:spPr>
          <a:xfrm rot="1477800">
            <a:off x="3276360" y="1752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календ"/>
          <p:cNvPicPr/>
          <p:nvPr/>
        </p:nvPicPr>
        <p:blipFill>
          <a:blip r:embed="rId3"/>
          <a:stretch/>
        </p:blipFill>
        <p:spPr>
          <a:xfrm>
            <a:off x="838080" y="449568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56" name="Line 41"/>
          <p:cNvSpPr/>
          <p:nvPr/>
        </p:nvSpPr>
        <p:spPr>
          <a:xfrm flipH="1" flipV="1">
            <a:off x="5334120" y="4114800"/>
            <a:ext cx="1752480" cy="2286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2"/>
          <p:cNvSpPr/>
          <p:nvPr/>
        </p:nvSpPr>
        <p:spPr>
          <a:xfrm flipH="1" flipV="1">
            <a:off x="5409720" y="4114800"/>
            <a:ext cx="1600200" cy="175248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3"/>
          <p:cNvSpPr/>
          <p:nvPr/>
        </p:nvSpPr>
        <p:spPr>
          <a:xfrm flipH="1" flipV="1">
            <a:off x="5486400" y="3962160"/>
            <a:ext cx="144792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4"/>
          <p:cNvSpPr/>
          <p:nvPr/>
        </p:nvSpPr>
        <p:spPr>
          <a:xfrm flipH="1" flipV="1">
            <a:off x="5409720" y="3962160"/>
            <a:ext cx="1600200" cy="1143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5"/>
          <p:cNvSpPr/>
          <p:nvPr/>
        </p:nvSpPr>
        <p:spPr>
          <a:xfrm flipH="1" flipV="1">
            <a:off x="5409720" y="3962160"/>
            <a:ext cx="1600200" cy="6858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6"/>
          <p:cNvSpPr/>
          <p:nvPr/>
        </p:nvSpPr>
        <p:spPr>
          <a:xfrm flipH="1" flipV="1">
            <a:off x="5409720" y="4038480"/>
            <a:ext cx="1600200" cy="1447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7"/>
          <p:cNvSpPr/>
          <p:nvPr/>
        </p:nvSpPr>
        <p:spPr>
          <a:xfrm flipH="1">
            <a:off x="5410080" y="3733920"/>
            <a:ext cx="152424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8"/>
          <p:cNvSpPr/>
          <p:nvPr/>
        </p:nvSpPr>
        <p:spPr>
          <a:xfrm flipH="1">
            <a:off x="5410080" y="3352680"/>
            <a:ext cx="1524240" cy="60984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5409720" y="2895480"/>
            <a:ext cx="1676520" cy="990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0"/>
          <p:cNvSpPr/>
          <p:nvPr/>
        </p:nvSpPr>
        <p:spPr>
          <a:xfrm flipH="1">
            <a:off x="5410080" y="2514600"/>
            <a:ext cx="1524240" cy="1371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1"/>
          <p:cNvSpPr/>
          <p:nvPr/>
        </p:nvSpPr>
        <p:spPr>
          <a:xfrm flipH="1">
            <a:off x="5409720" y="2133720"/>
            <a:ext cx="1600200" cy="167616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V="1">
            <a:off x="5410080" y="1599840"/>
            <a:ext cx="1600200" cy="2133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867200"/>
            <a:ext cx="3124080" cy="1990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28461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10320" y="3962520"/>
            <a:ext cx="3433680" cy="246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21480" y="685800"/>
            <a:ext cx="3422520" cy="2567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2437920"/>
            <a:ext cx="2895480" cy="1676520"/>
          </a:xfrm>
          <a:prstGeom prst="rect">
            <a:avLst/>
          </a:prstGeom>
          <a:gradFill rotWithShape="0">
            <a:gsLst>
              <a:gs pos="0">
                <a:srgbClr val="ffffd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…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5" descr="снежинка1"/>
          <p:cNvPicPr/>
          <p:nvPr/>
        </p:nvPicPr>
        <p:blipFill>
          <a:blip r:embed="rId5"/>
          <a:stretch/>
        </p:blipFill>
        <p:spPr>
          <a:xfrm>
            <a:off x="152280" y="762120"/>
            <a:ext cx="1486080" cy="1358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EN IS YOUR BIRTHDA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6934320" y="1066680"/>
            <a:ext cx="2209680" cy="609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762120" y="1371600"/>
            <a:ext cx="236196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3886200" y="838080"/>
            <a:ext cx="205740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"/>
          <p:cNvSpPr/>
          <p:nvPr/>
        </p:nvSpPr>
        <p:spPr>
          <a:xfrm>
            <a:off x="2514600" y="2666880"/>
            <a:ext cx="160020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0"/>
          <p:cNvSpPr/>
          <p:nvPr/>
        </p:nvSpPr>
        <p:spPr>
          <a:xfrm>
            <a:off x="5562720" y="3200400"/>
            <a:ext cx="152388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723888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4"/>
          <p:cNvSpPr/>
          <p:nvPr/>
        </p:nvSpPr>
        <p:spPr>
          <a:xfrm>
            <a:off x="3276720" y="5181480"/>
            <a:ext cx="129528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5"/>
          <p:cNvSpPr/>
          <p:nvPr/>
        </p:nvSpPr>
        <p:spPr>
          <a:xfrm>
            <a:off x="4800600" y="4343400"/>
            <a:ext cx="1219320" cy="533520"/>
          </a:xfrm>
          <a:prstGeom prst="rect">
            <a:avLst/>
          </a:prstGeom>
          <a:gradFill rotWithShape="0">
            <a:gsLst>
              <a:gs pos="0">
                <a:srgbClr val="ffd2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6"/>
          <p:cNvSpPr/>
          <p:nvPr/>
        </p:nvSpPr>
        <p:spPr>
          <a:xfrm>
            <a:off x="7315200" y="3809880"/>
            <a:ext cx="167652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0"/>
          <p:cNvSpPr/>
          <p:nvPr/>
        </p:nvSpPr>
        <p:spPr>
          <a:xfrm>
            <a:off x="0" y="4191120"/>
            <a:ext cx="25909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1"/>
          <p:cNvSpPr/>
          <p:nvPr/>
        </p:nvSpPr>
        <p:spPr>
          <a:xfrm>
            <a:off x="3276720" y="5791320"/>
            <a:ext cx="198108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2"/>
          <p:cNvSpPr/>
          <p:nvPr/>
        </p:nvSpPr>
        <p:spPr>
          <a:xfrm>
            <a:off x="6781680" y="5943600"/>
            <a:ext cx="23623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1676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n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ven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twel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ecember is the ...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February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March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June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October is the …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November is the …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alendar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3006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731520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845820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845820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324480" y="2590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7391520" y="259092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8458200" y="2590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304812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mpl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th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276720" y="1371600"/>
            <a:ext cx="1904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508200" y="762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659760" y="15238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432240" y="4064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432240" y="2844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82720" y="1143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calendar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3013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3"/>
          <p:cNvSpPr/>
          <p:nvPr/>
        </p:nvSpPr>
        <p:spPr>
          <a:xfrm>
            <a:off x="609588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23888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609588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723888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845820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609588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8160" y="5900760"/>
            <a:ext cx="81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January is the ...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307440" y="5291280"/>
            <a:ext cx="73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April is the ...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08880" y="4784760"/>
            <a:ext cx="7238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May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307800" y="4114800"/>
            <a:ext cx="7183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July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32200" y="3565440"/>
            <a:ext cx="786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August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34360" y="3032280"/>
            <a:ext cx="8902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September is the …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0" y="0"/>
            <a:ext cx="304812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ста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опущ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20-01-25T14:56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