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609E-CDE3-495C-9771-D1E851D1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714120"/>
            <a:ext cx="8534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AB57-7174-48C5-A96D-DCFEC138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71412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71412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AA4D-AAAB-422B-BB89-F05EBD2B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60948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60948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71412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71412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71412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1657-23CE-45B2-A351-3628C29D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F2ED-697F-49DB-90D5-0C23BCA9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CECF-ED7C-40FF-A9DC-5473FBBA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6FF9-4188-4521-B9DD-2FDAA26C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3A0B-DD3F-49ED-A279-22650B05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4567-7E6B-4ED6-865F-A150C647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C3CC-0D01-45DA-A4BB-6176CAF3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71412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C44D-AA43-4C49-84A8-654337B8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D111-0715-4FD6-90DB-AC9D8C54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71412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7EE0-6C5A-43C4-A79B-ABB4FACE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714120"/>
            <a:ext cx="8534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FFA8-B5DB-446E-A1DD-01FCB3F1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714120"/>
            <a:ext cx="8534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2E93-B334-45DB-A513-18B19695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71412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71412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8C1F-7746-4403-8AE8-481EE279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60948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60948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71412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71412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71412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4744-C037-411B-9526-F23B919D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DF8-C81C-44DA-97A6-B4D5D36C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0BE2-802F-47BD-8299-BA46CD9F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034A-FDE3-4B56-8DEB-09DB9512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104B-A102-4DF5-862A-9AE3486A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71412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5819-2815-452F-930B-5233CE21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71412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0956-BC31-4477-994C-FF62F942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714120"/>
            <a:ext cx="8534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B0EF-6AA9-4A19-AAFC-90C76454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BAF4-45B1-4870-9836-D4211CFF9D3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9EA8-FD82-4624-9D29-60EEE7099B2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42920" y="928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Impact"/>
              </a:rPr>
              <a:t>Родительское собрание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857320"/>
            <a:ext cx="9144000" cy="5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5d"/>
                </a:solidFill>
                <a:latin typeface="Arial"/>
              </a:rPr>
              <a:t>«Как развивать самостоятельность у детей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5" descr="kitty_singing_on_fence_hg_clr"/>
          <p:cNvPicPr/>
          <p:nvPr/>
        </p:nvPicPr>
        <p:blipFill>
          <a:blip r:embed="rId1"/>
          <a:stretch/>
        </p:blipFill>
        <p:spPr>
          <a:xfrm>
            <a:off x="3571920" y="428616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85480" y="609480"/>
            <a:ext cx="855324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8000"/>
          </a:bodyPr>
          <a:p>
            <a:pPr marL="300240" indent="-3002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Как развивать самостоятельность у детей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Monotype Corsiva"/>
              </a:rPr>
              <a:t>Правила для родителе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Monotype Corsiva"/>
              </a:rPr>
              <a:t>Правило 1.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знание личности ребенка и его неприкосновенности. Отсутствие произвола в действиях отца и матер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Monotype Corsiva"/>
              </a:rPr>
              <a:t>Правило 2.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Формирование адекватной самооценки. Человек с низкой самооценкой постоянно зависит от чужого мнения, считает себя недостаточным. Формирование самооценки ребенка зависит от оценки его родителями т.к. в раннем возрасте ребенок еще не умеет оценивать себя са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Monotype Corsiva"/>
              </a:rPr>
              <a:t>Правило 3.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общать к реальным делам семьи. Можно проводить минисовещание с участием всех членов семьи, совместно планировать семейные дел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04920" y="609480"/>
            <a:ext cx="853416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Monotype Corsiva"/>
              </a:rPr>
              <a:t>Правило 4.</a:t>
            </a:r>
            <a:r>
              <a:rPr b="1" lang="ru-RU" sz="2400" spc="-1" strike="noStrike">
                <a:solidFill>
                  <a:srgbClr val="92d05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звивать силу воли ребенка. Научить проявить выносливость, смелость, мужественность, терпение. Учить прилагать усилия для достижения цел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Monotype Corsiva"/>
              </a:rPr>
              <a:t>Правило 5.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ить планировать. Составлять план действий. Большое и сложное дело разбивать на ряд конкретных действи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Monotype Corsiva"/>
              </a:rPr>
              <a:t>Правило 6.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 малых лет приобщать к труду. Требовать выполнения домашних обязанностей, поручений. Можно наладить домашнее производство – обучение ремеслу, повышение самооценки, сближение членов семь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Monotype Corsiva"/>
              </a:rPr>
              <a:t>Правило 7.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учить общаться с другими детьми, людьми. Модель родительского поведени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Monotype Corsiva"/>
              </a:rPr>
              <a:t>Правило 8.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Формировать нравственные качества: доброту, порядочность, сочувствие, взаимопомощь, ответственност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04920" y="609480"/>
            <a:ext cx="853416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Что можно сделать для воспитания учебной самостоятельности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70c0"/>
                </a:solidFill>
                <a:uFillTx/>
                <a:latin typeface="Monotype Corsiva"/>
              </a:rPr>
              <a:t>Правило1.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степенно,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о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еуклонно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нимайте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ебя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аботу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тветственность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за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ебу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личные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ела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ашего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ебенка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ередавайте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х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му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70c0"/>
                </a:solidFill>
                <a:uFillTx/>
                <a:latin typeface="Monotype Corsiva"/>
              </a:rPr>
              <a:t>Правило</a:t>
            </a:r>
            <a:r>
              <a:rPr b="0" i="1" lang="en-US" sz="2400" spc="-1" strike="noStrike" u="sng">
                <a:solidFill>
                  <a:srgbClr val="0070c0"/>
                </a:solidFill>
                <a:uFillTx/>
                <a:latin typeface="Monotype Corsiva"/>
              </a:rPr>
              <a:t> </a:t>
            </a:r>
            <a:r>
              <a:rPr b="0" i="1" lang="ru-RU" sz="2400" spc="-1" strike="noStrike" u="sng">
                <a:solidFill>
                  <a:srgbClr val="0070c0"/>
                </a:solidFill>
                <a:uFillTx/>
                <a:latin typeface="Monotype Corsiva"/>
              </a:rPr>
              <a:t>2.</a:t>
            </a:r>
            <a:r>
              <a:rPr b="0" i="1" lang="en-US" sz="2400" spc="-1" strike="noStrike" u="sng">
                <a:solidFill>
                  <a:srgbClr val="0070c0"/>
                </a:solidFill>
                <a:uFillTx/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опробуйт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начала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омогать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ему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ровн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астолько,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аскольк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он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этом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действительн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уждается,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коем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луча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делайт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за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ребенка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то,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чт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он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может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ыполнить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а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70c0"/>
                </a:solidFill>
                <a:uFillTx/>
                <a:latin typeface="Monotype Corsiva"/>
              </a:rPr>
              <a:t>Правило3.</a:t>
            </a:r>
            <a:r>
              <a:rPr b="0" i="1" lang="en-US" sz="2400" spc="-1" strike="noStrike" u="sng">
                <a:solidFill>
                  <a:srgbClr val="0070c0"/>
                </a:solidFill>
                <a:uFillTx/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аберитесь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мужества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озвольт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воему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чаду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стретиться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егативным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оследствиям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есделанных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домашних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заданий,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чтобы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он научился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быть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амостоятельны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70c0"/>
                </a:solidFill>
                <a:uFillTx/>
                <a:latin typeface="Monotype Corsiva"/>
              </a:rPr>
              <a:t>Правило</a:t>
            </a:r>
            <a:r>
              <a:rPr b="0" i="1" lang="en-US" sz="2400" spc="-1" strike="noStrike" u="sng">
                <a:solidFill>
                  <a:srgbClr val="0070c0"/>
                </a:solidFill>
                <a:uFillTx/>
                <a:latin typeface="Monotype Corsiva"/>
              </a:rPr>
              <a:t> </a:t>
            </a:r>
            <a:r>
              <a:rPr b="0" i="1" lang="ru-RU" sz="2400" spc="-1" strike="noStrike" u="sng">
                <a:solidFill>
                  <a:srgbClr val="0070c0"/>
                </a:solidFill>
                <a:uFillTx/>
                <a:latin typeface="Monotype Corsiva"/>
              </a:rPr>
              <a:t>4.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ругайт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ег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за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то,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чт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он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росит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ас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омощи.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едь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есл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ы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что-т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делал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так,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теперь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оняли,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чт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ошибались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решил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змениться,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т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опять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ж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ребенок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иноват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должен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традать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з-за чужих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ромах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609480"/>
            <a:ext cx="853416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70c0"/>
                </a:solidFill>
                <a:uFillTx/>
                <a:latin typeface="Monotype Corsiva"/>
              </a:rPr>
              <a:t>Правило</a:t>
            </a:r>
            <a:r>
              <a:rPr b="0" i="1" lang="en-US" sz="2400" spc="-1" strike="noStrike" u="sng">
                <a:solidFill>
                  <a:srgbClr val="0070c0"/>
                </a:solidFill>
                <a:uFillTx/>
                <a:latin typeface="Monotype Corsiva"/>
              </a:rPr>
              <a:t> </a:t>
            </a:r>
            <a:r>
              <a:rPr b="0" i="1" lang="ru-RU" sz="2400" spc="-1" strike="noStrike" u="sng">
                <a:solidFill>
                  <a:srgbClr val="0070c0"/>
                </a:solidFill>
                <a:uFillTx/>
                <a:latin typeface="Monotype Corsiva"/>
              </a:rPr>
              <a:t>5.</a:t>
            </a:r>
            <a:r>
              <a:rPr b="0" lang="en-US" sz="2400" spc="-1" strike="noStrike" u="sng">
                <a:solidFill>
                  <a:srgbClr val="0070c0"/>
                </a:solidFill>
                <a:uFillTx/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мните: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сли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ебенок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амостоятелен,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н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амостоятелен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о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сём,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олько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исьменным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толо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7" descr="meeyow"/>
          <p:cNvPicPr/>
          <p:nvPr/>
        </p:nvPicPr>
        <p:blipFill>
          <a:blip r:embed="rId1"/>
          <a:stretch/>
        </p:blipFill>
        <p:spPr>
          <a:xfrm>
            <a:off x="1928880" y="1571760"/>
            <a:ext cx="4786200" cy="4803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609480"/>
            <a:ext cx="853416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Не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важно,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сколько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человек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поднял,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а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важно,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как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он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при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этом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напрягся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М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.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Цветаева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3" descr="kitty_guzzling_milk_hg_clr"/>
          <p:cNvPicPr/>
          <p:nvPr/>
        </p:nvPicPr>
        <p:blipFill>
          <a:blip r:embed="rId1"/>
          <a:stretch/>
        </p:blipFill>
        <p:spPr>
          <a:xfrm>
            <a:off x="357120" y="3357720"/>
            <a:ext cx="4572000" cy="3068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5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Arial"/>
              </a:rPr>
              <a:t>«Человек не может быть свободным, если он не самостоятелен»</a:t>
            </a: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c00000"/>
                </a:solidFill>
                <a:latin typeface="Arial"/>
              </a:rPr>
              <a:t>М.Монтессори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5303520"/>
            <a:ext cx="914400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6" descr="kitty_waging_tail_hg_clr"/>
          <p:cNvPicPr/>
          <p:nvPr/>
        </p:nvPicPr>
        <p:blipFill>
          <a:blip r:embed="rId1"/>
          <a:stretch/>
        </p:blipFill>
        <p:spPr>
          <a:xfrm>
            <a:off x="571680" y="2928960"/>
            <a:ext cx="3762360" cy="30733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856800"/>
            <a:ext cx="85345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6600"/>
                </a:solidFill>
                <a:latin typeface="Monotype Corsiva"/>
                <a:ea typeface="Arial"/>
              </a:rPr>
              <a:t>Как приучить ребенка к самостоятельности в приготовлении уроков?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9" name="Picture 84" descr="kitty_running_scared_hg_clr"/>
          <p:cNvPicPr/>
          <p:nvPr/>
        </p:nvPicPr>
        <p:blipFill>
          <a:blip r:embed="rId2"/>
          <a:stretch/>
        </p:blipFill>
        <p:spPr>
          <a:xfrm>
            <a:off x="5572080" y="3143160"/>
            <a:ext cx="3786120" cy="3441960"/>
          </a:xfrm>
          <a:prstGeom prst="rect">
            <a:avLst/>
          </a:prstGeom>
          <a:ln w="0">
            <a:noFill/>
          </a:ln>
        </p:spPr>
      </p:pic>
      <p:sp>
        <p:nvSpPr>
          <p:cNvPr id="90" name="TextBox 8"/>
          <p:cNvSpPr/>
          <p:nvPr/>
        </p:nvSpPr>
        <p:spPr>
          <a:xfrm>
            <a:off x="857160" y="1928880"/>
            <a:ext cx="807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очь ребёнку найти правильный режим рабо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делить место для занят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ить наилучший порядок приготовления уро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ть у него стойкую привычку садиться за уро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преки желанию поигр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Сформировать умение быстро включать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бо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2"/>
          <p:cNvSpPr/>
          <p:nvPr/>
        </p:nvSpPr>
        <p:spPr>
          <a:xfrm>
            <a:off x="357120" y="500040"/>
            <a:ext cx="8572680" cy="6000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84009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Если ребёнок не может усидеть за урокам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42960" y="2143080"/>
            <a:ext cx="804384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f8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80bf"/>
                </a:solidFill>
                <a:latin typeface="Arial"/>
              </a:rPr>
              <a:t>Иг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8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80bf"/>
                </a:solidFill>
                <a:latin typeface="Arial"/>
              </a:rPr>
              <a:t>Совместное дел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8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80bf"/>
                </a:solidFill>
                <a:latin typeface="Arial"/>
              </a:rPr>
              <a:t>Привычка переключаться с одного дела на друго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8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80bf"/>
                </a:solidFill>
                <a:latin typeface="Arial"/>
              </a:rPr>
              <a:t>Режим дн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8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80bf"/>
                </a:solidFill>
                <a:latin typeface="Arial"/>
              </a:rPr>
              <a:t>Постоянное рабочее мест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"/>
          <p:cNvSpPr/>
          <p:nvPr/>
        </p:nvSpPr>
        <p:spPr>
          <a:xfrm>
            <a:off x="285840" y="571680"/>
            <a:ext cx="85723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f3491"/>
                </a:solidFill>
                <a:uFillTx/>
                <a:latin typeface="Arial"/>
              </a:rPr>
              <a:t>Садимся за уроки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адитесь за уроки в одно и тоже врем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роветрить комнату за 10 минут до начала заняти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ыключить радио, телевизор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роверить на своем ли месте стоит настольная ламп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роверить все ли задания записаны в дневнике, сверить расписани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Убрать все лишнее со стола, чтобы ничего не отвлекало внимани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риготовить письменные принадлежности, дневник, тетради, учебник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ришло время начинать работу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4" descr="kitty_running_scared_hg_clr"/>
          <p:cNvPicPr/>
          <p:nvPr/>
        </p:nvPicPr>
        <p:blipFill>
          <a:blip r:embed="rId1"/>
          <a:stretch/>
        </p:blipFill>
        <p:spPr>
          <a:xfrm>
            <a:off x="6429240" y="4208400"/>
            <a:ext cx="2548080" cy="23162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4"/>
          <p:cNvSpPr/>
          <p:nvPr/>
        </p:nvSpPr>
        <p:spPr>
          <a:xfrm>
            <a:off x="357120" y="571680"/>
            <a:ext cx="8501040" cy="607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Решения, которые принимают родители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56760" y="609480"/>
            <a:ext cx="84819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f349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3491"/>
                </a:solidFill>
                <a:latin typeface="Monotype Corsiva"/>
              </a:rPr>
              <a:t>Пытаются ввести строгую дисциплину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f349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3491"/>
                </a:solidFill>
                <a:latin typeface="Monotype Corsiva"/>
              </a:rPr>
              <a:t>Договариваются с ребёнком о разного рода поощрениях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f349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3491"/>
                </a:solidFill>
                <a:latin typeface="Monotype Corsiva"/>
              </a:rPr>
              <a:t>Читают нравоучения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f349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3491"/>
                </a:solidFill>
                <a:latin typeface="Monotype Corsiva"/>
              </a:rPr>
              <a:t>Начинают осуществлять строгий контроль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f349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3491"/>
                </a:solidFill>
                <a:latin typeface="Monotype Corsiva"/>
              </a:rPr>
              <a:t>Устраивают беседы «по душам»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f349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3491"/>
                </a:solidFill>
                <a:latin typeface="Monotype Corsiva"/>
              </a:rPr>
              <a:t>Посещают психологическую консультацию с ребенком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f349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3491"/>
                </a:solidFill>
                <a:latin typeface="Monotype Corsiva"/>
              </a:rPr>
              <a:t>Обращаются за помощью к учителю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f349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3491"/>
                </a:solidFill>
                <a:latin typeface="Monotype Corsiva"/>
              </a:rPr>
              <a:t>Ведут вместе с ребенком дневник его успехов и неудач, поощряют  успехи, анализируют неудач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419076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«Ты-высказывания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62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62699"/>
                </a:solidFill>
                <a:latin typeface="Arial"/>
                <a:ea typeface="Arial"/>
              </a:rPr>
              <a:t>Ты опять не прибрал(а) в своей комнат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Как ты посмел уйти в гости без моего разрешени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7960" y="609480"/>
            <a:ext cx="419076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«Я-высказывания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62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62699"/>
                </a:solidFill>
                <a:latin typeface="Arial"/>
                <a:ea typeface="Arial"/>
              </a:rPr>
              <a:t>Я думала, мы с тобой договорились, что уборку в комнате нужно делать ежедневн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Когда ты принимаешь такие решения, не обсудив их со мной, мне бывает обидно. В следующий раз не забудь посоветоваться со мно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2" descr="kitty_dodging_shoes_hg_clr"/>
          <p:cNvPicPr/>
          <p:nvPr/>
        </p:nvPicPr>
        <p:blipFill>
          <a:blip r:embed="rId1"/>
          <a:stretch/>
        </p:blipFill>
        <p:spPr>
          <a:xfrm>
            <a:off x="1000080" y="4500720"/>
            <a:ext cx="2071800" cy="207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5" descr="kitty_singing_on_fence_hg_clr"/>
          <p:cNvPicPr/>
          <p:nvPr/>
        </p:nvPicPr>
        <p:blipFill>
          <a:blip r:embed="rId2"/>
          <a:stretch/>
        </p:blipFill>
        <p:spPr>
          <a:xfrm>
            <a:off x="6858000" y="4643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480" y="571680"/>
            <a:ext cx="855324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1) </a:t>
            </a:r>
            <a:r>
              <a:rPr b="1" i="1" lang="ru-RU" sz="2400" spc="-1" strike="noStrike">
                <a:solidFill>
                  <a:srgbClr val="0d2e7f"/>
                </a:solidFill>
                <a:latin typeface="Monotype Corsiva"/>
              </a:rPr>
              <a:t>Приучайте ребенка к самостоятельности в выполнении домашних обязанностей.</a:t>
            </a: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2)</a:t>
            </a:r>
            <a:r>
              <a:rPr b="1" lang="en-US" sz="24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Предоставьте ребенку возможность самому себя обслуживать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3)Как можно чаще привлекайте ребенка к обсуждению общих планов, выслушивайте и принимайте во внимание его мн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4)Не «стойте над душой» у сына или дочки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5)Поощряйте вопросы с его стороны, но не «разжевывайте» ему задания- он должен сам научится их понимать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6)Преодолеть отвлекаемость поможет составление расписания и развитие у ребенка чувства времени. 6)Преодолеть отвлекаемость поможет составление расписания и развитие у ребенка чувства времен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7)Если ребенку важно посмотреть какую-либо передачу или сходить погулять, постарайтесь вместе рассчитать время так, чтобы все успеть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85480" y="642960"/>
            <a:ext cx="855324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8)Определите индивидуальные особенности ребенка, понаблюдав за стилем его рабо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9) Собирать портфель с первого класса ребенок должен сам. Собирать портфель в 4-ом классе- это унижение для него, и для вас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10)Если вы говорите, что что-то сделаете, то сделайте это непременно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0" descr="crazy_dog_chasing_kitty_hg_clr"/>
          <p:cNvPicPr/>
          <p:nvPr/>
        </p:nvPicPr>
        <p:blipFill>
          <a:blip r:embed="rId1"/>
          <a:stretch/>
        </p:blipFill>
        <p:spPr>
          <a:xfrm>
            <a:off x="2928960" y="2714760"/>
            <a:ext cx="3143160" cy="34574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07:58:18Z</dcterms:created>
  <dc:creator>maniak79</dc:creator>
  <dc:description/>
  <dc:language>en-US</dc:language>
  <cp:lastModifiedBy>КомпStar</cp:lastModifiedBy>
  <dcterms:modified xsi:type="dcterms:W3CDTF">2001-12-31T21:05:09Z</dcterms:modified>
  <cp:revision>33</cp:revision>
  <dc:subject/>
  <dc:title>Презентация PowerPoint</dc:title>
</cp:coreProperties>
</file>