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E80-9B75-40BB-A9CE-608C9819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67A-1829-47F1-BC34-9B6ACDEA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EF3-FA06-4A81-A9AB-2E614C31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D5E-7841-4F44-821D-081A1F63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021-814C-4133-A997-C13F6F6C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B99-384E-451D-99F0-CB9C07BC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49C-570F-445B-B9DA-6A0DE972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FF3-0E21-406B-B900-237F664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208-0188-45D9-A32E-2F8AFCA5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190-7667-4EBE-B344-78622C9B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DE0-962C-4CFD-9391-50E51ED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C61-BAD8-416A-8B86-7F506809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F9FA-BC85-4965-892D-C8CC660D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Сколько стран входит в Королевство Великобритан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72360" y="92160"/>
            <a:ext cx="79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ookman Old Style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0" y="1557360"/>
            <a:ext cx="81302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2. Кто является официаль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главой Америк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3141000"/>
            <a:ext cx="28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Презид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083480"/>
            <a:ext cx="53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3. Назовите точную дату, к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весь мир отмечает День Святого Валент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51235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14 февр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09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6. Именем этой женщины был назван первый музей восковых фигу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325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4. Традиционный английский напито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94320" y="972360"/>
            <a:ext cx="112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6960" y="2059560"/>
            <a:ext cx="553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. Английский фун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это сколько пен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6120" y="2567880"/>
            <a:ext cx="880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15720" y="58428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Мадам Тюс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4911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7. Официальный язык в Великобрит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66800" y="134064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англи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8120" y="2132640"/>
            <a:ext cx="65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8. В како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было открыто первое метро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34560" y="3140640"/>
            <a:ext cx="24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в Лондон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4004280"/>
            <a:ext cx="62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9. Назовите знамени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еки Америки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508464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Амазонка, Миссисип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549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0.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o was Madam Taus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7320" y="1341360"/>
            <a:ext cx="82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основатель музея восковых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3880" y="2322360"/>
            <a:ext cx="79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ere is the Trafalgar Squa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3480" y="306864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In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18480" y="3716280"/>
            <a:ext cx="55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2. What is the n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of your teacher of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9760" y="5229360"/>
            <a:ext cx="45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ksana Vladimiro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55:09Z</dcterms:created>
  <dc:creator>Дом</dc:creator>
  <dc:description/>
  <dc:language>en-US</dc:language>
  <cp:lastModifiedBy>Пользователь</cp:lastModifiedBy>
  <dcterms:modified xsi:type="dcterms:W3CDTF">2011-11-13T07:26:49Z</dcterms:modified>
  <cp:revision>5</cp:revision>
  <dc:subject/>
  <dc:title>Слайд 1</dc:title>
</cp:coreProperties>
</file>