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926-03F3-454C-B227-91B90738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D376-4F98-4B4E-9724-761C4322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829F-9E3F-4E18-8D7D-89B2E4DD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24EB-4F70-4AEA-92DB-0B0D7FB8A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01EF-8F4F-4016-A7ED-E296C9A2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477F-BA08-4DB7-B12B-F36182BC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D4D4-7F9F-43ED-8497-D737681B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959B-77DC-4D51-8083-E0CCBC18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B151-DD35-460F-BDBC-31182F31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EC1A-885D-4B8E-B9BD-26BD16E1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1973-6515-48FB-96BE-622AD125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BA1-5796-4831-8C3D-3FAD706C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875F0-2FA0-4DB8-BAC4-0528A07B8B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713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Сколько стран входит в Королевство Великобритани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172360" y="92160"/>
            <a:ext cx="79236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Bookman Old Style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40" y="1557360"/>
            <a:ext cx="813024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2. Кто является официально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главой Америки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3141000"/>
            <a:ext cx="287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Президе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9280" y="4083480"/>
            <a:ext cx="532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3. Назовите точную дату, ког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весь мир отмечает День Святого Валент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796000" y="512352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14 февра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25092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6. Именем этой женщины был назван первый музей восковых фигур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325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4. Традиционный английский напиток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94320" y="972360"/>
            <a:ext cx="112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Bookman Old Style"/>
              </a:rPr>
              <a:t>Ча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86960" y="2059560"/>
            <a:ext cx="553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5. Английский фунт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это сколько пенсов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36120" y="2567880"/>
            <a:ext cx="8802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15720" y="5842800"/>
            <a:ext cx="303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Bookman Old Style"/>
              </a:rPr>
              <a:t>Мадам Тюс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64911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7. Официальный язык в Великобрита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66800" y="1340640"/>
            <a:ext cx="278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англий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38120" y="2132640"/>
            <a:ext cx="65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8. В каком город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было открыто первое метро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334560" y="3140640"/>
            <a:ext cx="246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в Лондон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5760" y="4004280"/>
            <a:ext cx="627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9. Назовите знамениты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реки Америки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211640" y="5084640"/>
            <a:ext cx="446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Амазонка, Миссисипи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ff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826920" y="549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10.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Who was Madam Tausad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57320" y="1341360"/>
            <a:ext cx="828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основатель музея восковых фигу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3880" y="2322360"/>
            <a:ext cx="790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11. 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Where is the Trafalgar Squa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83480" y="3068640"/>
            <a:ext cx="223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In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18480" y="3716280"/>
            <a:ext cx="557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12. What is the na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of your teacher of Englis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9760" y="5229360"/>
            <a:ext cx="454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Bookman Old Style"/>
              </a:rPr>
              <a:t>Oksana Vladimirov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18:55:09Z</dcterms:created>
  <dc:creator>Дом</dc:creator>
  <dc:description/>
  <dc:language>en-US</dc:language>
  <cp:lastModifiedBy>Пользователь</cp:lastModifiedBy>
  <dcterms:modified xsi:type="dcterms:W3CDTF">2011-11-13T07:26:49Z</dcterms:modified>
  <cp:revision>5</cp:revision>
  <dc:subject/>
  <dc:title>Слайд 1</dc:title>
</cp:coreProperties>
</file>