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2A2E-C05D-4BB7-B3AE-F41EEAFBA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29A4-55E9-4073-8757-2B95D018F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53A2-641B-4C36-AB58-02EBCDE15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356F-9555-4E04-87D8-4D7BC8AE8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DF9F-F8E4-469D-8521-1BB390CCE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97FC-D7C2-401B-AC8A-B998349FD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9BBE-5C59-441D-BFC1-1DD8DB51D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9F24-4F15-46A6-8A7C-3EED346C7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C040-476A-4188-B316-976528260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7DA2-8451-4B10-821E-16DB816EF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58C7-22DF-4DFA-81AC-6C47D3D70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F687-55D6-4079-81F4-FA101FB5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D8A86-FBC9-43EF-83C4-E08D376F7C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250560" y="404280"/>
            <a:ext cx="87138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Сколько стран входит в Королевство Великобритани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172360" y="92160"/>
            <a:ext cx="79236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Bookman Old Style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240" y="1557360"/>
            <a:ext cx="813024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2. Кто является официально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главой Америки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16360" y="3141000"/>
            <a:ext cx="287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ookman Old Style"/>
              </a:rPr>
              <a:t>Президен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9280" y="4083480"/>
            <a:ext cx="5329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3. Назовите точную дату, ког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весь мир отмечает День Святого Валент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6000" y="512352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14 февра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25092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6. Именем этой женщины был назван первый музей восковых фигур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0920" y="23256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4. Традиционный английский напиток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94320" y="972360"/>
            <a:ext cx="1122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ookman Old Style"/>
              </a:rPr>
              <a:t>Ча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86960" y="2059560"/>
            <a:ext cx="553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5. Английский фунт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это сколько пенс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936120" y="2567880"/>
            <a:ext cx="88020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15720" y="5842800"/>
            <a:ext cx="303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Bookman Old Style"/>
              </a:rPr>
              <a:t>Мадам Тюсс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64911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7. Официальный язык в Великобритани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66800" y="1340640"/>
            <a:ext cx="278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англий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38120" y="2132640"/>
            <a:ext cx="650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8. В каком город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было открыто первое метро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334560" y="3140640"/>
            <a:ext cx="246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в Лондон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5760" y="4004280"/>
            <a:ext cx="6278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9. Назовите знаменит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реки Америки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211640" y="5084640"/>
            <a:ext cx="446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Амазонка, Миссисип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826920" y="54936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10. 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Who was Madam Tausad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7320" y="1341360"/>
            <a:ext cx="828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основатель музея восковых фигу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3880" y="2322360"/>
            <a:ext cx="790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11. 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Where is the Trafalgar Squar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83480" y="3068640"/>
            <a:ext cx="223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In Lond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18480" y="3716280"/>
            <a:ext cx="5578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12. What is the na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of your teacher of Englis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29760" y="5229360"/>
            <a:ext cx="454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Oksana Vladimirov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0T18:55:09Z</dcterms:created>
  <dc:creator>Дом</dc:creator>
  <dc:description/>
  <dc:language>en-US</dc:language>
  <cp:lastModifiedBy>Пользователь</cp:lastModifiedBy>
  <dcterms:modified xsi:type="dcterms:W3CDTF">2011-11-13T07:26:49Z</dcterms:modified>
  <cp:revision>5</cp:revision>
  <dc:subject/>
  <dc:title>Слайд 1</dc:title>
</cp:coreProperties>
</file>