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8F9-CB40-415C-9DCA-B2FB83C6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303-B3CB-49B1-8964-471A40B9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FCB-87E9-4945-8E56-22304D2F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CE1-0887-445D-8CBC-E378DC5E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C1E-7FDA-4155-9620-40412078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3B7-4F5F-4222-AB06-1A167BCF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E5E-FB36-4377-840F-1DB42A0A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AA1-C583-4435-8FF4-E967D9F5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EC6-C724-4F0B-87BE-51C407EA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411-C34F-4E2B-9A1A-3558DAA6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86F-D3EF-4175-9A04-90DB45F1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FCA-5443-4E85-B60C-132724B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413-0FD6-4F0D-BDB3-4818C82BB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520" y="475200"/>
            <a:ext cx="59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Какой крупный гор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расположен на берег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реки Темз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04200" y="98028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9360" y="2348640"/>
            <a:ext cx="837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2. Выделите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ишнее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лово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цепи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ashington, London, Canad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74400" y="347508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320" y="3835440"/>
            <a:ext cx="62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3. В како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находится Статуя Свобо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15680" y="530064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в Нью-Йор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160" y="620640"/>
            <a:ext cx="587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4. Сколько ж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проживает в Лондо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82400" y="6206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8 милли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4400" y="2565360"/>
            <a:ext cx="85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. Самые большие часы в Лондон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57880" y="3213000"/>
            <a:ext cx="18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Биг Б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365720"/>
            <a:ext cx="61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6. Кто изобрел телеф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65920" y="44362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Бе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4160" y="548280"/>
            <a:ext cx="60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7. Кто такой Д. Вашингто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5880" y="1341360"/>
            <a:ext cx="38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1 президент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6760" y="1987920"/>
            <a:ext cx="67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8. Назовите самую известну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английскую групп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В переводе на рус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язык это «жук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08040" y="3429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Биттл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7520" y="405144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9. Что в переводе на русский  язы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бозначает слово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“sneaker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2600" y="544500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Кросс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04280" y="476280"/>
            <a:ext cx="66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0.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at is the capital of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6400" y="2276640"/>
            <a:ext cx="71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What is the capital of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1040" y="4149720"/>
            <a:ext cx="67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at is your director’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72280" y="112536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200" y="3141720"/>
            <a:ext cx="26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7360" y="522936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Natalie Nikolae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20:01:49Z</dcterms:created>
  <dc:creator>Дом</dc:creator>
  <dc:description/>
  <dc:language>en-US</dc:language>
  <cp:lastModifiedBy>Дом</cp:lastModifiedBy>
  <dcterms:modified xsi:type="dcterms:W3CDTF">2010-01-30T20:25:16Z</dcterms:modified>
  <cp:revision>2</cp:revision>
  <dc:subject/>
  <dc:title>Слайд 1</dc:title>
</cp:coreProperties>
</file>