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3B19-A907-4DEB-B056-E89F82A44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A18-22F7-42C7-B19C-379AC7F6B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FFDD-0340-4C7F-A888-E30193C1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F72E-4BCE-4B1F-B0C8-C8C785BE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D24E-8ECB-4205-87E1-2B27B368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CA68-F875-4472-9D14-390999EB5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DEE-3E7B-4159-B4F2-537CC57D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CDEA-B78A-4B1A-B886-F708ECFE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20C2-C2E2-440E-9450-18F1C171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2CE4-4E86-45FC-9449-B5454CF1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0E36-CC2D-4A57-A06E-D7E681EC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B20-1B2B-4C94-8259-585E66BD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FA35-3C92-46B1-877E-485EAC53F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520" y="475200"/>
            <a:ext cx="59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Какой крупный горо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расположен на берег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реки Темз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604200" y="980280"/>
            <a:ext cx="17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Лондо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9360" y="2348640"/>
            <a:ext cx="8378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2. Выделите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лишнее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слово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в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цепи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ashington, London, Canada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674400" y="3475080"/>
            <a:ext cx="17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0320" y="3835440"/>
            <a:ext cx="624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3. В каком го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находится Статуя Свободы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15680" y="530064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в Нью-Йор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82160" y="620640"/>
            <a:ext cx="587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4. Сколько жите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проживает в Лондон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82400" y="620640"/>
            <a:ext cx="30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Бол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8 милли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4400" y="2565360"/>
            <a:ext cx="85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5. Самые большие часы в Лондоне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57880" y="3213000"/>
            <a:ext cx="180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Биг Б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4365720"/>
            <a:ext cx="618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6. Кто изобрел телефон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65920" y="4436280"/>
            <a:ext cx="12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Бел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24160" y="548280"/>
            <a:ext cx="606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7. Кто такой Д. Вашингтон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15880" y="1341360"/>
            <a:ext cx="389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1 президент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6760" y="1987920"/>
            <a:ext cx="6796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8. Назовите самую известную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английскую групп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В переводе на рус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язык это «жуки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08040" y="3429000"/>
            <a:ext cx="167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Биттл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7520" y="4051440"/>
            <a:ext cx="774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9. Что в переводе на русский  язы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обозначает слово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“sneakers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422600" y="5445000"/>
            <a:ext cx="24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Кроссо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304280" y="476280"/>
            <a:ext cx="667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0.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hat is the capital of Russ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6400" y="2276640"/>
            <a:ext cx="71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 What is the capital of Americ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51040" y="4149720"/>
            <a:ext cx="67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hat is your director’s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72280" y="1125360"/>
            <a:ext cx="18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Mos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200" y="3141720"/>
            <a:ext cx="263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Washing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67360" y="5229360"/>
            <a:ext cx="40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Bookman Old Style"/>
              </a:rPr>
              <a:t>Natalie Nikolaev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20:01:49Z</dcterms:created>
  <dc:creator>Дом</dc:creator>
  <dc:description/>
  <dc:language>en-US</dc:language>
  <cp:lastModifiedBy>Дом</cp:lastModifiedBy>
  <dcterms:modified xsi:type="dcterms:W3CDTF">2010-01-30T20:25:16Z</dcterms:modified>
  <cp:revision>2</cp:revision>
  <dc:subject/>
  <dc:title>Слайд 1</dc:title>
</cp:coreProperties>
</file>