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770B-B9AF-40A1-8910-6E14511F2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B406-75A6-480B-B3C5-1A5C07DE7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596E-2F90-474E-B117-5D9B3AC35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4D1D-AAF8-4F4B-8CAB-8DC6BCE05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175F-5FE9-4475-80F8-C6C098B76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7682-ABA1-406F-AA6D-F3086F62A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E74B-9ACE-444E-AC6D-0A0C017F9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5813-C365-4429-939A-2A9D75920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20F5-77B2-4D88-BA71-F7836C65F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2348-B289-40F3-ACAB-40C92587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DE39-DB3F-4C12-A088-D742EE02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A666-F6CC-4731-AAC5-042250EC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A503D-A373-4748-B401-ECBBCC0B8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5520" y="475200"/>
            <a:ext cx="59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Какой крупный горо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расположен на берега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реки Темзы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604200" y="980280"/>
            <a:ext cx="17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ookman Old Style"/>
              </a:rPr>
              <a:t>Лонд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9360" y="2348640"/>
            <a:ext cx="8378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2. Выделите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лишнее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слово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в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цепи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Washington, London, Canada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674400" y="347508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ookman Old Style"/>
              </a:rPr>
              <a:t>Can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80320" y="3835440"/>
            <a:ext cx="624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3. В каком город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находится Статуя Свободы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215680" y="5300640"/>
            <a:ext cx="299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ookman Old Style"/>
              </a:rPr>
              <a:t>в Нью-Йорк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82160" y="620640"/>
            <a:ext cx="587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4. Сколько жител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проживает в Лондон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82400" y="620640"/>
            <a:ext cx="300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ookman Old Style"/>
              </a:rPr>
              <a:t>Боле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ookman Old Style"/>
              </a:rPr>
              <a:t>8 миллио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4400" y="2565360"/>
            <a:ext cx="85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5. Самые большие часы в Лондоне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57880" y="3213000"/>
            <a:ext cx="180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Bookman Old Style"/>
              </a:rPr>
              <a:t>Биг Б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4365720"/>
            <a:ext cx="618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6. Кто изобрел телефон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65920" y="4436280"/>
            <a:ext cx="12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ookman Old Style"/>
              </a:rPr>
              <a:t>Бел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24160" y="548280"/>
            <a:ext cx="606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7. Кто такой Д. Вашингтон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15880" y="1341360"/>
            <a:ext cx="389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ookman Old Style"/>
              </a:rPr>
              <a:t>1 президент С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26760" y="1987920"/>
            <a:ext cx="6796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8. Назовите самую известную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английскую групп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В переводе на русск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язык это «жуки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08040" y="3429000"/>
            <a:ext cx="167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ookman Old Style"/>
              </a:rPr>
              <a:t>Биттл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7520" y="4051440"/>
            <a:ext cx="774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9. Что в переводе на русский  язы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обозначает слово 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“sneakers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422600" y="5445000"/>
            <a:ext cx="24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ookman Old Style"/>
              </a:rPr>
              <a:t>Кроссо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304280" y="476280"/>
            <a:ext cx="667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10.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What is the capital of Russ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6400" y="2276640"/>
            <a:ext cx="71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 What is the capital of Americ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51040" y="4149720"/>
            <a:ext cx="679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What is your director’s na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572280" y="1125360"/>
            <a:ext cx="182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ookman Old Style"/>
              </a:rPr>
              <a:t>Mosc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200" y="3141720"/>
            <a:ext cx="263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ookman Old Style"/>
              </a:rPr>
              <a:t>Washing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67360" y="5229360"/>
            <a:ext cx="408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ookman Old Style"/>
              </a:rPr>
              <a:t>Natalie Nikolaev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0T20:01:49Z</dcterms:created>
  <dc:creator>Дом</dc:creator>
  <dc:description/>
  <dc:language>en-US</dc:language>
  <cp:lastModifiedBy>Дом</cp:lastModifiedBy>
  <dcterms:modified xsi:type="dcterms:W3CDTF">2010-01-30T20:25:16Z</dcterms:modified>
  <cp:revision>2</cp:revision>
  <dc:subject/>
  <dc:title>Слайд 1</dc:title>
</cp:coreProperties>
</file>