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1DA5-B2D3-4321-B607-140121E36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C5F9-3510-4CFF-AEEC-EE828E04F4A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CB78-3D44-4419-A471-2D621547217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C2CB-D623-4F9A-9E7F-9F4B6A7637CB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991080" y="2590920"/>
            <a:ext cx="9525240" cy="320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Microsoft Sans Serif"/>
              </a:rPr>
              <a:t>            </a:t>
            </a:r>
            <a:r>
              <a:rPr b="1" lang="ru-RU" sz="4100" spc="-1" strike="noStrike">
                <a:solidFill>
                  <a:srgbClr val="002060"/>
                </a:solidFill>
                <a:latin typeface="Microsoft Sans Serif"/>
              </a:rPr>
              <a:t>Универсальные приемы ТРИЗ:               неожиданное рядом</a:t>
            </a:r>
            <a:br>
              <a:rPr sz="4100"/>
            </a:br>
            <a:br>
              <a:rPr sz="4100"/>
            </a:br>
            <a:br>
              <a:rPr sz="4100"/>
            </a:br>
            <a:r>
              <a:rPr b="0" lang="ru-RU" sz="4100" spc="-1" strike="noStrike">
                <a:solidFill>
                  <a:srgbClr val="ffffff"/>
                </a:solidFill>
                <a:latin typeface="Microsoft Sans Serif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Microsoft Sans Serif"/>
              </a:rPr>
              <a:t>Усова Наталья Борисовна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6019560"/>
            <a:ext cx="4800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/>
            </a:outerShdw>
          </a:effectLst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icrosoft Sans Serif"/>
              </a:rPr>
              <a:t>МАДОУ    «Русалочка»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6094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31059"/>
                </a:solidFill>
                <a:latin typeface="PT Astra Serif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831059"/>
                </a:solidFill>
                <a:latin typeface="PT Astra Serif"/>
                <a:ea typeface="Times New Roman"/>
              </a:rPr>
              <a:t>VI</a:t>
            </a:r>
            <a:r>
              <a:rPr b="1" lang="ru-RU" sz="4400" spc="-1" strike="noStrike">
                <a:solidFill>
                  <a:srgbClr val="831059"/>
                </a:solidFill>
                <a:latin typeface="PT Astra Serif"/>
                <a:ea typeface="Times New Roman"/>
              </a:rPr>
              <a:t> Игра «Что будет если…?»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Является логическим продолжением игры «Хорошо –плохо». Игра помогает детям легко и непринужденно понять законы диалектики; все в мире изменяется; все явления в мире взаимосвязаны; любой процесс в природе имеет тот или иной конец.  Предложите ребенку ситуацию: «А что будет если поставить молоко на плиту?». Попросите ребенка рассказать, что будет дальше,  дальше еще…… чем все закончится?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 А что, если надувать воздушный шарик очень долго?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А что, если съесть вагон мороженного?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А что, если положить семечко во влажную почву?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T Astra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2209680" y="5318280"/>
            <a:ext cx="46483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160" y="22860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31059"/>
                </a:solidFill>
                <a:latin typeface="Microsoft Sans Serif"/>
              </a:rPr>
              <a:t>V Игра  «Бесконечное предложение»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Развивает воображение, развивает навыки речемышления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Нужно  придумать предложение, в котором каждое следующее слово будет начинаться на последнюю букву предыдущего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Например: 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- «ДетИ ИгралИ и ИзображалИ ИндюкоВ,ВороН, НосорогоВ»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ru-RU" sz="2800" spc="-1" strike="noStrike">
                <a:solidFill>
                  <a:srgbClr val="4d4d4d"/>
                </a:solidFill>
                <a:latin typeface="Microsoft Sans Serif"/>
              </a:rPr>
              <a:t>-«АрбуЗ ЗвучаЛ,ЛомалсЯ ЯркимИ ИскрамИ…»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14400" y="19047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Если ты хочешь идти на работу, как на праздник  – займись ТРИзом!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1676520" y="3352680"/>
            <a:ext cx="5410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2666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Каждый ребёнок изначально талантлив</a:t>
            </a:r>
            <a:br>
              <a:rPr sz="3200"/>
            </a:b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и даже гениален, но его надо научить ориентироваться</a:t>
            </a:r>
            <a:br>
              <a:rPr sz="3200"/>
            </a:b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в современном мире, чтобы при минимуме</a:t>
            </a:r>
            <a:br>
              <a:rPr sz="3200"/>
            </a:br>
            <a:r>
              <a:rPr b="1" lang="ru-RU" sz="3200" spc="-1" strike="noStrike">
                <a:solidFill>
                  <a:srgbClr val="4d4d4d"/>
                </a:solidFill>
                <a:latin typeface="Microsoft Sans Serif"/>
              </a:rPr>
              <a:t>затрат достичь максимума эффекта.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Г. С. Альтшуллер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  <a:ea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      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Одна из первостепенных задач воспитания и обучения в дошкольных учреждениях, согласно вступившему в силу ФГОС – воспитание нового поколения детей, обладающих высоким творческим потенциалом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20937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722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52120" y="304920"/>
            <a:ext cx="7162920" cy="61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Ум ребенка не очерчен «глубоким образом жизни» и традиционными представлениями о том, как все должно быть. 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Это позволяет им изобретать, быть непосредственными и непредсказуемыми, замечать то, на что взрослые давно не обращают внимание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2"/>
          <a:stretch/>
        </p:blipFill>
        <p:spPr>
          <a:xfrm>
            <a:off x="6172200" y="4800600"/>
            <a:ext cx="255096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52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     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Одной из эффективных педагогических технологий является ТРИЗ – теория решения изобретательских задач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      </a:t>
            </a: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ТРИЗ представляет собой уникальный инструмент для поиска оригинальных идей, развития творческой личности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6164280" y="4876920"/>
            <a:ext cx="233676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599680" cy="46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d4d4d"/>
                </a:solidFill>
                <a:latin typeface="Microsoft Sans Serif"/>
              </a:rPr>
              <a:t> </a:t>
            </a:r>
            <a:br>
              <a:rPr sz="4400"/>
            </a:b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                      </a:t>
            </a:r>
            <a:r>
              <a:rPr b="1" lang="en-US" sz="4400" spc="-1" strike="noStrike">
                <a:solidFill>
                  <a:srgbClr val="831059"/>
                </a:solidFill>
                <a:latin typeface="Microsoft Sans Serif"/>
              </a:rPr>
              <a:t>I</a:t>
            </a:r>
            <a:r>
              <a:rPr b="1" lang="ru-RU" sz="4400" spc="-1" strike="noStrike">
                <a:solidFill>
                  <a:srgbClr val="831059"/>
                </a:solidFill>
                <a:latin typeface="Microsoft Sans Serif"/>
              </a:rPr>
              <a:t> игра «Это не…»</a:t>
            </a:r>
            <a:br>
              <a:rPr sz="2400"/>
            </a:b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Развивает образное мышление (очень актуально для детей  с левым ведущим полушарием),вариативность мышления.</a:t>
            </a:r>
            <a:br>
              <a:rPr sz="2400"/>
            </a:br>
            <a:r>
              <a:rPr b="1" lang="ru-RU" sz="2400" spc="-1" strike="noStrike">
                <a:solidFill>
                  <a:srgbClr val="831059"/>
                </a:solidFill>
                <a:latin typeface="Microsoft Sans Serif"/>
              </a:rPr>
              <a:t>1 этап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–задается простой образ (круг, овал и т.д.). Нужно дорисовать до узнаваемого образа.</a:t>
            </a:r>
            <a:br>
              <a:rPr sz="2400"/>
            </a:br>
            <a:r>
              <a:rPr b="1" lang="ru-RU" sz="2400" spc="-1" strike="noStrike">
                <a:solidFill>
                  <a:srgbClr val="831059"/>
                </a:solidFill>
                <a:latin typeface="Microsoft Sans Serif"/>
              </a:rPr>
              <a:t>2 этап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– задается образ явно напоминающий кого то, чего то (голова зайчика, груша). Нужно дорисовать, но не зайчика, не грушу.</a:t>
            </a:r>
            <a:br>
              <a:rPr sz="2400"/>
            </a:br>
            <a:r>
              <a:rPr b="1" lang="ru-RU" sz="2400" spc="-1" strike="noStrike">
                <a:solidFill>
                  <a:srgbClr val="831059"/>
                </a:solidFill>
                <a:latin typeface="Microsoft Sans Serif"/>
              </a:rPr>
              <a:t>3 этап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– (группа из 3-4 человек) задается образ (круг)</a:t>
            </a:r>
            <a:br>
              <a:rPr sz="2400"/>
            </a:br>
            <a:r>
              <a:rPr b="1" lang="ru-RU" sz="2400" spc="-1" strike="noStrike">
                <a:solidFill>
                  <a:srgbClr val="214ddb"/>
                </a:solidFill>
                <a:latin typeface="Microsoft Sans Serif"/>
              </a:rPr>
              <a:t>1 игрок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– «Это не круг» и дорисовывает до понятного другого образа (букашка)</a:t>
            </a:r>
            <a:br>
              <a:rPr sz="2400"/>
            </a:br>
            <a:r>
              <a:rPr b="1" lang="ru-RU" sz="2400" spc="-1" strike="noStrike">
                <a:solidFill>
                  <a:srgbClr val="214ddb"/>
                </a:solidFill>
                <a:latin typeface="Microsoft Sans Serif"/>
              </a:rPr>
              <a:t>2 игрок </a:t>
            </a: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– «Это не букашка, это..» дорисовывает дальше и т.д.</a:t>
            </a:r>
            <a:br>
              <a:rPr sz="2400"/>
            </a:b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6680" y="29714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520" y="60948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31059"/>
                </a:solidFill>
                <a:latin typeface="PT Astra Serif"/>
                <a:ea typeface="Times New Roman"/>
              </a:rPr>
              <a:t>II </a:t>
            </a:r>
            <a:r>
              <a:rPr b="1" lang="ru-RU" sz="4400" spc="-1" strike="noStrike">
                <a:solidFill>
                  <a:srgbClr val="831059"/>
                </a:solidFill>
                <a:latin typeface="PT Astra Serif"/>
                <a:ea typeface="Times New Roman"/>
              </a:rPr>
              <a:t> игра «Робот»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Развивает ориентацию в пространстве,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математический счет, устную или письменную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инструкцию, чувство эмпатии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На планету «Шелезяка» срочно нужно доставить груз, но пустят на планету только робота. Обсудить как движется робот? Почему? Для чего роботы нужны и когда?(любой другой вариант)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По устной инструкции, либо по заданной программе (табличка с ходами) робот выполняет задание, доставляет груз:4 шага прямо,6 шагов налево и т.д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T Astra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6848640" y="914400"/>
            <a:ext cx="19904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31059"/>
                </a:solidFill>
                <a:latin typeface="PT Astra Serif"/>
                <a:ea typeface="Times New Roman"/>
              </a:rPr>
              <a:t>III </a:t>
            </a:r>
            <a:r>
              <a:rPr b="1" lang="ru-RU" sz="4400" spc="-1" strike="noStrike">
                <a:solidFill>
                  <a:srgbClr val="831059"/>
                </a:solidFill>
                <a:latin typeface="PT Astra Serif"/>
                <a:ea typeface="Times New Roman"/>
              </a:rPr>
              <a:t>игра «Хорошо – плохо» 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Развивает понимание противоречий в окружающем мире, является основой диалектического мышления. Доступна для детей с 3 лет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48bc"/>
                </a:solidFill>
                <a:latin typeface="PT Astra Serif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48bc"/>
                </a:solidFill>
                <a:latin typeface="PT Astra Serif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48bc"/>
                </a:solidFill>
                <a:latin typeface="PT Astra Serif"/>
                <a:ea typeface="Times New Roman"/>
              </a:rPr>
              <a:t>этап 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–выбирается объект, который не вызывает у ребенка стойких ассоциаций, положительных или отрицательных эмоций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PT Astra Serif"/>
                <a:ea typeface="Times New Roman"/>
              </a:rPr>
              <a:t>карандаш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, лампа и т.д.) Нужно сказать, что «хорошо» (нравится) в этом объекте.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хорошо –яркий;  - плохо – ломается;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хорошо - красиво рисует;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 плохо – теряется;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T Astra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65" name="Рисунок 2" descr=""/>
          <p:cNvPicPr/>
          <p:nvPr/>
        </p:nvPicPr>
        <p:blipFill>
          <a:blip r:embed="rId1"/>
          <a:stretch/>
        </p:blipFill>
        <p:spPr>
          <a:xfrm>
            <a:off x="5181480" y="4838760"/>
            <a:ext cx="37879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51920" y="8377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48bc"/>
                </a:solidFill>
                <a:latin typeface="PT Astra Serif"/>
                <a:ea typeface="Times New Roman"/>
              </a:rPr>
              <a:t>2 этап 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–для игры предлагаются объекты или явления, вызывающие стойкие положительные или отрицательные эмоции, что приводит к однозначной оценке (кукла –«хорош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PT Astra Serif"/>
                <a:ea typeface="Times New Roman"/>
              </a:rPr>
              <a:t>», уколы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–«плохо») - плохо –больно;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 хорошо –поправишься быстро;  -плохо –страшно;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 хорошо – хвалят за храбрость;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48bc"/>
                </a:solidFill>
                <a:latin typeface="PT Astra Serif"/>
                <a:ea typeface="Times New Roman"/>
              </a:rPr>
              <a:t>3  этап  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для игры предлагаются рассмотрение положительных и отрицательных качеств в зависимости от условий, в которые становятся эти объекты и явления (мороз)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 хорошо –когда сидишь у печки;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- плохо –нельзя гулять;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48bc"/>
                </a:solidFill>
                <a:latin typeface="PT Astra Serif"/>
                <a:ea typeface="Times New Roman"/>
              </a:rPr>
              <a:t>4  этап </a:t>
            </a:r>
            <a:r>
              <a:rPr b="0" lang="ru-RU" sz="2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– игра в 2 команды. Одна называет только положительные, а другая только отрицательные стороны объекта или явления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T Astra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Пользователь</cp:lastModifiedBy>
  <dcterms:modified xsi:type="dcterms:W3CDTF">2019-12-09T06:56:25Z</dcterms:modified>
  <cp:revision>152</cp:revision>
  <dc:subject/>
  <dc:title>Name of presentation</dc:title>
</cp:coreProperties>
</file>