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A902-80E1-4D0F-9297-7C72B385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D37-837A-43A3-82EA-77415905EC8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4A7-A495-4CFB-BFC3-E4B32B30FA0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383C-CF2D-45C5-9885-8799604C64B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991080" y="2590920"/>
            <a:ext cx="952524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Microsoft Sans Serif"/>
              </a:rPr>
              <a:t>            </a:t>
            </a:r>
            <a:r>
              <a:rPr b="1" lang="ru-RU" sz="4100" spc="-1" strike="noStrike">
                <a:solidFill>
                  <a:srgbClr val="002060"/>
                </a:solidFill>
                <a:latin typeface="Microsoft Sans Serif"/>
              </a:rPr>
              <a:t>Универсальные приемы ТРИЗ:               неожиданное рядом</a:t>
            </a: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Microsoft Sans Serif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Усова Наталья Борисовна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6019560"/>
            <a:ext cx="4800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МАДОУ    «Русалочка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6094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VI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Игра «Что будет если…?»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Является логическим продолжением игры «Хорошо –плохо». Игра помогает детям легко и непринужденно понять законы диалектики; все в мире изменяется; все явления в мире взаимосвязаны; любой процесс в природе имеет тот или иной конец.  Предложите ребенку ситуацию: «А что будет если поставить молоко на плиту?». Попросите ребенка рассказать, что будет дальше,  дальше еще…… чем все закончится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А что, если надувать воздушный шарик очень долго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А что, если съесть вагон мороженного?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А что, если положить семечко во влажную почву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209680" y="5318280"/>
            <a:ext cx="4648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16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1059"/>
                </a:solidFill>
                <a:latin typeface="Microsoft Sans Serif"/>
              </a:rPr>
              <a:t>V Игра  «Бесконечное предложение»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Развивает воображение, развивает навыки речемышления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ужно  придумать предложение, в котором каждое следующее слово будет начинаться на последнюю букву предыдущего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апример: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- «ДетИ ИгралИ и ИзображалИ ИндюкоВ,ВороН, НосорогоВ»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-«АрбуЗ ЗвучаЛ,ЛомалсЯ ЯркимИ ИскрамИ…»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Если ты хочешь идти на работу, как на праздник  – займись ТРИзом!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410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666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ждый ребёнок изначально талантлив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и даже гениален, но его надо научить ориентироваться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в современном мире, чтобы при минимуме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затрат достичь максимума эффекта.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Г. С. Альтшуллер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Одна из первостепенных задач воспитания и обучения в дошкольных учреждениях, согласно вступившему в силу ФГОС – воспитание нового поколения детей, обладающих высоким творческим потенциалом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093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304920"/>
            <a:ext cx="71629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м ребенка не очерчен «глубоким образом жизни» и традиционными представлениями о том, как все должно быть.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Это позволяет им изобретать, быть непосредственными и непредсказуемыми, замечать то, на что взрослые давно не обращают внимание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5509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Одной из эффективных педагогических технологий является ТРИЗ – теория решения изобретательских задач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ТРИЗ представляет собой уникальный инструмент для поиска оригинальных идей, развития творческой личности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6164280" y="4876920"/>
            <a:ext cx="23367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59968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br>
              <a:rPr sz="4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                   </a:t>
            </a:r>
            <a:r>
              <a:rPr b="1" lang="en-US" sz="4400" spc="-1" strike="noStrike">
                <a:solidFill>
                  <a:srgbClr val="831059"/>
                </a:solidFill>
                <a:latin typeface="Microsoft Sans Serif"/>
              </a:rPr>
              <a:t>I</a:t>
            </a:r>
            <a:r>
              <a:rPr b="1" lang="ru-RU" sz="4400" spc="-1" strike="noStrike">
                <a:solidFill>
                  <a:srgbClr val="831059"/>
                </a:solidFill>
                <a:latin typeface="Microsoft Sans Serif"/>
              </a:rPr>
              <a:t> игра «Это не…»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азвивает образное мышление (очень актуально для детей  с левым ведущим полушарием),вариативность мышления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1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задается простой образ (круг, овал и т.д.). Нужно дорисовать до узнаваемого образа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2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задается образ явно напоминающий кого то, чего то (голова зайчика, груша). Нужно дорисовать, но не зайчика, не грушу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3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(группа из 3-4 человек) задается образ (круг)</a:t>
            </a:r>
            <a:br>
              <a:rPr sz="2400"/>
            </a:br>
            <a:r>
              <a:rPr b="1" lang="ru-RU" sz="2400" spc="-1" strike="noStrike">
                <a:solidFill>
                  <a:srgbClr val="214ddb"/>
                </a:solidFill>
                <a:latin typeface="Microsoft Sans Serif"/>
              </a:rPr>
              <a:t>1 игрок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«Это не круг» и дорисовывает до понятного другого образа (букашка)</a:t>
            </a:r>
            <a:br>
              <a:rPr sz="2400"/>
            </a:br>
            <a:r>
              <a:rPr b="1" lang="ru-RU" sz="2400" spc="-1" strike="noStrike">
                <a:solidFill>
                  <a:srgbClr val="214ddb"/>
                </a:solidFill>
                <a:latin typeface="Microsoft Sans Serif"/>
              </a:rPr>
              <a:t>2 игрок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«Это не букашка, это..» дорисовывает дальше и т.д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6680" y="2971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II 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игра «Робот»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Развивает ориентацию в пространстве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математический счет, устную или письменную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инструкцию, чувство эмпати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На планету «Шелезяка» срочно нужно доставить груз, но пустят на планету только робота. Обсудить как движется робот? Почему? Для чего роботы нужны и когда?(любой другой вариант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По устной инструкции, либо по заданной программе (табличка с ходами) робот выполняет задание, доставляет груз:4 шага прямо,6 шагов налево и т.д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6848640" y="914400"/>
            <a:ext cx="19904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III 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игра «Хорошо – плохо» 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Развивает понимание противоречий в окружающем мире, является основой диалектического мышления. Доступна для детей с 3 лет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выбирается объект, который не вызывает у ребенка стойких ассоциаций, положительных или отрицательных эмоций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PT Astra Serif"/>
                <a:ea typeface="Times New Roman"/>
              </a:rPr>
              <a:t>карандаш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, лампа и т.д.) Нужно сказать, что «хорошо» (нравится) в этом объекте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хорошо –яркий;  - плохо – ломается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хорошо - красиво рисует;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плохо – теряется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5181480" y="4838760"/>
            <a:ext cx="3787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1920" y="837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2 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для игры предлагаются объекты или явления, вызывающие стойкие положительные или отрицательные эмоции, что приводит к однозначной оценке (кукла –«хорош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PT Astra Serif"/>
                <a:ea typeface="Times New Roman"/>
              </a:rPr>
              <a:t>», уколы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«плохо») - плохо –больно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поправишься быстро;  -плохо –страшно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 хвалят за храбрость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3  этап 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для игры предлагаются рассмотрение положительных и отрицательных качеств в зависимости от условий, в которые становятся эти объекты и явления (мороз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когда сидишь у печки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плохо –нельзя гулять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4  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 игра в 2 команды. Одна называет только положительные, а другая только отрицательные стороны объекта или явле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19-12-09T06:56:25Z</dcterms:modified>
  <cp:revision>152</cp:revision>
  <dc:subject/>
  <dc:title>Name of presentation</dc:title>
</cp:coreProperties>
</file>