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50FC-CC0A-4C6D-84C6-6E9BB252C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4E33-8F77-4FAF-B61E-C2682CEB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9E10-AC74-4F4B-8F95-7EB97A1E7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A10B-846D-49DE-95B5-6DA07F5BF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D67-5B21-4249-84CB-5366564D7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398-B60B-4BCD-B1DE-E2B003DC1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53AC-4168-4588-A67D-76AA96DCA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F8CF-0502-45B2-980D-E72C93F6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A50B-F837-454A-AA92-5830FD66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BC8D-686A-4FCA-909C-2956EBC8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5E3-043E-4C56-B825-18F5D34F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BE1-0756-4355-B037-E19151368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D193-844A-4735-BB2C-87B18729CF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18:27:50Z</dcterms:created>
  <dc:creator>Анастасия</dc:creator>
  <dc:description/>
  <dc:language>en-US</dc:language>
  <cp:lastModifiedBy>Анастасия</cp:lastModifiedBy>
  <dcterms:modified xsi:type="dcterms:W3CDTF">2018-12-23T20:10:30Z</dcterms:modified>
  <cp:revision>6</cp:revision>
  <dc:subject/>
  <dc:title>Презентация PowerPoint</dc:title>
</cp:coreProperties>
</file>