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9D76-D3B0-4E34-A2F5-D619C787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1684-AF3D-4C80-805A-F4A15060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10E-C56A-4A29-A6E8-961F1A669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FE4A-EA1E-463F-BCBF-3889C3235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3C62-0CF6-4141-8932-4E1578E84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5B3C-2EA6-4A72-B790-BC555C5C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D59-B8AD-4C4F-8E14-0EEFC97F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EE4-7ABA-4721-BBA8-12830FF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B9DF-B5E1-4883-BD5C-9054866C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A1AF-9F2F-4489-BDB3-6CDE4F209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B33-8285-471F-8770-B8F93B0CF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2FE0-06AE-4372-8BDA-EAC1B00D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D1C4-EF16-4F73-AF88-0F84216834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"/>
          <p:cNvPicPr/>
          <p:nvPr/>
        </p:nvPicPr>
        <p:blipFill>
          <a:blip r:embed="rId1"/>
          <a:stretch/>
        </p:blipFill>
        <p:spPr>
          <a:xfrm>
            <a:off x="0" y="1116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"/>
          <p:cNvPicPr/>
          <p:nvPr/>
        </p:nvPicPr>
        <p:blipFill>
          <a:blip r:embed="rId2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11160" y="0"/>
            <a:ext cx="9121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"/>
          <p:cNvPicPr/>
          <p:nvPr/>
        </p:nvPicPr>
        <p:blipFill>
          <a:blip r:embed="rId2"/>
          <a:stretch/>
        </p:blipFill>
        <p:spPr>
          <a:xfrm>
            <a:off x="0" y="393840"/>
            <a:ext cx="9144000" cy="60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2"/>
          <a:stretch/>
        </p:blipFill>
        <p:spPr>
          <a:xfrm>
            <a:off x="0" y="85716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3T18:27:50Z</dcterms:created>
  <dc:creator>Анастасия</dc:creator>
  <dc:description/>
  <dc:language>en-US</dc:language>
  <cp:lastModifiedBy>Анастасия</cp:lastModifiedBy>
  <dcterms:modified xsi:type="dcterms:W3CDTF">2018-12-23T20:10:30Z</dcterms:modified>
  <cp:revision>6</cp:revision>
  <dc:subject/>
  <dc:title>Презентация PowerPoint</dc:title>
</cp:coreProperties>
</file>