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3EE-29D6-492A-B22A-BDC68D7A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92A-07FC-4407-AD05-B67E23AD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6AF-5C14-41EA-A58D-F872D806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DE0-DBEE-4073-BB80-4166B65A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2FA3-4A4C-4AED-87CB-1EA8B984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D29F-3160-4789-A402-9772DBC5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FAFE-F4B9-4DA8-8DEB-6B461EBF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2F76-F80C-460D-B95C-FD6E080D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49AD-97E1-4233-BF52-61837092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3A2D-C6EC-45B2-BE19-65972492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16B8-F853-44EF-AE32-D08DFCAE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655-35DC-48B3-86FE-503C8252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7D2E-AE23-4100-9260-2F286ECC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B621-D185-4B6C-8240-23EE852E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12F3-64D6-4E8C-8DD5-0ED47EFB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C323-EE35-4F4B-8CD1-D432C22F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2B0F-4BF8-43BF-8F05-13FE6858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8C6E-BD1C-4C1C-BF5E-114B1599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7EB7-3815-46CF-8889-2D2F53B2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D70BB-2CB7-45D9-99C7-2B9A7B7F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7C74-DF6E-4816-88B0-E5ED2B79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EE2B-15D1-4A42-AFBF-5FFFC56B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637-4DE1-420D-96FB-5B66E3D8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A787-B590-4E2D-9624-842CEE76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BCAD9-D71D-44CA-8265-A9C33D82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BF66-E176-4064-8119-BB456AC0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B10E-9128-480C-9674-ADED2CF4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D75D6-CBCE-4EBE-9DF9-C2E67ECD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3737-2853-4101-AE17-82B14BA5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6B96D-7807-432C-A816-5A530639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D9BB0-9E34-4706-85BA-B9B6A344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6378A-434D-4799-9B89-FAD909AF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02AD1-5DBF-4A20-9C9B-9F049EEC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C75-AD5F-4753-9C02-5B41DD36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B847C-2025-4AA1-AEB8-16CDE34B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B8976-7F2C-4E65-9627-434A4669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A75F2-BB82-4B4E-8F9E-7D4B45FB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D2FC-B688-4339-901C-CB03FC2C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D11D4-3284-4DEB-9F2E-50A6D842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A8D01-9270-46D7-A170-46CC0D7A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D22C1-660F-455F-AABF-B3258ACA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95C5-0197-496C-8AF3-31EBF19A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B50FE-1014-448B-B0E1-F27F1358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EC436-E37A-45F4-AB71-DFE46576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EA2-78AD-4D68-98F7-EF10F58E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4C4D4-9866-4EF1-8843-871CDD08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C5A16-9037-462B-BE58-CA011179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364AA-C21E-4BB0-8A15-0FFC35C0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B69A9-9A03-4A6C-AEE4-FF85F8C7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B2A48-9C24-4762-A1BB-E9CE8326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05CB9-7ACA-4342-95C1-05C32AC2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57296-00CD-492C-8093-8AC7281C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74C02-F2BA-40BA-A8CA-36BC1575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2FC9F-0936-436B-837E-41E3E230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DB3FE-B393-44A1-9392-94B92591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CE2-FBA3-4A57-899A-6A52A4FB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E213D-9A89-46B7-A928-E33B8F0A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242-5B80-4B72-B136-4C9DE427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ABC-0A5F-4A71-A8ED-75B84DAE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C6B-E5BF-4358-9618-67C22920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EB60-2AA8-42B5-B9EF-B2630311AE5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48F7-1517-4D3E-B5D1-6F204F99044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A277-794C-49C4-ACCE-0A3F7818800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0AEA-5878-4C22-B6C5-EE9217CFD7B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70EB-9A81-487A-8A8B-2D04BBA8E98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241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Степень удовлетворенности  родителей работой воспитателей </a:t>
            </a:r>
            <a:br>
              <a:rPr sz="3200"/>
            </a:br>
            <a:r>
              <a:rPr b="1" lang="ru-RU" sz="3200" spc="-1" strike="noStrike">
                <a:solidFill>
                  <a:srgbClr val="274221"/>
                </a:solidFill>
                <a:latin typeface="Times New Roman"/>
                <a:ea typeface="Times New Roman"/>
              </a:rPr>
              <a:t>в 2018-2019году</a:t>
            </a:r>
            <a:r>
              <a:rPr b="1" lang="ru-RU" sz="3200" spc="-1" strike="noStrike">
                <a:solidFill>
                  <a:srgbClr val="274221"/>
                </a:solidFill>
                <a:latin typeface="Verdana"/>
              </a:rPr>
              <a:t>.</a:t>
            </a:r>
            <a:r>
              <a:rPr b="1" lang="ru-RU" sz="3200" spc="-1" strike="noStrike">
                <a:solidFill>
                  <a:srgbClr val="274221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154400" y="3684600"/>
            <a:ext cx="4340160" cy="1689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Выступление подготовил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Ф.Л Куту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C:\Users\Зайки\Desktop\2748f114cf6dfe71c3621bc0be3.jpg"/>
          <p:cNvPicPr/>
          <p:nvPr/>
        </p:nvPicPr>
        <p:blipFill>
          <a:blip r:embed="rId1"/>
          <a:stretch/>
        </p:blipFill>
        <p:spPr>
          <a:xfrm>
            <a:off x="826920" y="2403360"/>
            <a:ext cx="292896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те 2019 г. родителям воспитанников была предложена анонимная анкета.      Отвечая на  четырнадцать предложенных  вопросов, родители тем самым выразили различную степень удовлетворенности воспитательным процессом в школе-интернате, работой образовательного учреждения в цел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стировании  приняли участие 12 родителей воспитанник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ование проводилось по МЕТОДИКЕ ИЗУЧЕНИЯ УДОВЛЕТВОРЕННОСТИ РОДИТЕЛЕЙ РАБОТОЙ ОБРАЗОВАТЕЛЬНОГО УЧРЕЖД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ыявить уровень удовлетворенности родителей работой образовательного учреждения и его педагогического коллекти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проведения. На родительском собрании предлагается родителям внимательно прочитать перечисленные ниже утверждения и оценить степень согласия с ними. Для этого родителю необходимо обвести ниже каждого выражения одну цифру, которая означает ответ, соответствующий его точке зр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ы означают следующие ответы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совершенно согласен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согласен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трудно сказать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не согласен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– совершенно не согласе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8000"/>
          </a:bodyPr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, в котором учится наш ребенок, можно назвать дружны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е своих одногруппников наш ребенок чувствует себя комфортн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 проявляют доброжелательное отношение к нашему ребенк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испытываем чувство взаимопонимания в контактах с администрацией и педагогами нашего ребе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, где учится наш ребенок, хороший воспитатель 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 справедливо оценивают достижения в учебе нашего ребе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ребенок не перегружен учебными занятиями и домашними задания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 учитывают индивидуальные особенности нашего ребе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2920" indent="-2329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заведении проводятся мероприятия, которые полезны и интересны нашему ребенк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заведении работают различные кружки, клубы, секции, где может заниматься наш ребенок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 дают нашему ребенку глубокие и прочные зн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заведении заботятся о физическом развитии и здоровье нашего ребе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е заведение способствует формированию достойного поведения нашего ребе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и педагоги создают условия для проявления и развития способностей нашего ребенк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е заведение по-настоящему готовит нашего ребенка к самостоятельной жизн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 2 1 0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результатов теста. Удовлетворенность родителей работой учебного заведения (У) определяется как частное от деления общей суммы баллов всех ответов родителей на общее количество ответов. Если коэффициент У равен 3 или больше этого числа, то это свидетельствует о высоком уровне удовлетворенности; если он равен или больше 2, но не меньше 3, то можно констатировать средний уровень удовлетворенности; если же коэффициент У меньше 2, то это является показателем низкого уровня удовлетворенности родителей деятельностью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ведения данного тестирования мы получили следующие результа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эффициент уровня удовлетворенности равен тре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 работу воспитателей школы-интерната можно считать на высоком уровне удовлетворен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9:12:02Z</dcterms:created>
  <dc:creator>Зайки</dc:creator>
  <dc:description/>
  <dc:language>en-US</dc:language>
  <cp:lastModifiedBy>Admin</cp:lastModifiedBy>
  <dcterms:modified xsi:type="dcterms:W3CDTF">2020-02-03T15:33:20Z</dcterms:modified>
  <cp:revision>13</cp:revision>
  <dc:subject/>
  <dc:title>Слайд 1</dc:title>
</cp:coreProperties>
</file>