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331-8F9F-4B45-B0D2-4DF70D5C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9F6-54C8-4409-863F-C371214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542-27BC-4B90-9E98-AFE66956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518-5422-4152-856B-D633EE39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6A1D-EC73-447E-9CD3-F19071A9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924D-7C70-423C-A7B4-19B9216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0B83-149F-452E-AEA8-9E827FC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805A-BA13-49ED-89C3-53A9DB39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6D9-C951-4F97-B244-7A9DA90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6C1-0216-4BC9-91D4-8E1FED0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E7D3-C03D-4920-8B26-5E7D28C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71F-5981-4D90-832A-CC8CC982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F8A3-8D3B-48BA-B671-8709F07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1847-BE42-4039-94D7-8A06982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6A0-9582-4E62-ABF9-8632CEC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8EE3-79ED-49B8-8F46-C4A265F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522F-83C2-4B21-8DF6-FCF35A78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BEE4-1C64-4388-9F2A-8550EC8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9F3D-A5C8-4452-BDD8-5FB2B07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8658-8A4F-415D-A1EA-4EED3360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E99A-4EE2-43CD-9A0F-35C07E2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9E68-A6D8-427F-823A-9106142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3AB-3C7E-4679-9CD3-F9B780A0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E473-ED81-4EF6-A10D-FB49DE3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488F-3B1D-4EFF-9A11-6B2A302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C550-F89B-4374-9DF1-5C100E9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747E-EC8C-41D8-9553-A964776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BF9F-DA2C-48F8-8E9F-63AF2B2B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69E1-9CF9-4D82-A40D-AC86F48C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1DA2-A0D3-4DFD-9B0A-003E9295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78C6-2932-45BB-8A76-7360B18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FD09-3DBE-437B-A5AE-4177ADDB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B329-1E8C-4622-B60B-C10F2E8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04B-AC14-4EC2-B40E-28114EFD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BD40-B141-4760-BD81-739A8F9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46AA-E835-491C-9C31-326E466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4E05-76CA-4725-BFB7-32988C75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3355-0A3E-45B7-97B0-D465E0D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6D1A-F3C7-4BD1-BEA6-BEF47F0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4F46-5FFA-4386-AEBA-54BB468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1124-6928-4037-AF1E-480C4F70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483E-0E5F-4480-9988-2AF3018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0036-381F-44BF-ACAA-360297D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F23D-450C-4C93-99AA-667A8F34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84A-D964-49D1-9DB4-97B394A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7A38-169C-49D3-9CCE-A17EB620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917B-A2BF-4687-A197-88D81050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6393-2A41-46AE-B144-1B17ADB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AE0E-5E9C-4634-BFE7-CBECFA9C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305A-4EED-418C-9F53-1ED355A2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F666-AEB1-41AD-B8DE-585DA81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8259-9171-4059-9329-73AAD0B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FB42-D75F-4FF9-B745-0351990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EB2C-4E4A-4731-B92A-EC8DE6F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4FFB-2469-4FBF-8631-844ED826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4A1-A232-4D06-BAA1-48F4F401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048F-99A6-4858-8597-7D23E286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BD1-9183-4947-BA44-478577E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88E-E078-4ACC-81F0-83B416B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0EF-9011-4AE4-9786-28065E7B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6758-883E-4E51-9B98-92995E80F6B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787-33F8-4C66-8355-DDA97EF862B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F8EE-98D3-405E-8787-3DCD3DAB14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E49-8F5B-4A74-A18A-D76231A85A7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0FA-1764-4807-927F-C2E1AF29F7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41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Степень удовлетворенности  родителей работой воспитателей </a:t>
            </a:r>
            <a:br>
              <a:rPr sz="3200"/>
            </a:br>
            <a:r>
              <a:rPr b="1" lang="ru-RU" sz="32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в 2018-2019году</a:t>
            </a:r>
            <a:r>
              <a:rPr b="1" lang="ru-RU" sz="3200" spc="-1" strike="noStrike">
                <a:solidFill>
                  <a:srgbClr val="274221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274221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154400" y="3684600"/>
            <a:ext cx="4340160" cy="1689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ыступление подготовил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Ф.Л Куту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Зайки\Desktop\2748f114cf6dfe71c3621bc0be3.jpg"/>
          <p:cNvPicPr/>
          <p:nvPr/>
        </p:nvPicPr>
        <p:blipFill>
          <a:blip r:embed="rId1"/>
          <a:stretch/>
        </p:blipFill>
        <p:spPr>
          <a:xfrm>
            <a:off x="826920" y="2403360"/>
            <a:ext cx="29289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2019 г. родителям воспитанников была предложена анонимная анкета.      Отвечая на  четырнадцать предложенных  вопросов, родители тем самым выразили различную степень удовлетворенности воспитательным процессом в школе-интернате, работой образовательного учреждения в це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тировании  приняли участие 12 родителей воспитан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 проводилось по МЕТОДИКЕ ИЗУЧЕНИЯ УДОВЛЕТВОРЕННОСТИ РОДИТЕЛЕЙ РАБОТОЙ ОБРАЗОВАТЕЛЬНОГО УЧРЕЖД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явить уровень удовлетворенности родителей работой образовательного учреждения и его педагогического коллекти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проведения. На родительском собрании предлагается родителям внимательно прочитать перечисленные ниже утверждения и оценить степень согласия с ними. Для этого родителю необходимо обвести ниже каждого выражения одну цифру, которая означает ответ, соответствующий его точке зр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ы означают следующие ответ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совершенно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трудно сказать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е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совершенно не согласе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, в котором учится наш ребенок, можно назвать дружны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е своих одногруппников наш ребенок чувствует себя комфортн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проявляют доброжелательное отношение к нашему ребен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спытываем чувство взаимопонимания в контактах с администрацией и педагогами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, где учится наш ребенок, хороший воспитатель 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справедливо оценивают достижения в учебе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ребенок не перегружен учебными занятиями и домашними задания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учитывают индивидуальные особенности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проводятся мероприятия, которые полезны и интересны нашему ребен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работают различные кружки, клубы, секции, где может заниматься наш ребенок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дают нашему ребенку глубокие и прочные зн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заботятся о физическом развитии и здоровье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е заведение способствует формированию достойного поведения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и педагоги создают условия для проявления и развития способностей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е заведение по-настоящему готовит нашего ребенка к самостоятельной жизн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результатов теста. Удовлетворенность родителей работой учебного заведения (У) определяется как частное от деления общей суммы баллов всех ответов родителей на общее количество ответов. Если коэффициент У равен 3 или больше этого числа, то это свидетельствует о высоком уровне удовлетворенности; если он равен или больше 2, но не меньше 3, то можно констатировать средний уровень удовлетворенности; если же коэффициент У меньше 2, то это является показателем низкого уровня удовлетворенности родителей деятельностью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ведения данного тестирования мы получили следующие результа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уровня удовлетворенности равен тр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 работу воспитателей школы-интерната можно считать на высоком уровне удовлетвор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12:02Z</dcterms:created>
  <dc:creator>Зайки</dc:creator>
  <dc:description/>
  <dc:language>en-US</dc:language>
  <cp:lastModifiedBy>Admin</cp:lastModifiedBy>
  <dcterms:modified xsi:type="dcterms:W3CDTF">2020-02-03T15:33:20Z</dcterms:modified>
  <cp:revision>13</cp:revision>
  <dc:subject/>
  <dc:title>Слайд 1</dc:title>
</cp:coreProperties>
</file>