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12.png" ContentType="image/png"/>
  <Override PartName="/ppt/media/image49.jpeg" ContentType="image/jpeg"/>
  <Override PartName="/ppt/media/image34.jpeg" ContentType="image/jpeg"/>
  <Override PartName="/ppt/media/image37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8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20.png" ContentType="image/png"/>
  <Override PartName="/ppt/media/image36.jpeg" ContentType="image/jpeg"/>
  <Override PartName="/ppt/media/image39.jpeg" ContentType="image/jpeg"/>
  <Override PartName="/ppt/media/image8.png" ContentType="image/png"/>
  <Override PartName="/ppt/media/image6.jpeg" ContentType="image/jpeg"/>
  <Override PartName="/ppt/media/image3.png" ContentType="image/png"/>
  <Override PartName="/ppt/media/image43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A1A-A3A1-4B16-A1E1-7F246A0F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128-F94A-4A66-99C2-E0600437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79B5-5853-413D-BBCB-0B4DADD1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C51-2F54-4B65-953C-C69FA450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862-2B1C-4A80-9D8F-F925DA12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A1A-F25F-4009-A38C-CEAAB079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E2F-F4DD-4040-9287-9412AC31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B0D-6F20-47D0-AD24-6AE3BD25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08B-0931-42FC-81F6-146A8923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D53-EF85-40BE-936E-D974F630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6AA-28F6-483C-A3C8-12024F66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9174-6ED4-49BB-83B0-0A26C687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88FF-A9BA-40D6-8D62-4B07E44B9E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-189000" y="0"/>
            <a:ext cx="9333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55480" y="1052640"/>
            <a:ext cx="734544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Monotype Corsiva"/>
              </a:rPr>
              <a:t>Приемы снятия психоэмоционального 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Monotype Corsiva"/>
              </a:rPr>
              <a:t>напряжения у детей раннего возраста в период адап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462720" y="438300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  <a:ea typeface="Arial"/>
              </a:rPr>
              <a:t>Воспитатель: Синельникова Е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-47520" y="0"/>
            <a:ext cx="9235800" cy="6837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20920" y="404280"/>
            <a:ext cx="4681440" cy="11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8800" spc="-1" strike="noStrike">
                <a:solidFill>
                  <a:srgbClr val="a50021"/>
                </a:solidFill>
                <a:latin typeface="Monotype Corsiva"/>
              </a:rPr>
              <a:t>Вода</a:t>
            </a:r>
            <a:br>
              <a:rPr sz="4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Lenochka\Desktop\карамельки\18-19\Новая папка\IMG_6907.JPG"/>
          <p:cNvPicPr/>
          <p:nvPr/>
        </p:nvPicPr>
        <p:blipFill>
          <a:blip r:embed="rId2"/>
          <a:stretch/>
        </p:blipFill>
        <p:spPr>
          <a:xfrm rot="20751000">
            <a:off x="631800" y="2341440"/>
            <a:ext cx="4441680" cy="3076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Lenochka\Documents\ViberDownloads\0-02-04-c2897d822b2dca10e5e8125b3c75a07624ad2125a3fb875c629e81d6e5b78e51_2b5c47f5.jpg"/>
          <p:cNvPicPr/>
          <p:nvPr/>
        </p:nvPicPr>
        <p:blipFill>
          <a:blip r:embed="rId3"/>
          <a:stretch/>
        </p:blipFill>
        <p:spPr>
          <a:xfrm rot="564600">
            <a:off x="4646160" y="2719080"/>
            <a:ext cx="383868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SHablon-dlya-prezentatsii-Radu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30560" y="374760"/>
            <a:ext cx="468288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Monotype Corsiva"/>
              </a:rPr>
              <a:t>Песо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Lenochka\Documents\ViberDownloads\0-02-04-83b6fcded2f455cedb9a2045b3c6d349de786fee45de23a6b6dc1c7995bd70cf_3903447a.jpg"/>
          <p:cNvPicPr/>
          <p:nvPr/>
        </p:nvPicPr>
        <p:blipFill>
          <a:blip r:embed="rId2"/>
          <a:stretch/>
        </p:blipFill>
        <p:spPr>
          <a:xfrm rot="20994000">
            <a:off x="861840" y="1665000"/>
            <a:ext cx="3276720" cy="4368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E:\фото\24.08.2018\Новая папка (5)\IMG_20180615_093831.jpg"/>
          <p:cNvPicPr/>
          <p:nvPr/>
        </p:nvPicPr>
        <p:blipFill>
          <a:blip r:embed="rId3"/>
          <a:stretch/>
        </p:blipFill>
        <p:spPr>
          <a:xfrm rot="870000">
            <a:off x="5003280" y="1739880"/>
            <a:ext cx="31654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ÐÐ°ÑÑÐ¸Ð½ÐºÐ¸ Ð¿Ð¾ Ð·Ð°Ð¿ÑÐ¾ÑÑ ÑÐ¾Ð½ ÑÐ²ÐµÑÐ»ÑÐµ ÐºÑÐ°ÑÐºÐ¸"/>
          <p:cNvPicPr/>
          <p:nvPr/>
        </p:nvPicPr>
        <p:blipFill>
          <a:blip r:embed="rId1"/>
          <a:stretch/>
        </p:blipFill>
        <p:spPr>
          <a:xfrm>
            <a:off x="3240" y="23760"/>
            <a:ext cx="9104400" cy="6834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9960" y="404640"/>
            <a:ext cx="475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Monotype Corsiva"/>
              </a:rPr>
              <a:t>Музы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Lenochka\Desktop\карамельки\17-18\13 группа\IMG_5394.JPG"/>
          <p:cNvPicPr/>
          <p:nvPr/>
        </p:nvPicPr>
        <p:blipFill>
          <a:blip r:embed="rId2"/>
          <a:stretch/>
        </p:blipFill>
        <p:spPr>
          <a:xfrm rot="21198600">
            <a:off x="641160" y="1485720"/>
            <a:ext cx="3257280" cy="4552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Lenochka\Desktop\карамельки\валентинона\Новая папка (2)\IMG_3326.JPG"/>
          <p:cNvPicPr/>
          <p:nvPr/>
        </p:nvPicPr>
        <p:blipFill>
          <a:blip r:embed="rId3"/>
          <a:stretch/>
        </p:blipFill>
        <p:spPr>
          <a:xfrm rot="584400">
            <a:off x="3509640" y="2635200"/>
            <a:ext cx="51512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1" descr="shablony_prezentaziy_1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281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Monotype Corsiva"/>
              </a:rPr>
              <a:t>Изотерап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Lenochka\Desktop\карамельки\18-19\Новая папка\IMG_20181024_155319.jpg"/>
          <p:cNvPicPr/>
          <p:nvPr/>
        </p:nvPicPr>
        <p:blipFill>
          <a:blip r:embed="rId2"/>
          <a:stretch/>
        </p:blipFill>
        <p:spPr>
          <a:xfrm rot="21018000">
            <a:off x="909720" y="1779480"/>
            <a:ext cx="3740040" cy="2805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Users\Lenochka\Desktop\карамельки\18-19\Новая папка\IMG_20190220_162911.jpg"/>
          <p:cNvPicPr/>
          <p:nvPr/>
        </p:nvPicPr>
        <p:blipFill>
          <a:blip r:embed="rId3"/>
          <a:stretch/>
        </p:blipFill>
        <p:spPr>
          <a:xfrm>
            <a:off x="4859280" y="3182760"/>
            <a:ext cx="387684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ÐÐ°ÑÑÐ¸Ð½ÐºÐ¸ Ð¿Ð¾ Ð·Ð°Ð¿ÑÐ¾ÑÑ ÑÐ¾Ð½ ÑÐ²ÐµÑÐ»ÑÐµ ÐºÑÐ°ÑÐºÐ¸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476280"/>
            <a:ext cx="59058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Monotype Corsiva"/>
              </a:rPr>
              <a:t>Леп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Users\Lenochka\Desktop\карамельки\18-19\Новая папка\IMG_20181001_092242.jpg"/>
          <p:cNvPicPr/>
          <p:nvPr/>
        </p:nvPicPr>
        <p:blipFill>
          <a:blip r:embed="rId2"/>
          <a:stretch/>
        </p:blipFill>
        <p:spPr>
          <a:xfrm rot="20995800">
            <a:off x="887400" y="1874880"/>
            <a:ext cx="3201840" cy="4268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Lenochka\Desktop\карамельки\18-19\Новая папка\IMG_20190117_181846.jpg"/>
          <p:cNvPicPr/>
          <p:nvPr/>
        </p:nvPicPr>
        <p:blipFill>
          <a:blip r:embed="rId3"/>
          <a:stretch/>
        </p:blipFill>
        <p:spPr>
          <a:xfrm>
            <a:off x="4284720" y="2205000"/>
            <a:ext cx="41274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Monotype Corsiva"/>
              </a:rPr>
              <a:t>Ароматерап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cee5042198-dlya-doma-interera-nabor-lnyanyh-meshochkov-n0106"/>
          <p:cNvPicPr/>
          <p:nvPr/>
        </p:nvPicPr>
        <p:blipFill>
          <a:blip r:embed="rId2"/>
          <a:stretch/>
        </p:blipFill>
        <p:spPr>
          <a:xfrm>
            <a:off x="1908000" y="1989000"/>
            <a:ext cx="4464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64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Monotype Corsiva"/>
              </a:rPr>
              <a:t>Самомассаж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44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вой самомассаж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хой бассей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Lenochka\Desktop\карамельки\17-18\фото 13\IMG_20180329_160253.jpg"/>
          <p:cNvPicPr/>
          <p:nvPr/>
        </p:nvPicPr>
        <p:blipFill>
          <a:blip r:embed="rId2"/>
          <a:stretch/>
        </p:blipFill>
        <p:spPr>
          <a:xfrm>
            <a:off x="571680" y="2544840"/>
            <a:ext cx="3611520" cy="270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Lenochka\Desktop\карамельки\17-18\фото 13\IMG_20171222_090802.jpg"/>
          <p:cNvPicPr/>
          <p:nvPr/>
        </p:nvPicPr>
        <p:blipFill>
          <a:blip r:embed="rId3"/>
          <a:stretch/>
        </p:blipFill>
        <p:spPr>
          <a:xfrm>
            <a:off x="6670800" y="1498680"/>
            <a:ext cx="2355840" cy="3139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Users\Lenochka\Desktop\карамельки\18-19\Новая папка\0-02-04-fc72e31da6574dbd9aec257d185b5557bb9ec3de805c8a363e9b0918d55547a0_5e8c3e5a.jpg"/>
          <p:cNvPicPr/>
          <p:nvPr/>
        </p:nvPicPr>
        <p:blipFill>
          <a:blip r:embed="rId4"/>
          <a:stretch/>
        </p:blipFill>
        <p:spPr>
          <a:xfrm>
            <a:off x="3780000" y="3994200"/>
            <a:ext cx="38685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-23760" y="12600"/>
            <a:ext cx="9167760" cy="6845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24000" y="1959120"/>
            <a:ext cx="7704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0021"/>
                </a:solidFill>
                <a:latin typeface="Monotype Corsiva"/>
                <a:ea typeface="Arial"/>
              </a:rPr>
              <a:t>Спасибо </a:t>
            </a:r>
            <a:br>
              <a:rPr sz="9600"/>
            </a:br>
            <a:r>
              <a:rPr b="0" lang="ru-RU" sz="9600" spc="-1" strike="noStrike">
                <a:solidFill>
                  <a:srgbClr val="a50021"/>
                </a:solidFill>
                <a:latin typeface="Monotype Corsiva"/>
                <a:ea typeface="Arial"/>
              </a:rPr>
              <a:t>за внимание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171360"/>
            <a:ext cx="7128000" cy="53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аленький ребенок достоин того, чтобы его развитие протекало полноценно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Для этого взрослому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адо знать особенности раннего возраста, уметь создать благоприятные услови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для уникального самораскрытия возможностей каждого ребенк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Е. Воло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4859280" y="3397320"/>
            <a:ext cx="447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-6480" y="33480"/>
            <a:ext cx="9150480" cy="6831000"/>
          </a:xfrm>
          <a:prstGeom prst="rect">
            <a:avLst/>
          </a:prstGeom>
          <a:ln w="0">
            <a:noFill/>
          </a:ln>
        </p:spPr>
      </p:pic>
      <p:pic>
        <p:nvPicPr>
          <p:cNvPr id="48" name="Заголовок 1" descr=""/>
          <p:cNvPicPr/>
          <p:nvPr/>
        </p:nvPicPr>
        <p:blipFill>
          <a:blip r:embed="rId2"/>
          <a:stretch/>
        </p:blipFill>
        <p:spPr>
          <a:xfrm>
            <a:off x="590400" y="665280"/>
            <a:ext cx="8229600" cy="154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Lenochka\Desktop\карамельки\18-19\Новая папка\0-02-04-93b92c7644ce77bc12da5700f2706ec2967818295975d5884da17d002508b5f8_f236e31d.jpg"/>
          <p:cNvPicPr/>
          <p:nvPr/>
        </p:nvPicPr>
        <p:blipFill>
          <a:blip r:embed="rId3"/>
          <a:stretch/>
        </p:blipFill>
        <p:spPr>
          <a:xfrm rot="20794200">
            <a:off x="893880" y="2568240"/>
            <a:ext cx="41194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-39600" y="-57240"/>
            <a:ext cx="9183600" cy="6886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Lenochka\Documents\ViberDownloads\0-02-08-974cadb60e1acbd055418074f01de3a617d7e1a5219a61ec4003fd836856dd7f_a6d7d537.jpg"/>
          <p:cNvPicPr/>
          <p:nvPr/>
        </p:nvPicPr>
        <p:blipFill>
          <a:blip r:embed="rId2"/>
          <a:stretch/>
        </p:blipFill>
        <p:spPr>
          <a:xfrm>
            <a:off x="176040" y="1663560"/>
            <a:ext cx="2530800" cy="389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Lenochka\Desktop\карамельки\18-19\Новая папка\IMG_5864.JPG"/>
          <p:cNvPicPr/>
          <p:nvPr/>
        </p:nvPicPr>
        <p:blipFill>
          <a:blip r:embed="rId3"/>
          <a:stretch/>
        </p:blipFill>
        <p:spPr>
          <a:xfrm>
            <a:off x="2657520" y="2249640"/>
            <a:ext cx="3139920" cy="23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Lenochka\Desktop\карамельки\18-19\Новая папка\IMG_5862.JPG"/>
          <p:cNvPicPr/>
          <p:nvPr/>
        </p:nvPicPr>
        <p:blipFill>
          <a:blip r:embed="rId4"/>
          <a:stretch/>
        </p:blipFill>
        <p:spPr>
          <a:xfrm>
            <a:off x="5529240" y="2023920"/>
            <a:ext cx="3578400" cy="2760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Lenochka\Documents\ViberDownloads\0-02-04-45677784cc9083c1c1434097ebfd4d36ce2884457028d4da050daba04d2f7bea_36d99f86.jpg"/>
          <p:cNvPicPr/>
          <p:nvPr/>
        </p:nvPicPr>
        <p:blipFill>
          <a:blip r:embed="rId5"/>
          <a:stretch/>
        </p:blipFill>
        <p:spPr>
          <a:xfrm>
            <a:off x="3157560" y="4322880"/>
            <a:ext cx="3365640" cy="22366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9" descr=""/>
          <p:cNvPicPr/>
          <p:nvPr/>
        </p:nvPicPr>
        <p:blipFill>
          <a:blip r:embed="rId6"/>
          <a:stretch/>
        </p:blipFill>
        <p:spPr>
          <a:xfrm>
            <a:off x="536400" y="590400"/>
            <a:ext cx="59198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7" descr=""/>
          <p:cNvPicPr/>
          <p:nvPr/>
        </p:nvPicPr>
        <p:blipFill>
          <a:blip r:embed="rId2"/>
          <a:stretch/>
        </p:blipFill>
        <p:spPr>
          <a:xfrm>
            <a:off x="1328760" y="79200"/>
            <a:ext cx="6919920" cy="154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уголок-уединения-4"/>
          <p:cNvPicPr/>
          <p:nvPr/>
        </p:nvPicPr>
        <p:blipFill>
          <a:blip r:embed="rId3"/>
          <a:stretch/>
        </p:blipFill>
        <p:spPr>
          <a:xfrm rot="401400">
            <a:off x="5216400" y="1522080"/>
            <a:ext cx="3391200" cy="4430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Lenochka\Desktop\карамельки\18-19\Новая папка\0-02-04-aca28274bb8f421c439052e2a27a90eef7cbb16b18d686658beaa958620ab14c_4a7d0b02.jpg"/>
          <p:cNvPicPr/>
          <p:nvPr/>
        </p:nvPicPr>
        <p:blipFill>
          <a:blip r:embed="rId4"/>
          <a:stretch/>
        </p:blipFill>
        <p:spPr>
          <a:xfrm rot="21129600">
            <a:off x="1018800" y="1544400"/>
            <a:ext cx="33037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7200" y="731880"/>
            <a:ext cx="8229600" cy="1554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Lenochka\Desktop\карамельки\18-19\Новая папка\IMG_5855.JPG"/>
          <p:cNvPicPr/>
          <p:nvPr/>
        </p:nvPicPr>
        <p:blipFill>
          <a:blip r:embed="rId3"/>
          <a:stretch/>
        </p:blipFill>
        <p:spPr>
          <a:xfrm rot="21195000">
            <a:off x="280800" y="2604600"/>
            <a:ext cx="4551120" cy="303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Lenochka\Desktop\карамельки\18-19\Новая папка\IMG_5861.JPG"/>
          <p:cNvPicPr/>
          <p:nvPr/>
        </p:nvPicPr>
        <p:blipFill>
          <a:blip r:embed="rId4"/>
          <a:stretch/>
        </p:blipFill>
        <p:spPr>
          <a:xfrm rot="433800">
            <a:off x="4626000" y="2786040"/>
            <a:ext cx="42782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9360" y="-1908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317520" y="950760"/>
            <a:ext cx="8570880" cy="154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Lenochka\Desktop\карамельки\18-19\Новая папка\IMG_5849.JPG"/>
          <p:cNvPicPr/>
          <p:nvPr/>
        </p:nvPicPr>
        <p:blipFill>
          <a:blip r:embed="rId3"/>
          <a:stretch/>
        </p:blipFill>
        <p:spPr>
          <a:xfrm rot="21163200">
            <a:off x="466560" y="2400120"/>
            <a:ext cx="4384800" cy="2547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Lenochka\Desktop\карамельки\18-19\Новая папка\IMG_5853.JPG"/>
          <p:cNvPicPr/>
          <p:nvPr/>
        </p:nvPicPr>
        <p:blipFill>
          <a:blip r:embed="rId4"/>
          <a:stretch/>
        </p:blipFill>
        <p:spPr>
          <a:xfrm rot="408000">
            <a:off x="4449240" y="3447720"/>
            <a:ext cx="414036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42840" y="17640"/>
            <a:ext cx="9183600" cy="6886440"/>
          </a:xfrm>
          <a:prstGeom prst="rect">
            <a:avLst/>
          </a:prstGeom>
          <a:ln w="0">
            <a:noFill/>
          </a:ln>
        </p:spPr>
      </p:pic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517680" y="804960"/>
            <a:ext cx="8229600" cy="154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" descr="D:\фото\Новая папка\IMG_8151.JPG"/>
          <p:cNvPicPr/>
          <p:nvPr/>
        </p:nvPicPr>
        <p:blipFill>
          <a:blip r:embed="rId3"/>
          <a:stretch/>
        </p:blipFill>
        <p:spPr>
          <a:xfrm rot="20862000">
            <a:off x="793440" y="3119040"/>
            <a:ext cx="4226040" cy="2817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Lenochka\Desktop\карамельки\18-19\Новая папка\0-02-04-3492f8942b401c18c4bb7b587fb925e7ab4f644fe8e7eb40ad309618ec109eef_25065fea.jpg"/>
          <p:cNvPicPr/>
          <p:nvPr/>
        </p:nvPicPr>
        <p:blipFill>
          <a:blip r:embed="rId4"/>
          <a:stretch/>
        </p:blipFill>
        <p:spPr>
          <a:xfrm rot="852600">
            <a:off x="4952520" y="2957040"/>
            <a:ext cx="37814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ÐÐ°ÑÑÐ¸Ð½ÐºÐ¸ Ð¿Ð¾ Ð·Ð°Ð¿ÑÐ¾ÑÑ ÑÐ¾Ð½  ÑÐ°ÑÑÐ»Ð°Ð±Ð»ÑÑÑÐ¸Ð¹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Rectangle 2" descr=""/>
          <p:cNvPicPr/>
          <p:nvPr/>
        </p:nvPicPr>
        <p:blipFill>
          <a:blip r:embed="rId2"/>
          <a:stretch/>
        </p:blipFill>
        <p:spPr>
          <a:xfrm>
            <a:off x="811080" y="92160"/>
            <a:ext cx="7551720" cy="1547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3708360" y="1125360"/>
            <a:ext cx="5256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00000" y="1557000"/>
            <a:ext cx="684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Вод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Песок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Музык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Прогулки или занятия спортом на улице</a:t>
            </a:r>
            <a:r>
              <a:rPr b="0" i="1" lang="ru-RU" sz="3600" spc="-1" strike="noStrike">
                <a:solidFill>
                  <a:srgbClr val="660066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Изотерап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Аромотерапи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Самомассаж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09:18:03Z</dcterms:created>
  <dc:creator>User</dc:creator>
  <dc:description/>
  <dc:language>en-US</dc:language>
  <cp:lastModifiedBy>Lenochka</cp:lastModifiedBy>
  <dcterms:modified xsi:type="dcterms:W3CDTF">2020-02-03T14:45:38Z</dcterms:modified>
  <cp:revision>84</cp:revision>
  <dc:subject/>
  <dc:title>Слайд 1</dc:title>
</cp:coreProperties>
</file>