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FC0-CD35-49A2-900E-9236C223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532-D99B-47E4-96D4-F2FA15B2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FB6-5F22-418D-8C66-33BE4A21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F95-995D-48FF-BE8E-BDAF1738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6B38-5CA7-41C0-9721-AF85BAEE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C8C-67CA-4FED-892B-B7065127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501-E221-4DF4-B412-7F251D47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3D3-2FDC-49E8-8E08-11EF0A05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900-2DCB-4786-885D-EAE0FB48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991-2991-462C-9C7D-D5837598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DB0-0C7D-487A-8C0B-614953BD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507-5E4A-4982-BDED-39C9AEC6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F29C-A7FA-43D1-A402-4F03CADD8AA8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8000" spc="-1" strike="noStrike">
                <a:solidFill>
                  <a:srgbClr val="cc00cc"/>
                </a:solidFill>
                <a:latin typeface="Calibri Light"/>
              </a:rPr>
              <a:t>  </a:t>
            </a:r>
            <a:r>
              <a:rPr b="1" i="1" lang="en-US" sz="8000" spc="-1" strike="noStrike">
                <a:solidFill>
                  <a:srgbClr val="cc00cc"/>
                </a:solidFill>
                <a:latin typeface="Calibri Light"/>
              </a:rPr>
              <a:t>Present    Tenses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Некоторые из этих глаголов могут употребляться в </a:t>
            </a:r>
            <a:r>
              <a:rPr b="1" i="1" lang="en-US" sz="3300" spc="-1" strike="noStrike" u="sng">
                <a:solidFill>
                  <a:srgbClr val="ff0000"/>
                </a:solidFill>
                <a:uFillTx/>
                <a:latin typeface="Calibri Light"/>
              </a:rPr>
              <a:t>Present Continuous</a:t>
            </a: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, но с иным значением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24000" y="189000"/>
          <a:ext cx="8569080" cy="6480000"/>
        </p:xfrm>
        <a:graphic>
          <a:graphicData uri="http://schemas.openxmlformats.org/drawingml/2006/table">
            <a:tbl>
              <a:tblPr/>
              <a:tblGrid>
                <a:gridCol w="3168360"/>
                <a:gridCol w="54007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00cc"/>
                          </a:solidFill>
                          <a:latin typeface="Times New Roman"/>
                        </a:rPr>
                        <a:t>Present Simp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00cc"/>
                          </a:solidFill>
                          <a:latin typeface="Times New Roman"/>
                        </a:rPr>
                        <a:t>Present Continu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H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hin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he’s beautifu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думать, полага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e think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out going to Fr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обдумывать, размышля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ha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welve ca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иметь, владе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es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hav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 great time at schoo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хорошо проводить врем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having a showe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принимать душ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e having dinne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обеда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he tree in my gard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виде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’m see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John this afterno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встречать(с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24000" y="189000"/>
          <a:ext cx="8569080" cy="6340320"/>
        </p:xfrm>
        <a:graphic>
          <a:graphicData uri="http://schemas.openxmlformats.org/drawingml/2006/table">
            <a:tbl>
              <a:tblPr/>
              <a:tblGrid>
                <a:gridCol w="3816360"/>
                <a:gridCol w="4752720"/>
              </a:tblGrid>
              <a:tr h="14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A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coffe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ast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goo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быть на вку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tast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he pudd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пробовать на вку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M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 perfum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mell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wee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пахну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smell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he ros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нюха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PP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ppear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know the w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быть очевидны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appear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a Shakespeare pl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выступать, играть, появлятьс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dress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it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 perfectl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быть впору, нужного размер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m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fitt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 new lock on the bathroom doo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устанавлива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AutoShape 26"/>
          <p:cNvSpPr/>
          <p:nvPr/>
        </p:nvSpPr>
        <p:spPr>
          <a:xfrm>
            <a:off x="802800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Calibri Light"/>
              </a:rPr>
              <a:t>Present Perfect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Настоящее  совершенное время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употребляется для</a:t>
            </a:r>
            <a:r>
              <a:rPr b="1" i="1" lang="en-US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обозначения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920" y="1773360"/>
            <a:ext cx="8424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законченного действия, произошедшего в прошлом в неустановленное время, связанного с настоящим через результ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have see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this fil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tasha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has bee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to the USA tw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действия, начавшегося в прошлом и продолжающегося до сих пор, особенно с глаголами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Calibri"/>
              </a:rPr>
              <a:t>be, have, like, know</a:t>
            </a:r>
            <a:r>
              <a:rPr b="1" lang="en-US" sz="2800" spc="-1" strike="noStrike">
                <a:solidFill>
                  <a:srgbClr val="0000cc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have know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her for 8 yea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268360" y="1125360"/>
            <a:ext cx="431964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ve / has +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9900ff"/>
                </a:solidFill>
                <a:latin typeface="Calibri Light"/>
              </a:rPr>
              <a:t>Указатели времени, употребляемые с</a:t>
            </a: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 Light"/>
              </a:rPr>
              <a:t>Present Perfec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si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j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alre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8360" y="1773360"/>
            <a:ext cx="820728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19640" y="1989000"/>
            <a:ext cx="547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y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ever/ne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lately / recent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this week /year /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8028000" y="587700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8495" y="10800"/>
                </a:moveTo>
                <a:lnTo>
                  <a:pt x="19000" y="3794"/>
                </a:lnTo>
                <a:lnTo>
                  <a:pt x="19000" y="17806"/>
                </a:lnTo>
                <a:close/>
              </a:path>
              <a:path fill="darken" w="23988" h="21600">
                <a:moveTo>
                  <a:pt x="4988" y="3794"/>
                </a:moveTo>
                <a:lnTo>
                  <a:pt x="6650" y="3794"/>
                </a:lnTo>
                <a:lnTo>
                  <a:pt x="6650" y="17806"/>
                </a:lnTo>
                <a:lnTo>
                  <a:pt x="4988" y="17806"/>
                </a:lnTo>
                <a:close/>
              </a:path>
            </a:pathLst>
          </a:custGeom>
          <a:solidFill>
            <a:srgbClr val="056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 u="sng">
                <a:solidFill>
                  <a:srgbClr val="008000"/>
                </a:solidFill>
                <a:uFillTx/>
                <a:latin typeface="Calibri Light"/>
              </a:rPr>
              <a:t>Present Perfect Continuous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Calibri Light"/>
              </a:rPr>
              <a:t>Настоящее  совершенное продолженное время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alibri Light"/>
              </a:rPr>
              <a:t>употребляется для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2276640"/>
            <a:ext cx="84247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обозначения длительности действия, которое началось в прошлом и продолжается в настояще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e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have been cook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since 10 o’clock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описания действия, которое началось и закончилось в прошлом и результаты которого очевидны в настояще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our hands are dirty.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Hav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been paint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835280" y="1484280"/>
            <a:ext cx="547344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/ has + been + 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9900ff"/>
                </a:solidFill>
                <a:latin typeface="Calibri Light"/>
              </a:rPr>
              <a:t>Указатели времени, употребляемые с</a:t>
            </a: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 Light"/>
              </a:rPr>
              <a:t>Present Perfect Continuou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19564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si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How l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5"/>
          <p:cNvSpPr/>
          <p:nvPr/>
        </p:nvSpPr>
        <p:spPr>
          <a:xfrm>
            <a:off x="468360" y="1773360"/>
            <a:ext cx="820728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0"/>
          <a:ext cx="9144000" cy="6910560"/>
        </p:xfrm>
        <a:graphic>
          <a:graphicData uri="http://schemas.openxmlformats.org/drawingml/2006/table">
            <a:tbl>
              <a:tblPr/>
              <a:tblGrid>
                <a:gridCol w="1042920"/>
                <a:gridCol w="2089080"/>
                <a:gridCol w="2376720"/>
                <a:gridCol w="36352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resent Simp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resent Continu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 we, you,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, she, 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+ s (es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+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on’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oesn’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+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+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…+ V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oes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…+V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+ … +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1773360"/>
            <a:ext cx="8351640" cy="180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marL="762120" indent="-762120">
              <a:lnSpc>
                <a:spcPct val="90000"/>
              </a:lnSpc>
              <a:buClr>
                <a:srgbClr val="9900cc"/>
              </a:buClr>
              <a:buFont typeface="Calibri Light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6000" spc="-1" strike="noStrike">
                <a:solidFill>
                  <a:srgbClr val="9900cc"/>
                </a:solidFill>
                <a:latin typeface="Calibri Light"/>
              </a:rPr>
              <a:t>I _____ (drink) coffee with my friend now</a:t>
            </a:r>
            <a:r>
              <a:rPr b="0" lang="en-US" sz="4000" spc="-1" strike="noStrike">
                <a:solidFill>
                  <a:srgbClr val="9900cc"/>
                </a:solidFill>
                <a:latin typeface="Calibri Ligh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642160" cy="230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4800" spc="-1" strike="noStrike">
                <a:solidFill>
                  <a:srgbClr val="9900cc"/>
                </a:solidFill>
                <a:latin typeface="Calibri Light"/>
              </a:rPr>
              <a:t>2. She ____ (go) to the swimming-pool on Wednesdays.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4"/>
          <p:cNvSpPr/>
          <p:nvPr/>
        </p:nvSpPr>
        <p:spPr>
          <a:xfrm>
            <a:off x="1332000" y="333360"/>
            <a:ext cx="6696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d7d31"/>
                </a:solidFill>
                <a:latin typeface="Times New Roman"/>
              </a:rPr>
              <a:t>Present Ten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9">
            <a:hlinkClick r:id="" action="ppaction://hlinkshowjump?jump=nextslide"/>
          </p:cNvPr>
          <p:cNvSpPr/>
          <p:nvPr/>
        </p:nvSpPr>
        <p:spPr>
          <a:xfrm>
            <a:off x="1547640" y="2276640"/>
            <a:ext cx="5185080" cy="647640"/>
          </a:xfrm>
          <a:custGeom>
            <a:avLst/>
            <a:gdLst>
              <a:gd name="textAreaLeft" fmla="*/ 41760 w 5185080"/>
              <a:gd name="textAreaRight" fmla="*/ 5143320 w 518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72848" h="21600">
                <a:moveTo>
                  <a:pt x="0" y="0"/>
                </a:moveTo>
                <a:lnTo>
                  <a:pt x="172848" y="0"/>
                </a:lnTo>
                <a:lnTo>
                  <a:pt x="172848" y="21600"/>
                </a:lnTo>
                <a:lnTo>
                  <a:pt x="0" y="21600"/>
                </a:lnTo>
                <a:close/>
              </a:path>
              <a:path fill="lightenLess" w="172848" h="21600">
                <a:moveTo>
                  <a:pt x="0" y="0"/>
                </a:moveTo>
                <a:lnTo>
                  <a:pt x="172848" y="0"/>
                </a:lnTo>
                <a:lnTo>
                  <a:pt x="171448" y="1400"/>
                </a:lnTo>
                <a:lnTo>
                  <a:pt x="1400" y="1400"/>
                </a:lnTo>
                <a:close/>
              </a:path>
              <a:path fill="darken" w="172848" h="21600">
                <a:moveTo>
                  <a:pt x="172848" y="0"/>
                </a:moveTo>
                <a:lnTo>
                  <a:pt x="172848" y="21600"/>
                </a:lnTo>
                <a:lnTo>
                  <a:pt x="171448" y="20200"/>
                </a:lnTo>
                <a:lnTo>
                  <a:pt x="171448" y="1400"/>
                </a:lnTo>
                <a:close/>
              </a:path>
              <a:path fill="darkenLess" w="172848" h="21600">
                <a:moveTo>
                  <a:pt x="172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448" y="20200"/>
                </a:lnTo>
                <a:close/>
              </a:path>
              <a:path fill="lighten" w="172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0"/>
          <p:cNvSpPr/>
          <p:nvPr/>
        </p:nvSpPr>
        <p:spPr>
          <a:xfrm>
            <a:off x="1547640" y="3284640"/>
            <a:ext cx="5256360" cy="649080"/>
          </a:xfrm>
          <a:custGeom>
            <a:avLst/>
            <a:gdLst>
              <a:gd name="textAreaLeft" fmla="*/ 41760 w 5256360"/>
              <a:gd name="textAreaRight" fmla="*/ 5214600 w 5256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174835" h="21600">
                <a:moveTo>
                  <a:pt x="0" y="0"/>
                </a:moveTo>
                <a:lnTo>
                  <a:pt x="174835" y="0"/>
                </a:lnTo>
                <a:lnTo>
                  <a:pt x="174835" y="21600"/>
                </a:lnTo>
                <a:lnTo>
                  <a:pt x="0" y="21600"/>
                </a:lnTo>
                <a:close/>
              </a:path>
              <a:path fill="lightenLess" w="174835" h="21600">
                <a:moveTo>
                  <a:pt x="0" y="0"/>
                </a:moveTo>
                <a:lnTo>
                  <a:pt x="174835" y="0"/>
                </a:lnTo>
                <a:lnTo>
                  <a:pt x="173436" y="1400"/>
                </a:lnTo>
                <a:lnTo>
                  <a:pt x="1400" y="1400"/>
                </a:lnTo>
                <a:close/>
              </a:path>
              <a:path fill="darken" w="174835" h="21600">
                <a:moveTo>
                  <a:pt x="174835" y="0"/>
                </a:moveTo>
                <a:lnTo>
                  <a:pt x="174835" y="21600"/>
                </a:lnTo>
                <a:lnTo>
                  <a:pt x="173436" y="20200"/>
                </a:lnTo>
                <a:lnTo>
                  <a:pt x="173436" y="1400"/>
                </a:lnTo>
                <a:close/>
              </a:path>
              <a:path fill="darkenLess" w="174835" h="21600">
                <a:moveTo>
                  <a:pt x="174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436" y="20200"/>
                </a:lnTo>
                <a:close/>
              </a:path>
              <a:path fill="lighten" w="174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1"/>
          <p:cNvSpPr/>
          <p:nvPr/>
        </p:nvSpPr>
        <p:spPr>
          <a:xfrm>
            <a:off x="1547640" y="4221000"/>
            <a:ext cx="5256360" cy="576360"/>
          </a:xfrm>
          <a:custGeom>
            <a:avLst/>
            <a:gdLst>
              <a:gd name="textAreaLeft" fmla="*/ 37080 w 5256360"/>
              <a:gd name="textAreaRight" fmla="*/ 5219280 w 525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96881" h="21600">
                <a:moveTo>
                  <a:pt x="0" y="0"/>
                </a:moveTo>
                <a:lnTo>
                  <a:pt x="196881" y="0"/>
                </a:lnTo>
                <a:lnTo>
                  <a:pt x="196881" y="21600"/>
                </a:lnTo>
                <a:lnTo>
                  <a:pt x="0" y="21600"/>
                </a:lnTo>
                <a:close/>
              </a:path>
              <a:path fill="lightenLess" w="196881" h="21600">
                <a:moveTo>
                  <a:pt x="0" y="0"/>
                </a:moveTo>
                <a:lnTo>
                  <a:pt x="196881" y="0"/>
                </a:lnTo>
                <a:lnTo>
                  <a:pt x="195481" y="1400"/>
                </a:lnTo>
                <a:lnTo>
                  <a:pt x="1400" y="1400"/>
                </a:lnTo>
                <a:close/>
              </a:path>
              <a:path fill="darken" w="196881" h="21600">
                <a:moveTo>
                  <a:pt x="196881" y="0"/>
                </a:moveTo>
                <a:lnTo>
                  <a:pt x="196881" y="21600"/>
                </a:lnTo>
                <a:lnTo>
                  <a:pt x="195481" y="20200"/>
                </a:lnTo>
                <a:lnTo>
                  <a:pt x="195481" y="1400"/>
                </a:lnTo>
                <a:close/>
              </a:path>
              <a:path fill="darkenLess" w="196881" h="21600">
                <a:moveTo>
                  <a:pt x="19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481" y="20200"/>
                </a:lnTo>
                <a:close/>
              </a:path>
              <a:path fill="lighten" w="19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 Per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1547640" y="5229360"/>
            <a:ext cx="5329440" cy="647640"/>
          </a:xfrm>
          <a:custGeom>
            <a:avLst/>
            <a:gdLst>
              <a:gd name="textAreaLeft" fmla="*/ 41760 w 5329440"/>
              <a:gd name="textAreaRight" fmla="*/ 5287680 w 532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77660" h="21600">
                <a:moveTo>
                  <a:pt x="0" y="0"/>
                </a:moveTo>
                <a:lnTo>
                  <a:pt x="177660" y="0"/>
                </a:lnTo>
                <a:lnTo>
                  <a:pt x="177660" y="21600"/>
                </a:lnTo>
                <a:lnTo>
                  <a:pt x="0" y="21600"/>
                </a:lnTo>
                <a:close/>
              </a:path>
              <a:path fill="lightenLess" w="177660" h="21600">
                <a:moveTo>
                  <a:pt x="0" y="0"/>
                </a:moveTo>
                <a:lnTo>
                  <a:pt x="177660" y="0"/>
                </a:lnTo>
                <a:lnTo>
                  <a:pt x="176260" y="1400"/>
                </a:lnTo>
                <a:lnTo>
                  <a:pt x="1400" y="1400"/>
                </a:lnTo>
                <a:close/>
              </a:path>
              <a:path fill="darken" w="177660" h="21600">
                <a:moveTo>
                  <a:pt x="177660" y="0"/>
                </a:moveTo>
                <a:lnTo>
                  <a:pt x="177660" y="21600"/>
                </a:lnTo>
                <a:lnTo>
                  <a:pt x="176260" y="20200"/>
                </a:lnTo>
                <a:lnTo>
                  <a:pt x="176260" y="1400"/>
                </a:lnTo>
                <a:close/>
              </a:path>
              <a:path fill="darkenLess" w="177660" h="21600">
                <a:moveTo>
                  <a:pt x="177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6260" y="20200"/>
                </a:lnTo>
                <a:close/>
              </a:path>
              <a:path fill="lighten" w="177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250920" y="620640"/>
            <a:ext cx="144360" cy="525636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50920" y="620640"/>
            <a:ext cx="1008000" cy="14436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5"/>
          <p:cNvSpPr/>
          <p:nvPr/>
        </p:nvSpPr>
        <p:spPr>
          <a:xfrm>
            <a:off x="611280" y="2492280"/>
            <a:ext cx="718920" cy="216000"/>
          </a:xfrm>
          <a:prstGeom prst="rightArrow">
            <a:avLst>
              <a:gd name="adj1" fmla="val 50000"/>
              <a:gd name="adj2" fmla="val 83208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611280" y="3429000"/>
            <a:ext cx="718920" cy="216000"/>
          </a:xfrm>
          <a:prstGeom prst="rightArrow">
            <a:avLst>
              <a:gd name="adj1" fmla="val 50000"/>
              <a:gd name="adj2" fmla="val 83208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611280" y="4365720"/>
            <a:ext cx="718920" cy="215640"/>
          </a:xfrm>
          <a:prstGeom prst="rightArrow">
            <a:avLst>
              <a:gd name="adj1" fmla="val 50000"/>
              <a:gd name="adj2" fmla="val 83347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611280" y="5445000"/>
            <a:ext cx="718920" cy="216000"/>
          </a:xfrm>
          <a:prstGeom prst="rightArrow">
            <a:avLst>
              <a:gd name="adj1" fmla="val 50000"/>
              <a:gd name="adj2" fmla="val 83208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2420640"/>
            <a:ext cx="8497800" cy="208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6000" spc="-1" strike="noStrike">
                <a:solidFill>
                  <a:srgbClr val="009900"/>
                </a:solidFill>
                <a:latin typeface="Calibri Light"/>
              </a:rPr>
              <a:t>3. My grandparents ____ (live) in England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640720" cy="180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Calibri Light"/>
              </a:rPr>
              <a:t>4. Listen! Tom ___ (play) the guitar</a:t>
            </a:r>
            <a:r>
              <a:rPr b="1" i="1" lang="en-US" sz="6000" spc="-1" strike="noStrike">
                <a:solidFill>
                  <a:srgbClr val="ff0066"/>
                </a:solidFill>
                <a:latin typeface="Calibri Light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496000" cy="172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alibri Light"/>
              </a:rPr>
              <a:t>5. Richard ____ (speak) German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988640"/>
            <a:ext cx="8785440" cy="208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6000" spc="-1" strike="noStrike">
                <a:solidFill>
                  <a:srgbClr val="0000cc"/>
                </a:solidFill>
                <a:latin typeface="Calibri Light"/>
              </a:rPr>
              <a:t>6. Mary ___ (get) more and more beautiful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8642160" cy="25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cc00ff"/>
                </a:solidFill>
                <a:latin typeface="Calibri Light"/>
              </a:rPr>
              <a:t>7. I’m in a hurry because my favourite film _____ (start) in ten minutes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1916280"/>
            <a:ext cx="8569080" cy="201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006699"/>
                </a:solidFill>
                <a:latin typeface="Calibri Light"/>
              </a:rPr>
              <a:t>8. My mother _____ (teach) Maths at the university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989000"/>
            <a:ext cx="8640720" cy="24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009900"/>
                </a:solidFill>
                <a:latin typeface="Calibri Light"/>
              </a:rPr>
              <a:t>9. My younger sister   _____ (constantly / listen) to loud music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989000"/>
            <a:ext cx="8785440" cy="273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006600"/>
                </a:solidFill>
                <a:latin typeface="Calibri Light"/>
              </a:rPr>
              <a:t>10. In winter children usually ____ (play) snowballs and ____ (make) a snowman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988640"/>
            <a:ext cx="8785440" cy="208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cc00ff"/>
                </a:solidFill>
                <a:latin typeface="Calibri Light"/>
              </a:rPr>
              <a:t>11. My friend _____ (not/like) to write a composition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8569080" cy="194292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libri Light"/>
              </a:rPr>
              <a:t>12. We ____ (go) to Spain for a week this summer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Calibri Light"/>
              </a:rPr>
              <a:t>Present Simple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Calibri Light"/>
              </a:rPr>
              <a:t>Настоящее простое время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употребляется когда речь идет о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557000"/>
            <a:ext cx="8424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постоянных действия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rk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liv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in New Zealan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непреложных истинах и законах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природ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Moon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go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round the Eart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привычках и повседневных действия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 always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clean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the house at weeken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404280"/>
            <a:ext cx="84247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расписаниях и программа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train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leav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t 6:00 a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спортивных комментариях, обзорах, повествования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ckham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win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the ball, then he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cross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nd Owen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scor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ryl Streep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act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beautifully in this fil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9900ff"/>
                </a:solidFill>
                <a:latin typeface="Calibri Light"/>
              </a:rPr>
              <a:t>Указатели времени, употребляемые с</a:t>
            </a: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 Light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4000" y="1773360"/>
            <a:ext cx="302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al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usua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of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someti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08000" y="17733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ne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sel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every day/week/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on Fridays /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6"/>
          <p:cNvSpPr/>
          <p:nvPr/>
        </p:nvSpPr>
        <p:spPr>
          <a:xfrm>
            <a:off x="468360" y="1773360"/>
            <a:ext cx="820728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7812000" y="5805360"/>
            <a:ext cx="792360" cy="64800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409" h="21600">
                <a:moveTo>
                  <a:pt x="0" y="0"/>
                </a:moveTo>
                <a:lnTo>
                  <a:pt x="26409" y="0"/>
                </a:lnTo>
                <a:lnTo>
                  <a:pt x="26409" y="21600"/>
                </a:lnTo>
                <a:lnTo>
                  <a:pt x="0" y="21600"/>
                </a:lnTo>
                <a:close/>
              </a:path>
              <a:path fill="lightenLess" w="26409" h="21600">
                <a:moveTo>
                  <a:pt x="0" y="0"/>
                </a:moveTo>
                <a:lnTo>
                  <a:pt x="26409" y="0"/>
                </a:lnTo>
                <a:lnTo>
                  <a:pt x="25009" y="1400"/>
                </a:lnTo>
                <a:lnTo>
                  <a:pt x="1400" y="1400"/>
                </a:lnTo>
                <a:close/>
              </a:path>
              <a:path fill="darken" w="26409" h="21600">
                <a:moveTo>
                  <a:pt x="26409" y="0"/>
                </a:moveTo>
                <a:lnTo>
                  <a:pt x="26409" y="21600"/>
                </a:lnTo>
                <a:lnTo>
                  <a:pt x="25009" y="20200"/>
                </a:lnTo>
                <a:lnTo>
                  <a:pt x="25009" y="1400"/>
                </a:lnTo>
                <a:close/>
              </a:path>
              <a:path fill="darkenLess" w="26409" h="21600">
                <a:moveTo>
                  <a:pt x="26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9" y="20200"/>
                </a:lnTo>
                <a:close/>
              </a:path>
              <a:path fill="lighten" w="26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9" h="21600">
                <a:moveTo>
                  <a:pt x="9706" y="10800"/>
                </a:moveTo>
                <a:lnTo>
                  <a:pt x="20211" y="3794"/>
                </a:lnTo>
                <a:lnTo>
                  <a:pt x="20211" y="17806"/>
                </a:lnTo>
                <a:close/>
              </a:path>
              <a:path fill="darken" w="26409" h="21600">
                <a:moveTo>
                  <a:pt x="6198" y="3794"/>
                </a:moveTo>
                <a:lnTo>
                  <a:pt x="7861" y="3794"/>
                </a:lnTo>
                <a:lnTo>
                  <a:pt x="7861" y="17806"/>
                </a:lnTo>
                <a:lnTo>
                  <a:pt x="6198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Calibri Light"/>
              </a:rPr>
              <a:t>Present Continuous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Calibri Light"/>
              </a:rPr>
              <a:t>Настоящее продолженное время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)  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употребляется когда речь идет о</a:t>
            </a: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125360"/>
            <a:ext cx="842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действиях, происходящих в данный мом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um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s cook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in the kitch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запланированных действиях в будущ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am go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shopping this afterno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в меняющихся и развивающихся ситуац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s gett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colder. Let’s go ho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с такими наречиями, как 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Calibri"/>
              </a:rPr>
              <a:t>always</a:t>
            </a:r>
            <a:r>
              <a:rPr b="1" lang="en-US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и 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Calibri"/>
              </a:rPr>
              <a:t>constantly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, для выражения раздра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lways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los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her ke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9900ff"/>
                </a:solidFill>
                <a:latin typeface="Calibri Light"/>
              </a:rPr>
              <a:t>Указатели времени, употребляемые с</a:t>
            </a: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 Light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4000" y="227664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at the mo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at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these d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859280" y="220500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sti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ton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tomorr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5"/>
          <p:cNvSpPr/>
          <p:nvPr/>
        </p:nvSpPr>
        <p:spPr>
          <a:xfrm>
            <a:off x="468360" y="1773360"/>
            <a:ext cx="820728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Calibri Light"/>
              </a:rPr>
              <a:t>Глаголы состояния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en-US" sz="4000" spc="-1" strike="noStrike" u="sng">
                <a:solidFill>
                  <a:srgbClr val="9900cc"/>
                </a:solidFill>
                <a:uFillTx/>
                <a:latin typeface="Calibri Light"/>
              </a:rPr>
              <a:t>stative verbs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9810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В английском языке есть так называемые глаголы состояния, которые обозначают состояние, а не действие предмета/лиц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Эти глаголы не употребляются в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2100" spc="-1" strike="noStrike" u="sng">
                <a:solidFill>
                  <a:srgbClr val="ff0000"/>
                </a:solidFill>
                <a:uFillTx/>
                <a:latin typeface="Calibri"/>
              </a:rPr>
              <a:t>Present Continuou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 Light"/>
              </a:rPr>
              <a:t>Среди них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052280"/>
            <a:ext cx="8642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9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 u="sng">
                <a:solidFill>
                  <a:srgbClr val="9900cc"/>
                </a:solidFill>
                <a:uFillTx/>
                <a:latin typeface="Calibri"/>
              </a:rPr>
              <a:t>глаголы восприятия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(appear, hear, see, seem, smell, sound, taste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9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9900cc"/>
                </a:solidFill>
                <a:latin typeface="Calibri"/>
              </a:rPr>
              <a:t>глаголы мыслительной деятельности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(know, realise, believe, forget, remember, understand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9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9900cc"/>
                </a:solidFill>
                <a:latin typeface="Calibri"/>
              </a:rPr>
              <a:t>глаголы, выражающие чувства и эмоции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(like, love, prefer, desire, want, hate, enjoy, wish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9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9900cc"/>
                </a:solidFill>
                <a:latin typeface="Calibri"/>
              </a:rPr>
              <a:t>некоторые другие глаголы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(be, belong, fit, contain, cost, have, include, need, own, matter, weigh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а</dc:creator>
  <dc:description/>
  <dc:language>en-US</dc:language>
  <cp:lastModifiedBy>Пользователь Windows</cp:lastModifiedBy>
  <dcterms:modified xsi:type="dcterms:W3CDTF">2020-01-06T09:25:04Z</dcterms:modified>
  <cp:revision>5</cp:revision>
  <dc:subject/>
  <dc:title>PowerPoint Presentation</dc:title>
</cp:coreProperties>
</file>