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C8D-A96F-4495-BEE1-B5484C40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574-9C2D-42C6-9481-B5BC828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40F-5818-4FBF-9B5D-F4C1633F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8E9-4350-4806-9620-12E4046D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378-DCCA-4D7F-BAE1-3E25ED44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80F-3F22-4645-B561-745C5693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370-96F5-4189-A09D-4112A3A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D81-C545-4315-AD75-1DC3179D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104-D55F-4289-8A13-EBCDB06A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C8C-FE21-4F65-85C0-FDF39303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7B8-0173-41DF-BD8C-55B5FEE3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730-7A99-4DDE-BA22-1723B663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022-86CB-4DCC-A901-3959268F52E2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8000" spc="-1" strike="noStrike">
                <a:solidFill>
                  <a:srgbClr val="cc00cc"/>
                </a:solidFill>
                <a:latin typeface="Calibri Light"/>
              </a:rPr>
              <a:t>  </a:t>
            </a:r>
            <a:r>
              <a:rPr b="1" i="1" lang="en-US" sz="8000" spc="-1" strike="noStrike">
                <a:solidFill>
                  <a:srgbClr val="cc00cc"/>
                </a:solidFill>
                <a:latin typeface="Calibri Light"/>
              </a:rPr>
              <a:t>Present    Tenses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Некоторые из этих глаголов могут употребляться в </a:t>
            </a:r>
            <a:r>
              <a:rPr b="1" i="1" lang="en-US" sz="3300" spc="-1" strike="noStrike" u="sng">
                <a:solidFill>
                  <a:srgbClr val="ff0000"/>
                </a:solidFill>
                <a:uFillTx/>
                <a:latin typeface="Calibri Light"/>
              </a:rPr>
              <a:t>Present Continuous</a:t>
            </a: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, но с иным значением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Present Sim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Present Continu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hin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he’s beautifu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думать, полаг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e think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going to Fr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обдумывать, размышля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welve ca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иметь, владе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hav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great time at schoo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хорошо проводить врем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having a show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принимать душ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e having dinn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обед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tree in my gard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виде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’m see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John this afterno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встречать(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4000" y="189000"/>
          <a:ext cx="8569080" cy="6340320"/>
        </p:xfrm>
        <a:graphic>
          <a:graphicData uri="http://schemas.openxmlformats.org/drawingml/2006/table">
            <a:tbl>
              <a:tblPr/>
              <a:tblGrid>
                <a:gridCol w="3816360"/>
                <a:gridCol w="4752720"/>
              </a:tblGrid>
              <a:tr h="14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A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coffe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ast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oo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быть на вку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tast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pudd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пробовать на вку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M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 perfum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mell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we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пахну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smell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ro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нюх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PP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ppea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know the w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быть очевидны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appear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a Shakespeare pl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выступать, играть, появлять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res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i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 perfect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быть впору, нужного размер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fitt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new lock on the bathroom do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устанавлив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26"/>
          <p:cNvSpPr/>
          <p:nvPr/>
        </p:nvSpPr>
        <p:spPr>
          <a:xfrm>
            <a:off x="8028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Perfect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Настоящее  совершенное время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для</a:t>
            </a:r>
            <a:r>
              <a:rPr b="1" i="1" lang="en-US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обозначения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1773360"/>
            <a:ext cx="842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законченного действия, произошедшего в прошлом в неустановленное время, связанного с настоящим через результ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see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this fil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asha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s bee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to the USA tw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действия, начавшегося в прошлом и продолжающегося до сих пор, особенно с глаголами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alibri"/>
              </a:rPr>
              <a:t>be, have, like, know</a:t>
            </a: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know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er for 8 yea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268360" y="1125360"/>
            <a:ext cx="431964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ve / has +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Perfec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j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lre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19640" y="1989000"/>
            <a:ext cx="547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y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ever/n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lately / recent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this week /year /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8028000" y="5877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8495" y="10800"/>
                </a:moveTo>
                <a:lnTo>
                  <a:pt x="19000" y="3794"/>
                </a:lnTo>
                <a:lnTo>
                  <a:pt x="19000" y="17806"/>
                </a:lnTo>
                <a:close/>
              </a:path>
              <a:path fill="darken" w="23988" h="21600">
                <a:moveTo>
                  <a:pt x="4988" y="3794"/>
                </a:moveTo>
                <a:lnTo>
                  <a:pt x="6650" y="3794"/>
                </a:lnTo>
                <a:lnTo>
                  <a:pt x="6650" y="17806"/>
                </a:lnTo>
                <a:lnTo>
                  <a:pt x="4988" y="17806"/>
                </a:lnTo>
                <a:close/>
              </a:path>
            </a:pathLst>
          </a:cu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Calibri Light"/>
              </a:rPr>
              <a:t>Present Perfect Continuous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 совершенное продолженн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употребляется для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2276640"/>
            <a:ext cx="8424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бозначения длительности действия, которое началось в прошлом и продолжается в настояще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been cook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ince 10 o’clock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писания действия, которое началось и закончилось в прошлом и результаты которого очевидны в настояще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our hands are dirty.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been paint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5280" y="1484280"/>
            <a:ext cx="547344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/ has + been + 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Perfect Continuou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9564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How l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5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144000" cy="6910560"/>
        </p:xfrm>
        <a:graphic>
          <a:graphicData uri="http://schemas.openxmlformats.org/drawingml/2006/table">
            <a:tbl>
              <a:tblPr/>
              <a:tblGrid>
                <a:gridCol w="1042920"/>
                <a:gridCol w="2089080"/>
                <a:gridCol w="2376720"/>
                <a:gridCol w="36352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esent Sim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esent Continu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we, you,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she,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+ s (e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+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n’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esn’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+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…+ V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es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…+V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+ … +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8351640" cy="180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marL="762120" indent="-762120">
              <a:lnSpc>
                <a:spcPct val="90000"/>
              </a:lnSpc>
              <a:buClr>
                <a:srgbClr val="9900cc"/>
              </a:buClr>
              <a:buFont typeface="Calibri Light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9900cc"/>
                </a:solidFill>
                <a:latin typeface="Calibri Light"/>
              </a:rPr>
              <a:t>I _____ (drink) coffee with my friend now</a:t>
            </a:r>
            <a:r>
              <a:rPr b="0" lang="en-US" sz="4000" spc="-1" strike="noStrike">
                <a:solidFill>
                  <a:srgbClr val="9900cc"/>
                </a:solidFill>
                <a:latin typeface="Calibri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6421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4800" spc="-1" strike="noStrike">
                <a:solidFill>
                  <a:srgbClr val="9900cc"/>
                </a:solidFill>
                <a:latin typeface="Calibri Light"/>
              </a:rPr>
              <a:t>2. She ____ (go) to the swimming-pool on Wednesdays.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"/>
          <p:cNvSpPr/>
          <p:nvPr/>
        </p:nvSpPr>
        <p:spPr>
          <a:xfrm>
            <a:off x="1332000" y="333360"/>
            <a:ext cx="6696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d7d31"/>
                </a:solidFill>
                <a:latin typeface="Times New Roman"/>
              </a:rPr>
              <a:t>Present Ten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1547640" y="2276640"/>
            <a:ext cx="5185080" cy="647640"/>
          </a:xfrm>
          <a:custGeom>
            <a:avLst/>
            <a:gdLst>
              <a:gd name="textAreaLeft" fmla="*/ 41760 w 5185080"/>
              <a:gd name="textAreaRight" fmla="*/ 5143320 w 518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2848" h="21600">
                <a:moveTo>
                  <a:pt x="0" y="0"/>
                </a:moveTo>
                <a:lnTo>
                  <a:pt x="172848" y="0"/>
                </a:lnTo>
                <a:lnTo>
                  <a:pt x="172848" y="21600"/>
                </a:lnTo>
                <a:lnTo>
                  <a:pt x="0" y="21600"/>
                </a:lnTo>
                <a:close/>
              </a:path>
              <a:path fill="lightenLess" w="172848" h="21600">
                <a:moveTo>
                  <a:pt x="0" y="0"/>
                </a:moveTo>
                <a:lnTo>
                  <a:pt x="172848" y="0"/>
                </a:lnTo>
                <a:lnTo>
                  <a:pt x="171448" y="1400"/>
                </a:lnTo>
                <a:lnTo>
                  <a:pt x="1400" y="1400"/>
                </a:lnTo>
                <a:close/>
              </a:path>
              <a:path fill="darken" w="172848" h="21600">
                <a:moveTo>
                  <a:pt x="172848" y="0"/>
                </a:moveTo>
                <a:lnTo>
                  <a:pt x="172848" y="21600"/>
                </a:lnTo>
                <a:lnTo>
                  <a:pt x="171448" y="20200"/>
                </a:lnTo>
                <a:lnTo>
                  <a:pt x="171448" y="1400"/>
                </a:lnTo>
                <a:close/>
              </a:path>
              <a:path fill="darkenLess" w="172848" h="21600">
                <a:moveTo>
                  <a:pt x="17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448" y="20200"/>
                </a:lnTo>
                <a:close/>
              </a:path>
              <a:path fill="lighten" w="17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1547640" y="3284640"/>
            <a:ext cx="5256360" cy="649080"/>
          </a:xfrm>
          <a:custGeom>
            <a:avLst/>
            <a:gdLst>
              <a:gd name="textAreaLeft" fmla="*/ 41760 w 5256360"/>
              <a:gd name="textAreaRight" fmla="*/ 5214600 w 5256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174835" h="21600">
                <a:moveTo>
                  <a:pt x="0" y="0"/>
                </a:moveTo>
                <a:lnTo>
                  <a:pt x="174835" y="0"/>
                </a:lnTo>
                <a:lnTo>
                  <a:pt x="174835" y="21600"/>
                </a:lnTo>
                <a:lnTo>
                  <a:pt x="0" y="21600"/>
                </a:lnTo>
                <a:close/>
              </a:path>
              <a:path fill="lightenLess" w="174835" h="21600">
                <a:moveTo>
                  <a:pt x="0" y="0"/>
                </a:moveTo>
                <a:lnTo>
                  <a:pt x="174835" y="0"/>
                </a:lnTo>
                <a:lnTo>
                  <a:pt x="173436" y="1400"/>
                </a:lnTo>
                <a:lnTo>
                  <a:pt x="1400" y="1400"/>
                </a:lnTo>
                <a:close/>
              </a:path>
              <a:path fill="darken" w="174835" h="21600">
                <a:moveTo>
                  <a:pt x="174835" y="0"/>
                </a:moveTo>
                <a:lnTo>
                  <a:pt x="174835" y="21600"/>
                </a:lnTo>
                <a:lnTo>
                  <a:pt x="173436" y="20200"/>
                </a:lnTo>
                <a:lnTo>
                  <a:pt x="173436" y="1400"/>
                </a:lnTo>
                <a:close/>
              </a:path>
              <a:path fill="darkenLess" w="174835" h="21600">
                <a:moveTo>
                  <a:pt x="174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436" y="20200"/>
                </a:lnTo>
                <a:close/>
              </a:path>
              <a:path fill="lighten" w="174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1547640" y="4221000"/>
            <a:ext cx="5256360" cy="576360"/>
          </a:xfrm>
          <a:custGeom>
            <a:avLst/>
            <a:gdLst>
              <a:gd name="textAreaLeft" fmla="*/ 37080 w 5256360"/>
              <a:gd name="textAreaRight" fmla="*/ 5219280 w 525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96881" h="21600">
                <a:moveTo>
                  <a:pt x="0" y="0"/>
                </a:moveTo>
                <a:lnTo>
                  <a:pt x="196881" y="0"/>
                </a:lnTo>
                <a:lnTo>
                  <a:pt x="196881" y="21600"/>
                </a:lnTo>
                <a:lnTo>
                  <a:pt x="0" y="21600"/>
                </a:lnTo>
                <a:close/>
              </a:path>
              <a:path fill="lightenLess" w="196881" h="21600">
                <a:moveTo>
                  <a:pt x="0" y="0"/>
                </a:moveTo>
                <a:lnTo>
                  <a:pt x="196881" y="0"/>
                </a:lnTo>
                <a:lnTo>
                  <a:pt x="195481" y="1400"/>
                </a:lnTo>
                <a:lnTo>
                  <a:pt x="1400" y="1400"/>
                </a:lnTo>
                <a:close/>
              </a:path>
              <a:path fill="darken" w="196881" h="21600">
                <a:moveTo>
                  <a:pt x="196881" y="0"/>
                </a:moveTo>
                <a:lnTo>
                  <a:pt x="196881" y="21600"/>
                </a:lnTo>
                <a:lnTo>
                  <a:pt x="195481" y="20200"/>
                </a:lnTo>
                <a:lnTo>
                  <a:pt x="195481" y="1400"/>
                </a:lnTo>
                <a:close/>
              </a:path>
              <a:path fill="darkenLess" w="196881" h="21600">
                <a:moveTo>
                  <a:pt x="19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481" y="20200"/>
                </a:lnTo>
                <a:close/>
              </a:path>
              <a:path fill="lighten" w="19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1547640" y="5229360"/>
            <a:ext cx="5329440" cy="647640"/>
          </a:xfrm>
          <a:custGeom>
            <a:avLst/>
            <a:gdLst>
              <a:gd name="textAreaLeft" fmla="*/ 41760 w 5329440"/>
              <a:gd name="textAreaRight" fmla="*/ 5287680 w 532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7660" h="21600">
                <a:moveTo>
                  <a:pt x="0" y="0"/>
                </a:moveTo>
                <a:lnTo>
                  <a:pt x="177660" y="0"/>
                </a:lnTo>
                <a:lnTo>
                  <a:pt x="177660" y="21600"/>
                </a:lnTo>
                <a:lnTo>
                  <a:pt x="0" y="21600"/>
                </a:lnTo>
                <a:close/>
              </a:path>
              <a:path fill="lightenLess" w="177660" h="21600">
                <a:moveTo>
                  <a:pt x="0" y="0"/>
                </a:moveTo>
                <a:lnTo>
                  <a:pt x="177660" y="0"/>
                </a:lnTo>
                <a:lnTo>
                  <a:pt x="176260" y="1400"/>
                </a:lnTo>
                <a:lnTo>
                  <a:pt x="1400" y="1400"/>
                </a:lnTo>
                <a:close/>
              </a:path>
              <a:path fill="darken" w="177660" h="21600">
                <a:moveTo>
                  <a:pt x="177660" y="0"/>
                </a:moveTo>
                <a:lnTo>
                  <a:pt x="177660" y="21600"/>
                </a:lnTo>
                <a:lnTo>
                  <a:pt x="176260" y="20200"/>
                </a:lnTo>
                <a:lnTo>
                  <a:pt x="176260" y="1400"/>
                </a:lnTo>
                <a:close/>
              </a:path>
              <a:path fill="darkenLess" w="177660" h="21600">
                <a:moveTo>
                  <a:pt x="177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260" y="20200"/>
                </a:lnTo>
                <a:close/>
              </a:path>
              <a:path fill="lighten" w="177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50920" y="620640"/>
            <a:ext cx="144360" cy="525636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50920" y="620640"/>
            <a:ext cx="1008000" cy="14436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5"/>
          <p:cNvSpPr/>
          <p:nvPr/>
        </p:nvSpPr>
        <p:spPr>
          <a:xfrm>
            <a:off x="611280" y="249228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611280" y="342900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611280" y="4365720"/>
            <a:ext cx="718920" cy="215640"/>
          </a:xfrm>
          <a:prstGeom prst="rightArrow">
            <a:avLst>
              <a:gd name="adj1" fmla="val 50000"/>
              <a:gd name="adj2" fmla="val 8334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611280" y="544500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49780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009900"/>
                </a:solidFill>
                <a:latin typeface="Calibri Light"/>
              </a:rPr>
              <a:t>3. My grandparents ____ (live) in England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640720" cy="180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Calibri Light"/>
              </a:rPr>
              <a:t>4. Listen! Tom ___ (play) the guitar</a:t>
            </a:r>
            <a:r>
              <a:rPr b="1" i="1" lang="en-US" sz="6000" spc="-1" strike="noStrike">
                <a:solidFill>
                  <a:srgbClr val="ff0066"/>
                </a:solidFill>
                <a:latin typeface="Calibri Light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496000" cy="172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alibri Light"/>
              </a:rPr>
              <a:t>5. Richard ____ (speak) Germa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988640"/>
            <a:ext cx="878544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0000cc"/>
                </a:solidFill>
                <a:latin typeface="Calibri Light"/>
              </a:rPr>
              <a:t>6. Mary ___ (get) more and more beautiful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642160" cy="25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Calibri Light"/>
              </a:rPr>
              <a:t>7. I’m in a hurry because my favourite film _____ (start) in ten minutes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8569080" cy="201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6699"/>
                </a:solidFill>
                <a:latin typeface="Calibri Light"/>
              </a:rPr>
              <a:t>8. My mother _____ (teach) Maths at the university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640720" cy="24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9900"/>
                </a:solidFill>
                <a:latin typeface="Calibri Light"/>
              </a:rPr>
              <a:t>9. My younger sister   _____ (constantly / listen) to loud music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989000"/>
            <a:ext cx="8785440" cy="273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6600"/>
                </a:solidFill>
                <a:latin typeface="Calibri Light"/>
              </a:rPr>
              <a:t>10. In winter children usually ____ (play) snowballs and ____ (make) a snowma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988640"/>
            <a:ext cx="878544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Calibri Light"/>
              </a:rPr>
              <a:t>11. My friend _____ (not/like) to write a compositio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8569080" cy="194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 Light"/>
              </a:rPr>
              <a:t>12. We ____ (go) to Spain for a week this summer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Simple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прост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когда речь идет о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55700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остоянных действ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rk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liv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n New Zeala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непреложных истинах и законах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рирод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Moo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go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round the Eart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ривычках и повседневных действ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 always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clean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the house at week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404280"/>
            <a:ext cx="842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расписаниях и программ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trai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leav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t 6:00 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спортивных комментариях, обзорах, повествован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ckham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win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the ball, then he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cross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nd Owe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scor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ryl Streep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act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beautifully in this fil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773360"/>
            <a:ext cx="302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l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of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ome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08000" y="17733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n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el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every day/week/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on Fridays /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812000" y="5805360"/>
            <a:ext cx="792360" cy="64800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09" h="21600">
                <a:moveTo>
                  <a:pt x="0" y="0"/>
                </a:moveTo>
                <a:lnTo>
                  <a:pt x="26409" y="0"/>
                </a:lnTo>
                <a:lnTo>
                  <a:pt x="26409" y="21600"/>
                </a:lnTo>
                <a:lnTo>
                  <a:pt x="0" y="21600"/>
                </a:lnTo>
                <a:close/>
              </a:path>
              <a:path fill="lightenLess" w="26409" h="21600">
                <a:moveTo>
                  <a:pt x="0" y="0"/>
                </a:moveTo>
                <a:lnTo>
                  <a:pt x="26409" y="0"/>
                </a:lnTo>
                <a:lnTo>
                  <a:pt x="25009" y="1400"/>
                </a:lnTo>
                <a:lnTo>
                  <a:pt x="1400" y="1400"/>
                </a:lnTo>
                <a:close/>
              </a:path>
              <a:path fill="darken" w="26409" h="21600">
                <a:moveTo>
                  <a:pt x="26409" y="0"/>
                </a:moveTo>
                <a:lnTo>
                  <a:pt x="26409" y="21600"/>
                </a:lnTo>
                <a:lnTo>
                  <a:pt x="25009" y="20200"/>
                </a:lnTo>
                <a:lnTo>
                  <a:pt x="25009" y="1400"/>
                </a:lnTo>
                <a:close/>
              </a:path>
              <a:path fill="darkenLess" w="26409" h="21600">
                <a:moveTo>
                  <a:pt x="26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9" y="20200"/>
                </a:lnTo>
                <a:close/>
              </a:path>
              <a:path fill="lighten" w="26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9" h="21600">
                <a:moveTo>
                  <a:pt x="9706" y="10800"/>
                </a:moveTo>
                <a:lnTo>
                  <a:pt x="20211" y="3794"/>
                </a:lnTo>
                <a:lnTo>
                  <a:pt x="20211" y="17806"/>
                </a:lnTo>
                <a:close/>
              </a:path>
              <a:path fill="darken" w="26409" h="21600">
                <a:moveTo>
                  <a:pt x="6198" y="3794"/>
                </a:moveTo>
                <a:lnTo>
                  <a:pt x="7861" y="3794"/>
                </a:lnTo>
                <a:lnTo>
                  <a:pt x="7861" y="17806"/>
                </a:lnTo>
                <a:lnTo>
                  <a:pt x="619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Continuous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продолженн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 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когда речь идет о</a:t>
            </a: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действиях, происходящих в данный мо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m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 cook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in the kitc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запланированных действиях в будущ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am go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opping this afterno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меняющихся и развивающихся ситуа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 gett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colder. Let’s go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с такими наречиями, как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Calibri"/>
              </a:rPr>
              <a:t>always</a:t>
            </a: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и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Calibri"/>
              </a:rPr>
              <a:t>constantly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, для выражения раздра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lways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los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er k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227664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t the mo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t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hese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59280" y="2205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t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 Light"/>
              </a:rPr>
              <a:t>Глаголы состоя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en-US" sz="4000" spc="-1" strike="noStrike" u="sng">
                <a:solidFill>
                  <a:srgbClr val="9900cc"/>
                </a:solidFill>
                <a:uFillTx/>
                <a:latin typeface="Calibri Light"/>
              </a:rPr>
              <a:t>stative verb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9810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 английском языке есть так называемые глаголы состояния, которые обозначают состояние, а не действие предмета/л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Эти глаголы не употребляются в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100" spc="-1" strike="noStrike" u="sng">
                <a:solidFill>
                  <a:srgbClr val="ff0000"/>
                </a:solidFill>
                <a:uFillTx/>
                <a:latin typeface="Calibri"/>
              </a:rPr>
              <a:t>Present Continuou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 Light"/>
              </a:rPr>
              <a:t>Среди них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 u="sng">
                <a:solidFill>
                  <a:srgbClr val="9900cc"/>
                </a:solidFill>
                <a:uFillTx/>
                <a:latin typeface="Calibri"/>
              </a:rPr>
              <a:t>глаголы восприятия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appear, hear, see, seem, smell, sound, tast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глаголы мыслительной деятельност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know, realise, believe, forget, remember, understan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глаголы, выражающие чувства и эмоци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like, love, prefer, desire, want, hate, enjoy, wis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некоторые другие глаголы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be, belong, fit, contain, cost, have, include, need, own, matter, weig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Пользователь Windows</cp:lastModifiedBy>
  <dcterms:modified xsi:type="dcterms:W3CDTF">2020-01-06T09:25:04Z</dcterms:modified>
  <cp:revision>5</cp:revision>
  <dc:subject/>
  <dc:title>PowerPoint Presentation</dc:title>
</cp:coreProperties>
</file>