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89A9-9602-4194-B9F7-5C0B1C14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DFA-573C-4881-B63F-8841EF3B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970-3F25-44BF-96ED-926DEB94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871-C619-4E02-A73D-8E269617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78AB-B501-4173-A9ED-761FDB91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3537-747C-4AB8-B1BA-5C61758C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F80B-DF03-4A87-B5F2-DADB5A55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482A-9EAA-4DE6-8DFE-99EADFE4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D67D-221D-4C99-B9F0-B3C43D53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4EAE-14B9-439F-82C4-CC4A4366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A7E1-1400-400E-A506-1FC75BD8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B3C7-1418-4357-8C93-B47952C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C585-2D45-429B-AB9E-D6F33BEC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242A-EDEC-457E-B59B-4492DFF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C2A6-7501-481B-B3F7-F3C34B35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B312-509E-42B2-B2E2-99626A9A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791E-723D-4B8B-8CD9-9366A490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24086-2021-408F-9DB1-FCA893B6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10F8-89E8-4356-8E85-D34748CF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DCE83-0867-4E5B-942B-E2FB88B9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DCEE-6D0E-4C66-990F-E02DEBE5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1BA4-D1ED-47EA-9CD7-5DAB6659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F96-7F9B-41A6-B3ED-3570EC65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6967-8D67-4E5C-9D49-59B854C7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72EA-4571-4DDC-8DE0-9950238C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CBFC-3801-4BF7-BB80-C788F27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927F6-22EB-4C1D-A7FA-AA444AA4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1E1D-41C1-46C1-86E1-7D40ED9F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DA1D6-5393-4F7E-923E-A96DF13C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40203-89D2-49A6-83F0-D77441C4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065B-8C0A-4296-BC13-6836F275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9BB85-36CE-4A4F-A324-97511788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DD813-B8D6-42D5-9D75-67B0BEEF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BE4D-A32A-437C-9D42-5E78098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565F-C0B7-478A-B461-9FF09E6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36C1-BA05-4430-BA67-45C1DD09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59E41-D316-43C9-98E5-6674C7B4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A80C-A917-4466-9800-A015CD9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BBEF-9FEF-43F9-AE72-F9DBD4A0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0C45F-690D-4E37-B2B6-9B0A37B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C6EB-189B-46DD-994F-D02D4AF3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B9032-57FF-489D-BA4A-2D5CAEDF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091CC-CD61-4ED4-AC74-C4FD5DE2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B2011-8C92-4A1B-83B7-0A49F812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3B0-1A5F-479B-9470-2C51A46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2A102-1DE8-4824-8E28-0D909C26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81E8-BCC9-41A7-AD76-C5130B1D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71537-E8C0-4179-8ECF-68BEF78C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D0F5C-3C91-4562-B1DC-B330AFD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19C1-A77C-4B67-B4CB-15EC2FC0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4354-708F-4793-9F33-7A76F460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C0110-B236-4D9D-8F5D-FF72827D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5D5EB-395D-4015-A485-05761FAF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FA68-1908-4224-8D9F-2BA5BF17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A457-EB27-44D5-AFF6-68124672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7DB-F818-4B6C-83C0-AF22B9B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B515-46D4-43FF-BAE1-47972F7F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F53-33D0-4466-9598-75F5BE8F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7E9A-21F8-48CC-83D8-DAAFE7B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411-5EA0-4E6C-AF54-CA7363E4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AA35-4459-410B-A3C8-6395CFC151F2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EA23-F7DF-4796-BD59-6A6DE19CD6D1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87D8-3F6E-4007-A8FC-5F0345E55694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354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B405-8340-43FF-A36B-08ADABF38A8B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54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53548a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53548a"/>
              </a:solidFill>
              <a:latin typeface="Calibri Ligh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C961-40F2-48C1-87EF-8E57B5F93A98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24.xml"/><Relationship Id="rId6" Type="http://schemas.openxmlformats.org/officeDocument/2006/relationships/slide" Target="slide33.xml"/><Relationship Id="rId7" Type="http://schemas.openxmlformats.org/officeDocument/2006/relationships/slide" Target="slide40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WordArt 5"/>
          <p:cNvSpPr txBox="1"/>
          <p:nvPr/>
        </p:nvSpPr>
        <p:spPr>
          <a:xfrm>
            <a:off x="900000" y="1700280"/>
            <a:ext cx="7128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468360" y="1989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611280" y="206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950760" y="3017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87948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755640" y="3141720"/>
            <a:ext cx="346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5703840" y="314172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+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3780000" y="3933720"/>
            <a:ext cx="1584000" cy="790560"/>
          </a:xfrm>
          <a:prstGeom prst="rightArrow">
            <a:avLst>
              <a:gd name="adj1" fmla="val 50000"/>
              <a:gd name="adj2" fmla="val 50091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536400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20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1"/>
          <p:cNvSpPr/>
          <p:nvPr/>
        </p:nvSpPr>
        <p:spPr>
          <a:xfrm>
            <a:off x="5632560" y="4025880"/>
            <a:ext cx="20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Future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900000" y="5394240"/>
            <a:ext cx="77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finis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r homework, we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will g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the cin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592200" y="2152800"/>
            <a:ext cx="8083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мимо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употребляются такие слова и фразы, как: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as soon a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как только),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before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til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hen she reads the letter, she will become nervous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s soon as you are ready, I'll drive you ho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же в условных предложениях используется союз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если только не/ разве только не), который можно заменить на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if + not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(отрицание). После союза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лагол-сказуемое ставится в утвердительной форме, поскольку союз 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unless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уже заключает в себе отрицан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he will forget about it unless we remind her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на забудет про это, если только мы ей не напомним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he will forget about it if we don't remind h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071520" y="1504800"/>
            <a:ext cx="358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539640" y="242100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даточное предложение, которое обычно начинается со слова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может стоять как в начале условного предложения (перед главным предложением), так и в конце. Если оно стоит в начале, то после него ставится запятая. Если же оно стоит в конце, то перед ним запятая не стави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you leave now, you'll catch the trai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'll catch the train if you leave n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419640" y="148428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2916360" y="1989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Use the required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19120" y="2492280"/>
            <a:ext cx="8229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t 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rains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, we won't go to the pa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will rain     b)rains   c)will not rain   d)doesn’t 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 won't pass the exam,  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unl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you work ha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if         b)when         c)unless         d)as soon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en we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      ready, I’ll call y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shall be       b)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You will pay back, as soon as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fin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  a new jo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find             b)will fi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 I will see you when you  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a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    in Moscow next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are      b)will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 What will you do, when you  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  <a:ea typeface="Arial"/>
              </a:rPr>
              <a:t>find ou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the truth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will find out     b)have find out    c)find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1042920" y="256536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3492360" y="3213000"/>
            <a:ext cx="792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1908000" y="3789360"/>
            <a:ext cx="71928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4427640" y="4365720"/>
            <a:ext cx="64908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3348000" y="5013360"/>
            <a:ext cx="57636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14"/>
          <p:cNvSpPr/>
          <p:nvPr/>
        </p:nvSpPr>
        <p:spPr>
          <a:xfrm>
            <a:off x="3851280" y="5589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37248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684360" y="20811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mplete the sentences, putting the verbs into the correct for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519120" y="2781360"/>
            <a:ext cx="822960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If you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free, I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com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to see yo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If 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(to see) 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r, I 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 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gl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If you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busy,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leave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you alone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If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liv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in Moscow, I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visit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the Tretyakov Gallery every ye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If sh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know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English, sh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try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o enter the universit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If mother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buy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cake, we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to have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a very nice tea pa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520920" y="4002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519120" y="4581360"/>
            <a:ext cx="71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20920" y="5226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519120" y="5805360"/>
            <a:ext cx="647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20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2000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26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3348000" y="1484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1959120" y="20098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into Englis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519120" y="25131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Если ты закончишь домашнюю работу вовремя, мы пойдем 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кин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Матч отменят, если пойдет дожд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Ты опоздаешь, если не поторопишь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Я куплю машину, если мне повысят зарплат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Если ты опоздаешь, позвони мне пожалуйст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Если я увижу её, я передам ей от тебя прив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519120" y="2492280"/>
            <a:ext cx="82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519120" y="4005360"/>
            <a:ext cx="507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6">
            <a:hlinkClick r:id="rId2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2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2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2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611280" y="20811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второго типа в английском языке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писывают события настоящего и будущего времени. Ситуации, описанные в таких предложениях, нереальны (невозможны, невероятны, воображаемы). Такие предложения имеют невозможный, гипотетический оттенок. Обратите внимание, что на русский язык данные предложения переводятся в сослагательном наклонении, с частицей "бы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1059480" y="5249880"/>
            <a:ext cx="59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i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i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ou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ould sta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hom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Если бы пош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дождь,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ы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стался дом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4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611280" y="21337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663480" y="316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tangle 10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43480" y="287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1384200" y="39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5559480" y="380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5364000" y="3789360"/>
            <a:ext cx="309564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3903840" y="39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AutoShape 18"/>
          <p:cNvSpPr/>
          <p:nvPr/>
        </p:nvSpPr>
        <p:spPr>
          <a:xfrm>
            <a:off x="3564000" y="3933720"/>
            <a:ext cx="1800000" cy="790560"/>
          </a:xfrm>
          <a:prstGeom prst="rightArrow">
            <a:avLst>
              <a:gd name="adj1" fmla="val 50000"/>
              <a:gd name="adj2" fmla="val 56922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9"/>
          <p:cNvSpPr/>
          <p:nvPr/>
        </p:nvSpPr>
        <p:spPr>
          <a:xfrm>
            <a:off x="1239840" y="40258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... Simple P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26920" y="314172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1"/>
          <p:cNvSpPr/>
          <p:nvPr/>
        </p:nvSpPr>
        <p:spPr>
          <a:xfrm>
            <a:off x="5848200" y="314172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5435640" y="40258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.. would +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глагол ..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950760" y="546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2700360" y="539424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t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rain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st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t hom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3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59220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611280" y="2205000"/>
          <a:ext cx="8064360" cy="4019760"/>
        </p:xfrm>
        <a:graphic>
          <a:graphicData uri="http://schemas.openxmlformats.org/drawingml/2006/table">
            <a:tbl>
              <a:tblPr/>
              <a:tblGrid>
                <a:gridCol w="1630440"/>
                <a:gridCol w="2251080"/>
                <a:gridCol w="2193840"/>
                <a:gridCol w="1989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more serious about your wor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с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своей работе серьез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is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it in tim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ы смог закончи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ее воврем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l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значении "суметь".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Результат указывает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 they were late again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 они опоздали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 would not let them i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бы не позволила им вой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uld”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ворящий уверен в результ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ested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them more politely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ы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тилс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к ним вежливе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y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you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ни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 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могли б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теб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gh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в значении "может быть", "возможно"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2916360" y="2060640"/>
            <a:ext cx="377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539640" y="2492280"/>
            <a:ext cx="820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лагол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to b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в прошедшем времени всегда буд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и никогда — </a:t>
            </a: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!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оэтом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 he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а 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he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592200" y="3716280"/>
            <a:ext cx="585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ere, he would help u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ы он был здесь, он бы помог на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592200" y="4581360"/>
            <a:ext cx="7867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If I 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were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you, I would drive more carefully in the rain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бы я был на твоем месте, я бы вел машину аккуратнее во время дождя. (но я не на твоем месте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AutoShape 12"/>
          <p:cNvSpPr/>
          <p:nvPr/>
        </p:nvSpPr>
        <p:spPr>
          <a:xfrm>
            <a:off x="1400040" y="5839200"/>
            <a:ext cx="6559560" cy="5094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     I/you/he/she/it/we/the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214200" y="692280"/>
            <a:ext cx="927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519120" y="2492280"/>
            <a:ext cx="8156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предел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2" action="ppaction://hlinksldjump"/>
              </a:rPr>
              <a:t>НУЛЕВ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3" action="ppaction://hlinksldjump"/>
              </a:rPr>
              <a:t>ПЕРВ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4" action="ppaction://hlinksldjump"/>
              </a:rPr>
              <a:t>ВТОРО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5" action="ppaction://hlinksldjump"/>
              </a:rPr>
              <a:t>ТРЕТЬЕГО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0" lang="ru-RU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6" action="ppaction://hlinksldjump"/>
              </a:rPr>
              <a:t>СМЕШАННОГ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с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Times New Roman"/>
                <a:ea typeface="Arial"/>
                <a:hlinkClick r:id="rId7" action="ppaction://hlinksldjump"/>
              </a:rPr>
              <a:t>I W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3425040" y="1576440"/>
            <a:ext cx="19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одержа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684360" y="23684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бы придать просьбе или предложению больший оттенок вежливости, используются условные предложения второго тип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11280" y="416880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t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be nice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h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lpe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e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уд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хорошо,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она мне 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мож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(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е вежливая просьба – условное предложение второго тип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25092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9"/>
          <p:cNvSpPr/>
          <p:nvPr/>
        </p:nvSpPr>
        <p:spPr>
          <a:xfrm>
            <a:off x="2102760" y="208116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10"/>
          <p:cNvSpPr/>
          <p:nvPr/>
        </p:nvSpPr>
        <p:spPr>
          <a:xfrm>
            <a:off x="735120" y="272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27"/>
          <p:cNvSpPr/>
          <p:nvPr/>
        </p:nvSpPr>
        <p:spPr>
          <a:xfrm>
            <a:off x="539640" y="4547160"/>
            <a:ext cx="324036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finish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work this wee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5580000" y="275328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tel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er the sto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5580000" y="368820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g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on vac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5580000" y="4614840"/>
            <a:ext cx="3168720" cy="58068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plan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the veget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5580000" y="5475960"/>
            <a:ext cx="3168720" cy="703800"/>
          </a:xfrm>
          <a:prstGeom prst="rect">
            <a:avLst/>
          </a:prstGeom>
          <a:solidFill>
            <a:srgbClr val="e7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hea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new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41"/>
          <p:cNvSpPr/>
          <p:nvPr/>
        </p:nvSpPr>
        <p:spPr>
          <a:xfrm>
            <a:off x="611280" y="2780280"/>
            <a:ext cx="3168720" cy="703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arriv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43"/>
          <p:cNvSpPr/>
          <p:nvPr/>
        </p:nvSpPr>
        <p:spPr>
          <a:xfrm>
            <a:off x="539640" y="381168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45"/>
          <p:cNvSpPr/>
          <p:nvPr/>
        </p:nvSpPr>
        <p:spPr>
          <a:xfrm>
            <a:off x="539640" y="3668760"/>
            <a:ext cx="3240360" cy="457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46"/>
          <p:cNvSpPr/>
          <p:nvPr/>
        </p:nvSpPr>
        <p:spPr>
          <a:xfrm>
            <a:off x="729720" y="378612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saw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e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47"/>
          <p:cNvSpPr/>
          <p:nvPr/>
        </p:nvSpPr>
        <p:spPr>
          <a:xfrm>
            <a:off x="539640" y="5367240"/>
            <a:ext cx="3240360" cy="825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ain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next week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2" name="AutoShape 49"/>
          <p:cNvCxnSpPr>
            <a:stCxn id="397" idx="3"/>
            <a:endCxn id="396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403" name="AutoShape 50"/>
          <p:cNvCxnSpPr>
            <a:stCxn id="397" idx="3"/>
            <a:endCxn id="396" idx="1"/>
          </p:cNvCxnSpPr>
          <p:nvPr/>
        </p:nvCxnSpPr>
        <p:spPr>
          <a:xfrm>
            <a:off x="3780000" y="3132000"/>
            <a:ext cx="1800720" cy="2696400"/>
          </a:xfrm>
          <a:prstGeom prst="straightConnector1">
            <a:avLst/>
          </a:prstGeom>
          <a:ln w="0">
            <a:noFill/>
          </a:ln>
        </p:spPr>
      </p:cxnSp>
      <p:sp>
        <p:nvSpPr>
          <p:cNvPr id="404" name="Line 51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52"/>
          <p:cNvSpPr/>
          <p:nvPr/>
        </p:nvSpPr>
        <p:spPr>
          <a:xfrm>
            <a:off x="3708360" y="2997360"/>
            <a:ext cx="1800360" cy="27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53"/>
          <p:cNvSpPr/>
          <p:nvPr/>
        </p:nvSpPr>
        <p:spPr>
          <a:xfrm>
            <a:off x="3780000" y="3141720"/>
            <a:ext cx="1800000" cy="273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07" name="AutoShape 54"/>
          <p:cNvCxnSpPr>
            <a:stCxn id="396" idx="1"/>
            <a:endCxn id="406" idx="0"/>
          </p:cNvCxnSpPr>
          <p:nvPr/>
        </p:nvCxnSpPr>
        <p:spPr>
          <a:xfrm>
            <a:off x="5579640" y="5827320"/>
            <a:ext cx="1080" cy="5004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Line 55"/>
          <p:cNvSpPr/>
          <p:nvPr/>
        </p:nvSpPr>
        <p:spPr>
          <a:xfrm>
            <a:off x="3780000" y="3213000"/>
            <a:ext cx="1800000" cy="259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56"/>
          <p:cNvSpPr/>
          <p:nvPr/>
        </p:nvSpPr>
        <p:spPr>
          <a:xfrm>
            <a:off x="3780000" y="3141720"/>
            <a:ext cx="1800000" cy="2663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Line 58"/>
          <p:cNvSpPr/>
          <p:nvPr/>
        </p:nvSpPr>
        <p:spPr>
          <a:xfrm>
            <a:off x="3635280" y="2997360"/>
            <a:ext cx="1944720" cy="2879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59"/>
          <p:cNvSpPr/>
          <p:nvPr/>
        </p:nvSpPr>
        <p:spPr>
          <a:xfrm>
            <a:off x="3708360" y="3068640"/>
            <a:ext cx="1871640" cy="2808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12" name="AutoShape 60"/>
          <p:cNvCxnSpPr>
            <a:endCxn id="393" idx="1"/>
          </p:cNvCxnSpPr>
          <p:nvPr/>
        </p:nvCxnSpPr>
        <p:spPr>
          <a:xfrm flipV="1">
            <a:off x="3780000" y="3104280"/>
            <a:ext cx="1800720" cy="9882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3" name="AutoShape 61"/>
          <p:cNvCxnSpPr>
            <a:endCxn id="394" idx="1"/>
          </p:cNvCxnSpPr>
          <p:nvPr/>
        </p:nvCxnSpPr>
        <p:spPr>
          <a:xfrm flipV="1">
            <a:off x="3780000" y="4039920"/>
            <a:ext cx="1800720" cy="101016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14" name="AutoShape 62"/>
          <p:cNvCxnSpPr>
            <a:stCxn id="401" idx="3"/>
            <a:endCxn id="395" idx="1"/>
          </p:cNvCxnSpPr>
          <p:nvPr/>
        </p:nvCxnSpPr>
        <p:spPr>
          <a:xfrm flipV="1">
            <a:off x="3780000" y="4905000"/>
            <a:ext cx="1800720" cy="87552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2556000" y="2081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22776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13720" y="251316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you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pok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foreign language, you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ge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better jo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1042920" y="2924280"/>
            <a:ext cx="16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 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03840" y="2924280"/>
            <a:ext cx="13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can 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6156360" y="292428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have g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587160" y="3449520"/>
            <a:ext cx="77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If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ha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the time, 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g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to the beach this weekend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1023840" y="3860640"/>
            <a:ext cx="16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 have h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975120" y="3860640"/>
            <a:ext cx="11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 had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208560" y="3860640"/>
            <a:ext cx="9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588960" y="4457880"/>
            <a:ext cx="744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lot of money, 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trave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1023840" y="4869000"/>
            <a:ext cx="20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3995640" y="48690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did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6227640" y="48690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can tra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585720" y="5394240"/>
            <a:ext cx="748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  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 you, 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dri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ore carefully in the rain.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1042920" y="582624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) w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975120" y="582624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)  have b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6280920" y="5826240"/>
            <a:ext cx="11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) we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27"/>
          <p:cNvSpPr/>
          <p:nvPr/>
        </p:nvSpPr>
        <p:spPr>
          <a:xfrm>
            <a:off x="5435640" y="2565360"/>
            <a:ext cx="122544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28"/>
          <p:cNvSpPr/>
          <p:nvPr/>
        </p:nvSpPr>
        <p:spPr>
          <a:xfrm>
            <a:off x="1476360" y="350028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29"/>
          <p:cNvSpPr/>
          <p:nvPr/>
        </p:nvSpPr>
        <p:spPr>
          <a:xfrm>
            <a:off x="4067280" y="4508640"/>
            <a:ext cx="1728720" cy="3585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0"/>
          <p:cNvSpPr/>
          <p:nvPr/>
        </p:nvSpPr>
        <p:spPr>
          <a:xfrm>
            <a:off x="1476360" y="5445000"/>
            <a:ext cx="719280" cy="35892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CONDITIONAL  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44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751120" y="157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592200" y="23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58848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11148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582120" y="2513160"/>
            <a:ext cx="806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he finished his project, he would take part in the confer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Text Box 11"/>
          <p:cNvSpPr/>
          <p:nvPr/>
        </p:nvSpPr>
        <p:spPr>
          <a:xfrm>
            <a:off x="611280" y="25131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611280" y="3305160"/>
            <a:ext cx="525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you I would visit the old lad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593640" y="330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611280" y="380988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hat would you do if you won the priz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593640" y="3809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584640" y="4313160"/>
            <a:ext cx="73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agree if I were invited to travel round the wor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92200" y="431316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AutoShape 20">
            <a:hlinkClick r:id="rId4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2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2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9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а выраж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ереальные условия, так как речь в них иде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 событиях, которые уже произошли или н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ошли в прошлом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и ничего исправить нельз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потребляется эта модель тогда, когда ну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общить об упущенной возможности. 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русский язык переводятся сослагательны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наклонением ( формой прошедшего време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 частицей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WordArt 11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med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611280" y="213372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826920" y="306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5867280" y="3068640"/>
            <a:ext cx="20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1042920" y="3716280"/>
            <a:ext cx="273708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16"/>
          <p:cNvSpPr/>
          <p:nvPr/>
        </p:nvSpPr>
        <p:spPr>
          <a:xfrm>
            <a:off x="5364000" y="3716280"/>
            <a:ext cx="3095640" cy="115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166760" y="3860640"/>
            <a:ext cx="206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 +  Past Per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1"/>
          <p:cNvSpPr/>
          <p:nvPr/>
        </p:nvSpPr>
        <p:spPr>
          <a:xfrm>
            <a:off x="5364000" y="3716280"/>
            <a:ext cx="88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houl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m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012000" y="407664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 have + Participle I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AutoShape 23"/>
          <p:cNvSpPr/>
          <p:nvPr/>
        </p:nvSpPr>
        <p:spPr>
          <a:xfrm>
            <a:off x="3564000" y="3789360"/>
            <a:ext cx="1800000" cy="719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24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26"/>
          <p:cNvSpPr/>
          <p:nvPr/>
        </p:nvSpPr>
        <p:spPr>
          <a:xfrm>
            <a:off x="971640" y="539424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rial"/>
              </a:rPr>
              <a:t>I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had bee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free yesterday, I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would have joine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AutoShape 3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66348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611280" y="2205000"/>
          <a:ext cx="7993080" cy="4110120"/>
        </p:xfrm>
        <a:graphic>
          <a:graphicData uri="http://schemas.openxmlformats.org/drawingml/2006/table">
            <a:tbl>
              <a:tblPr/>
              <a:tblGrid>
                <a:gridCol w="1008000"/>
                <a:gridCol w="2305080"/>
                <a:gridCol w="2303280"/>
                <a:gridCol w="2376720"/>
              </a:tblGrid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юз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слов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пределенность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w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оказал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говорящий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верен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результат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c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might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 бы мог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смотря на то, что это не случилось, результат указывает только на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мож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f you 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had know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bout this problem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б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ы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л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той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блеме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you </a:t>
                      </a:r>
                      <a:r>
                        <a:rPr b="1" lang="en-US" sz="1400" spc="-1" strike="noStrike" u="sng">
                          <a:solidFill>
                            <a:srgbClr val="660033"/>
                          </a:solidFill>
                          <a:uFillTx/>
                          <a:latin typeface="Times New Roman"/>
                        </a:rPr>
                        <a:t>should</a:t>
                      </a: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 have assisted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in it solving (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бе бы следовало оказать помощь в ее решении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тя это не случилось, результат содержит хорошее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шение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вет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p:transition spd="med"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2771640" y="1989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47840" y="2421000"/>
            <a:ext cx="83073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Как и в других условных предложениях, условная часть может идти перед основной и наоборот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f they had finished work on time they would have already gone for a walk.</a:t>
            </a: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сли бы они закончили работу вовремя, то уже ушли бы на прогулку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376200" y="3789360"/>
            <a:ext cx="8516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Условная часть предложения может содержать инверсию для выражения эмоциональ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ad I known about it beforehand I wouldn't have made such a terrible mistake!</a:t>
            </a:r>
            <a:br>
              <a:rPr sz="1600"/>
            </a:b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нал бы я об этом заранее, то не совершил бы такой ужасной ошибки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76200" y="5084640"/>
            <a:ext cx="858852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</a:rPr>
              <a:t>Общие и специальные вопросы образуются аналитическим способом, то есть путем перестановки членов предложения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ould we have arrived on time if we hadn't missed the train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would you have lived if you had found your relatives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3"/>
          <p:cNvSpPr/>
          <p:nvPr/>
        </p:nvSpPr>
        <p:spPr>
          <a:xfrm>
            <a:off x="250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835280" y="1557360"/>
            <a:ext cx="69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OULD и MIGHT в условных предложен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519120" y="213372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Модальные глаголы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MIGHT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часто употребляются в главном предложении условных предложений, а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COULD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иногда употребляется в придаточном предложении с нереальным условием. Отметьте, что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MAY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обычно не употребляется в условных предложениях с нереальным условие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539640" y="4025880"/>
            <a:ext cx="828036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we had left before five, we could have caught the six o'clock train. (We didn't leave before five, and we didn't catch the six o'clock train.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мы выехали до пяти, мы могли бы успеть на шестичасовой поезд. (Мы не выехали до пяти, и мы не успели на шестичасовой поезд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he hadn't met Maria, he might have remained a bachelor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он не встретил Марию, он мог бы остаться холостяк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3"/>
          <p:cNvSpPr/>
          <p:nvPr/>
        </p:nvSpPr>
        <p:spPr>
          <a:xfrm>
            <a:off x="179280" y="2060640"/>
            <a:ext cx="878544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WordArt 4"/>
          <p:cNvSpPr txBox="1"/>
          <p:nvPr/>
        </p:nvSpPr>
        <p:spPr>
          <a:xfrm>
            <a:off x="2093760" y="476280"/>
            <a:ext cx="64389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484360" y="1557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BUT FOR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NOT FOR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9"/>
          <p:cNvSpPr/>
          <p:nvPr/>
        </p:nvSpPr>
        <p:spPr>
          <a:xfrm>
            <a:off x="539640" y="2421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огда придаточное нереального условия заменятся конструкцией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BUT FO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(ил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IF NOT FOR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+ существительное или местоимение. Такие конструкции могут употребляться в ситуациях, относящихся к прошлому или настоящему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47840" y="3860640"/>
            <a:ext cx="8300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But f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he children, they would have divorced years ago. – If it hadn't been for the children, they would have divorced years ago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не дети, они бы давно развелись. – Если бы не дети, они бы давно развелис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If not f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er, he would never have become such a good doctor. – If it hadn't been for her, he would never have become such a good doctor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Если бы не она, он никогда не стал бы таким хорошим врачом. – Если бы не она, он никогда не стал бы таким хорошим врач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WordArt 5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663480" y="2205000"/>
            <a:ext cx="7869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словные предложения – это сложноподчиненные предложения, в которых в придаточном предложении называется условие, а в главном предложении – следствие, результат этого условия. И условие, и следствие могут относится к настоящему, прошедшему и будущему. Придаточные предложения условия чаще всего вводятся союзом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 В отличие от русского языка, запятая в сложноподчиненном предложении ставится только в случае, если придаточное предложение находится перед главным, и то это правило не всегда соблюдает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бычно  условные предложения делят на три типа в зависимости от того, насколько вероятно событие, о котором идет речь. Эти три типа – основные, а на самом деле их больш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2934360" y="157644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ные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WordArt 4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3348000" y="155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AutoShape 40"/>
          <p:cNvSpPr/>
          <p:nvPr/>
        </p:nvSpPr>
        <p:spPr>
          <a:xfrm>
            <a:off x="250920" y="2133720"/>
            <a:ext cx="8893080" cy="453528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41"/>
          <p:cNvSpPr/>
          <p:nvPr/>
        </p:nvSpPr>
        <p:spPr>
          <a:xfrm>
            <a:off x="2463120" y="2152800"/>
            <a:ext cx="447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42"/>
          <p:cNvSpPr/>
          <p:nvPr/>
        </p:nvSpPr>
        <p:spPr>
          <a:xfrm>
            <a:off x="468360" y="2924280"/>
            <a:ext cx="424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43"/>
          <p:cNvSpPr/>
          <p:nvPr/>
        </p:nvSpPr>
        <p:spPr>
          <a:xfrm>
            <a:off x="539640" y="2924280"/>
            <a:ext cx="3456000" cy="64908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684360" y="299736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48"/>
          <p:cNvSpPr/>
          <p:nvPr/>
        </p:nvSpPr>
        <p:spPr>
          <a:xfrm>
            <a:off x="5435640" y="292428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Rectangle 52"/>
          <p:cNvSpPr/>
          <p:nvPr/>
        </p:nvSpPr>
        <p:spPr>
          <a:xfrm>
            <a:off x="826920" y="2997360"/>
            <a:ext cx="914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54"/>
          <p:cNvSpPr/>
          <p:nvPr/>
        </p:nvSpPr>
        <p:spPr>
          <a:xfrm>
            <a:off x="59220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593280" y="3016080"/>
            <a:ext cx="34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lear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glish befor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57"/>
          <p:cNvSpPr/>
          <p:nvPr/>
        </p:nvSpPr>
        <p:spPr>
          <a:xfrm>
            <a:off x="539640" y="378936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59"/>
          <p:cNvSpPr/>
          <p:nvPr/>
        </p:nvSpPr>
        <p:spPr>
          <a:xfrm>
            <a:off x="539640" y="5661000"/>
            <a:ext cx="3456000" cy="647640"/>
          </a:xfrm>
          <a:prstGeom prst="rect">
            <a:avLst/>
          </a:prstGeom>
          <a:solidFill>
            <a:srgbClr val="72b1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60"/>
          <p:cNvSpPr/>
          <p:nvPr/>
        </p:nvSpPr>
        <p:spPr>
          <a:xfrm>
            <a:off x="5508720" y="4005360"/>
            <a:ext cx="3384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61"/>
          <p:cNvSpPr/>
          <p:nvPr/>
        </p:nvSpPr>
        <p:spPr>
          <a:xfrm>
            <a:off x="5435640" y="378936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62"/>
          <p:cNvSpPr/>
          <p:nvPr/>
        </p:nvSpPr>
        <p:spPr>
          <a:xfrm>
            <a:off x="5435640" y="4724280"/>
            <a:ext cx="3457440" cy="6494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63"/>
          <p:cNvSpPr/>
          <p:nvPr/>
        </p:nvSpPr>
        <p:spPr>
          <a:xfrm>
            <a:off x="5435640" y="5589720"/>
            <a:ext cx="3457440" cy="6490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Text Box 65"/>
          <p:cNvSpPr/>
          <p:nvPr/>
        </p:nvSpPr>
        <p:spPr>
          <a:xfrm>
            <a:off x="5487840" y="4745160"/>
            <a:ext cx="32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uld have fou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 good job long ago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Text Box 68"/>
          <p:cNvSpPr/>
          <p:nvPr/>
        </p:nvSpPr>
        <p:spPr>
          <a:xfrm>
            <a:off x="592200" y="380844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Jim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driv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 car yesterda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Text Box 70"/>
          <p:cNvSpPr/>
          <p:nvPr/>
        </p:nvSpPr>
        <p:spPr>
          <a:xfrm>
            <a:off x="5559480" y="56088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ight have me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with an accident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72"/>
          <p:cNvSpPr/>
          <p:nvPr/>
        </p:nvSpPr>
        <p:spPr>
          <a:xfrm>
            <a:off x="664200" y="4816440"/>
            <a:ext cx="310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 you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studi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properl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74"/>
          <p:cNvSpPr/>
          <p:nvPr/>
        </p:nvSpPr>
        <p:spPr>
          <a:xfrm>
            <a:off x="5559480" y="380844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uld have passed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the exam well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76"/>
          <p:cNvSpPr/>
          <p:nvPr/>
        </p:nvSpPr>
        <p:spPr>
          <a:xfrm>
            <a:off x="663480" y="58053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d bee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free yesterday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78"/>
          <p:cNvSpPr/>
          <p:nvPr/>
        </p:nvSpPr>
        <p:spPr>
          <a:xfrm>
            <a:off x="5580000" y="3068640"/>
            <a:ext cx="28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ould have join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you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Line 79"/>
          <p:cNvSpPr/>
          <p:nvPr/>
        </p:nvSpPr>
        <p:spPr>
          <a:xfrm>
            <a:off x="3995640" y="3284640"/>
            <a:ext cx="1440000" cy="1800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81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82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83"/>
          <p:cNvSpPr/>
          <p:nvPr/>
        </p:nvSpPr>
        <p:spPr>
          <a:xfrm>
            <a:off x="3924360" y="3213000"/>
            <a:ext cx="165564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AutoShape 84"/>
          <p:cNvSpPr/>
          <p:nvPr/>
        </p:nvSpPr>
        <p:spPr>
          <a:xfrm>
            <a:off x="3995640" y="3284640"/>
            <a:ext cx="71640" cy="73080"/>
          </a:xfrm>
          <a:prstGeom prst="rightArrow">
            <a:avLst>
              <a:gd name="adj1" fmla="val 50000"/>
              <a:gd name="adj2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5" name="AutoShape 85"/>
          <p:cNvCxnSpPr>
            <a:stCxn id="533" idx="0"/>
            <a:endCxn id="533" idx="1"/>
          </p:cNvCxnSpPr>
          <p:nvPr/>
        </p:nvCxnSpPr>
        <p:spPr>
          <a:xfrm>
            <a:off x="3924000" y="3212640"/>
            <a:ext cx="165636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6" name="AutoShape 86"/>
          <p:cNvCxnSpPr>
            <a:stCxn id="533" idx="1"/>
            <a:endCxn id="533" idx="1"/>
          </p:cNvCxnSpPr>
          <p:nvPr/>
        </p:nvCxnSpPr>
        <p:spPr>
          <a:xfrm>
            <a:off x="5579640" y="5084280"/>
            <a:ext cx="108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537" name="Line 87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8" name="AutoShape 88"/>
          <p:cNvCxnSpPr/>
          <p:nvPr/>
        </p:nvCxnSpPr>
        <p:spPr>
          <a:xfrm>
            <a:off x="4679640" y="-360"/>
            <a:ext cx="4678920" cy="34297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39" name="AutoShape 89"/>
          <p:cNvCxnSpPr>
            <a:stCxn id="537" idx="0"/>
            <a:endCxn id="537" idx="1"/>
          </p:cNvCxnSpPr>
          <p:nvPr/>
        </p:nvCxnSpPr>
        <p:spPr>
          <a:xfrm>
            <a:off x="3924000" y="3212640"/>
            <a:ext cx="1585080" cy="1872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0" name="AutoShape 90"/>
          <p:cNvCxnSpPr>
            <a:stCxn id="515" idx="3"/>
          </p:cNvCxnSpPr>
          <p:nvPr/>
        </p:nvCxnSpPr>
        <p:spPr>
          <a:xfrm>
            <a:off x="4026960" y="3200400"/>
            <a:ext cx="1429560" cy="1807200"/>
          </a:xfrm>
          <a:prstGeom prst="straightConnector1">
            <a:avLst/>
          </a:prstGeom>
          <a:ln w="0">
            <a:noFill/>
          </a:ln>
        </p:spPr>
      </p:cxnSp>
      <p:sp>
        <p:nvSpPr>
          <p:cNvPr id="541" name="Line 91"/>
          <p:cNvSpPr/>
          <p:nvPr/>
        </p:nvSpPr>
        <p:spPr>
          <a:xfrm>
            <a:off x="3924360" y="3141720"/>
            <a:ext cx="1655640" cy="208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92"/>
          <p:cNvSpPr/>
          <p:nvPr/>
        </p:nvSpPr>
        <p:spPr>
          <a:xfrm>
            <a:off x="3924360" y="3213000"/>
            <a:ext cx="180000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95"/>
          <p:cNvSpPr/>
          <p:nvPr/>
        </p:nvSpPr>
        <p:spPr>
          <a:xfrm>
            <a:off x="3924360" y="3213000"/>
            <a:ext cx="1584360" cy="1871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44" name="AutoShape 96"/>
          <p:cNvCxnSpPr>
            <a:stCxn id="524" idx="3"/>
            <a:endCxn id="543" idx="0"/>
          </p:cNvCxnSpPr>
          <p:nvPr/>
        </p:nvCxnSpPr>
        <p:spPr>
          <a:xfrm flipV="1">
            <a:off x="3924000" y="321228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5" name="AutoShape 97"/>
          <p:cNvCxnSpPr>
            <a:stCxn id="543" idx="0"/>
            <a:endCxn id="524" idx="3"/>
          </p:cNvCxnSpPr>
          <p:nvPr/>
        </p:nvCxnSpPr>
        <p:spPr>
          <a:xfrm>
            <a:off x="3924000" y="3212640"/>
            <a:ext cx="1080" cy="916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6" name="AutoShape 98"/>
          <p:cNvCxnSpPr>
            <a:stCxn id="524" idx="3"/>
            <a:endCxn id="522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7" name="AutoShape 99"/>
          <p:cNvCxnSpPr>
            <a:stCxn id="524" idx="3"/>
          </p:cNvCxnSpPr>
          <p:nvPr/>
        </p:nvCxnSpPr>
        <p:spPr>
          <a:xfrm>
            <a:off x="3924360" y="4129200"/>
            <a:ext cx="2160" cy="21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48" name="AutoShape 100"/>
          <p:cNvCxnSpPr>
            <a:stCxn id="524" idx="3"/>
            <a:endCxn id="522" idx="1"/>
          </p:cNvCxnSpPr>
          <p:nvPr/>
        </p:nvCxnSpPr>
        <p:spPr>
          <a:xfrm>
            <a:off x="3924360" y="4128840"/>
            <a:ext cx="1512000" cy="178668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9" name="AutoShape 101"/>
          <p:cNvCxnSpPr>
            <a:stCxn id="526" idx="3"/>
            <a:endCxn id="543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0" name="AutoShape 102"/>
          <p:cNvCxnSpPr>
            <a:stCxn id="526" idx="3"/>
            <a:endCxn id="542" idx="0"/>
          </p:cNvCxnSpPr>
          <p:nvPr/>
        </p:nvCxnSpPr>
        <p:spPr>
          <a:xfrm>
            <a:off x="3768840" y="500040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1" name="AutoShape 103"/>
          <p:cNvCxnSpPr>
            <a:stCxn id="543" idx="1"/>
            <a:endCxn id="542" idx="1"/>
          </p:cNvCxnSpPr>
          <p:nvPr/>
        </p:nvCxnSpPr>
        <p:spPr>
          <a:xfrm>
            <a:off x="550836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2" name="AutoShape 104"/>
          <p:cNvCxnSpPr>
            <a:stCxn id="542" idx="1"/>
            <a:endCxn id="517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3" name="AutoShape 105"/>
          <p:cNvCxnSpPr>
            <a:stCxn id="542" idx="1"/>
            <a:endCxn id="543" idx="1"/>
          </p:cNvCxnSpPr>
          <p:nvPr/>
        </p:nvCxnSpPr>
        <p:spPr>
          <a:xfrm flipH="1">
            <a:off x="5508000" y="5084280"/>
            <a:ext cx="21636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4" name="AutoShape 106"/>
          <p:cNvCxnSpPr>
            <a:stCxn id="526" idx="3"/>
            <a:endCxn id="543" idx="1"/>
          </p:cNvCxnSpPr>
          <p:nvPr/>
        </p:nvCxnSpPr>
        <p:spPr>
          <a:xfrm>
            <a:off x="3768480" y="5000400"/>
            <a:ext cx="174060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5" name="AutoShape 107"/>
          <p:cNvCxnSpPr>
            <a:stCxn id="542" idx="1"/>
            <a:endCxn id="517" idx="3"/>
          </p:cNvCxnSpPr>
          <p:nvPr/>
        </p:nvCxnSpPr>
        <p:spPr>
          <a:xfrm flipH="1" flipV="1">
            <a:off x="3995280" y="5049000"/>
            <a:ext cx="1729440" cy="35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6" name="AutoShape 108"/>
          <p:cNvCxnSpPr>
            <a:stCxn id="517" idx="3"/>
          </p:cNvCxnSpPr>
          <p:nvPr/>
        </p:nvCxnSpPr>
        <p:spPr>
          <a:xfrm flipV="1">
            <a:off x="3995640" y="4291920"/>
            <a:ext cx="1370880" cy="757800"/>
          </a:xfrm>
          <a:prstGeom prst="straightConnector1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57" name="AutoShape 109"/>
          <p:cNvCxnSpPr>
            <a:stCxn id="507" idx="1"/>
            <a:endCxn id="542" idx="1"/>
          </p:cNvCxnSpPr>
          <p:nvPr/>
        </p:nvCxnSpPr>
        <p:spPr>
          <a:xfrm>
            <a:off x="250920" y="4402080"/>
            <a:ext cx="5474160" cy="6829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8" name="AutoShape 111"/>
          <p:cNvCxnSpPr>
            <a:stCxn id="542" idx="1"/>
            <a:endCxn id="526" idx="3"/>
          </p:cNvCxnSpPr>
          <p:nvPr/>
        </p:nvCxnSpPr>
        <p:spPr>
          <a:xfrm flipH="1" flipV="1">
            <a:off x="3768480" y="5000040"/>
            <a:ext cx="1956240" cy="846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59" name="AutoShape 112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0" name="AutoShape 113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1" name="AutoShape 114"/>
          <p:cNvCxnSpPr>
            <a:stCxn id="528" idx="3"/>
            <a:endCxn id="542" idx="0"/>
          </p:cNvCxnSpPr>
          <p:nvPr/>
        </p:nvCxnSpPr>
        <p:spPr>
          <a:xfrm flipV="1">
            <a:off x="3819240" y="3212280"/>
            <a:ext cx="105480" cy="27774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2" name="AutoShape 116"/>
          <p:cNvCxnSpPr>
            <a:stCxn id="507" idx="0"/>
          </p:cNvCxnSpPr>
          <p:nvPr/>
        </p:nvCxnSpPr>
        <p:spPr>
          <a:xfrm flipH="1" flipV="1">
            <a:off x="4679640" y="-720"/>
            <a:ext cx="18000" cy="2134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63" name="AutoShape 117"/>
          <p:cNvCxnSpPr>
            <a:stCxn id="528" idx="3"/>
            <a:endCxn id="529" idx="1"/>
          </p:cNvCxnSpPr>
          <p:nvPr/>
        </p:nvCxnSpPr>
        <p:spPr>
          <a:xfrm flipV="1">
            <a:off x="3819600" y="3252960"/>
            <a:ext cx="1761120" cy="2737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headEnd len="med" type="triangle" w="med"/>
            <a:tailEnd len="med" type="triangle" w="med"/>
          </a:ln>
        </p:spPr>
      </p:cxnSp>
    </p:spTree>
  </p:cSld>
  <p:transition spd="med">
    <p:cover dir="l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AutoShape 11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626200" y="19890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324000" y="2441520"/>
            <a:ext cx="83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 I wouldn't have come to the party yesterday if I                           invited the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663480" y="2781360"/>
            <a:ext cx="8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7"/>
          <p:cNvSpPr/>
          <p:nvPr/>
        </p:nvSpPr>
        <p:spPr>
          <a:xfrm>
            <a:off x="5703840" y="27813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asn’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3040200" y="2781360"/>
            <a:ext cx="3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3327480" y="2781360"/>
            <a:ext cx="13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283320" y="342576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Would they                            us if we had lost all our lugga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AutoShape 2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27"/>
          <p:cNvSpPr/>
          <p:nvPr/>
        </p:nvSpPr>
        <p:spPr>
          <a:xfrm>
            <a:off x="661680" y="37861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d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29"/>
          <p:cNvSpPr/>
          <p:nvPr/>
        </p:nvSpPr>
        <p:spPr>
          <a:xfrm>
            <a:off x="3039480" y="37861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e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2"/>
          <p:cNvSpPr/>
          <p:nvPr/>
        </p:nvSpPr>
        <p:spPr>
          <a:xfrm>
            <a:off x="5724360" y="385920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34"/>
          <p:cNvSpPr/>
          <p:nvPr/>
        </p:nvSpPr>
        <p:spPr>
          <a:xfrm>
            <a:off x="5630760" y="24177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n’t b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AutoShape 35"/>
          <p:cNvSpPr/>
          <p:nvPr/>
        </p:nvSpPr>
        <p:spPr>
          <a:xfrm>
            <a:off x="5580000" y="2421000"/>
            <a:ext cx="1490760" cy="4316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36"/>
          <p:cNvSpPr/>
          <p:nvPr/>
        </p:nvSpPr>
        <p:spPr>
          <a:xfrm>
            <a:off x="1957680" y="342576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ve hel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AutoShape 37"/>
          <p:cNvSpPr/>
          <p:nvPr/>
        </p:nvSpPr>
        <p:spPr>
          <a:xfrm>
            <a:off x="1908000" y="3429000"/>
            <a:ext cx="15624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39"/>
          <p:cNvSpPr/>
          <p:nvPr/>
        </p:nvSpPr>
        <p:spPr>
          <a:xfrm>
            <a:off x="360360" y="4433760"/>
            <a:ext cx="523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If she hadn’t put on a short dress she wouldn’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tten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42"/>
          <p:cNvSpPr/>
          <p:nvPr/>
        </p:nvSpPr>
        <p:spPr>
          <a:xfrm>
            <a:off x="5508720" y="44337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ve 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43"/>
          <p:cNvSpPr/>
          <p:nvPr/>
        </p:nvSpPr>
        <p:spPr>
          <a:xfrm>
            <a:off x="5508720" y="4437000"/>
            <a:ext cx="1727280" cy="43200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44"/>
          <p:cNvSpPr/>
          <p:nvPr/>
        </p:nvSpPr>
        <p:spPr>
          <a:xfrm>
            <a:off x="663480" y="493884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attr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45"/>
          <p:cNvSpPr/>
          <p:nvPr/>
        </p:nvSpPr>
        <p:spPr>
          <a:xfrm>
            <a:off x="3059280" y="4867200"/>
            <a:ext cx="19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46"/>
          <p:cNvSpPr/>
          <p:nvPr/>
        </p:nvSpPr>
        <p:spPr>
          <a:xfrm>
            <a:off x="5724360" y="48672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ttra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47"/>
          <p:cNvSpPr/>
          <p:nvPr/>
        </p:nvSpPr>
        <p:spPr>
          <a:xfrm>
            <a:off x="395280" y="5514840"/>
            <a:ext cx="11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If y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Text Box 48"/>
          <p:cNvSpPr/>
          <p:nvPr/>
        </p:nvSpPr>
        <p:spPr>
          <a:xfrm>
            <a:off x="2811960" y="551484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e up, I should have told you somet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49"/>
          <p:cNvSpPr/>
          <p:nvPr/>
        </p:nvSpPr>
        <p:spPr>
          <a:xfrm>
            <a:off x="1598760" y="551484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AutoShape 50"/>
          <p:cNvSpPr/>
          <p:nvPr/>
        </p:nvSpPr>
        <p:spPr>
          <a:xfrm>
            <a:off x="1547640" y="5516640"/>
            <a:ext cx="1152720" cy="43344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51"/>
          <p:cNvSpPr/>
          <p:nvPr/>
        </p:nvSpPr>
        <p:spPr>
          <a:xfrm>
            <a:off x="611280" y="5875200"/>
            <a:ext cx="10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r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53"/>
          <p:cNvSpPr/>
          <p:nvPr/>
        </p:nvSpPr>
        <p:spPr>
          <a:xfrm>
            <a:off x="3059280" y="5945040"/>
            <a:ext cx="15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ve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54"/>
          <p:cNvSpPr/>
          <p:nvPr/>
        </p:nvSpPr>
        <p:spPr>
          <a:xfrm>
            <a:off x="5724360" y="601668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 r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3"/>
          <p:cNvSpPr txBox="1"/>
          <p:nvPr/>
        </p:nvSpPr>
        <p:spPr>
          <a:xfrm>
            <a:off x="2050920" y="476280"/>
            <a:ext cx="6481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  III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3348000" y="1484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Text Box 26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39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40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45"/>
          <p:cNvSpPr/>
          <p:nvPr/>
        </p:nvSpPr>
        <p:spPr>
          <a:xfrm>
            <a:off x="2700360" y="19890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46"/>
          <p:cNvSpPr/>
          <p:nvPr/>
        </p:nvSpPr>
        <p:spPr>
          <a:xfrm>
            <a:off x="778680" y="2560680"/>
            <a:ext cx="738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 бы ты не забыл на работе ключ, ты бы открыл двер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Text Box 49"/>
          <p:cNvSpPr/>
          <p:nvPr/>
        </p:nvSpPr>
        <p:spPr>
          <a:xfrm>
            <a:off x="447840" y="3017880"/>
            <a:ext cx="83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Он бы не женился на ней, если бы она не готовила так замечательно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Text Box 51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2"/>
          <p:cNvSpPr/>
          <p:nvPr/>
        </p:nvSpPr>
        <p:spPr>
          <a:xfrm>
            <a:off x="447840" y="364500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Ты бы понял материал вчерашнего урока гораздо лучше, если бы читал медлен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53"/>
          <p:cNvSpPr/>
          <p:nvPr/>
        </p:nvSpPr>
        <p:spPr>
          <a:xfrm>
            <a:off x="447840" y="3645000"/>
            <a:ext cx="83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54"/>
          <p:cNvSpPr/>
          <p:nvPr/>
        </p:nvSpPr>
        <p:spPr>
          <a:xfrm>
            <a:off x="447840" y="4292640"/>
            <a:ext cx="844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Конференция бы провалилась, если бы Петерсон не сделал такой замечательный докл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55"/>
          <p:cNvSpPr/>
          <p:nvPr/>
        </p:nvSpPr>
        <p:spPr>
          <a:xfrm>
            <a:off x="447840" y="4292640"/>
            <a:ext cx="844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56"/>
          <p:cNvSpPr/>
          <p:nvPr/>
        </p:nvSpPr>
        <p:spPr>
          <a:xfrm>
            <a:off x="447840" y="4960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5. Я бы, возможно, ответил Вам раньше, если бы я владел точной информацией по этому вопрос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57"/>
          <p:cNvSpPr/>
          <p:nvPr/>
        </p:nvSpPr>
        <p:spPr>
          <a:xfrm>
            <a:off x="447840" y="4941720"/>
            <a:ext cx="869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58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6. Мы бы не поехали на этот курорт, если бы дети не попроси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59"/>
          <p:cNvSpPr/>
          <p:nvPr/>
        </p:nvSpPr>
        <p:spPr>
          <a:xfrm>
            <a:off x="447840" y="5661000"/>
            <a:ext cx="851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AutoShape 60">
            <a:hlinkClick r:id="rId2" action="ppaction://hlinksldjump"/>
          </p:cNvPr>
          <p:cNvSpPr/>
          <p:nvPr/>
        </p:nvSpPr>
        <p:spPr>
          <a:xfrm>
            <a:off x="8388360" y="6093000"/>
            <a:ext cx="611280" cy="576000"/>
          </a:xfrm>
          <a:custGeom>
            <a:avLst/>
            <a:gdLst>
              <a:gd name="textAreaLeft" fmla="*/ 37080 w 611280"/>
              <a:gd name="textAreaRight" fmla="*/ 574200 w 611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22" h="21600">
                <a:moveTo>
                  <a:pt x="0" y="0"/>
                </a:moveTo>
                <a:lnTo>
                  <a:pt x="22922" y="0"/>
                </a:lnTo>
                <a:lnTo>
                  <a:pt x="22922" y="21600"/>
                </a:lnTo>
                <a:lnTo>
                  <a:pt x="0" y="21600"/>
                </a:lnTo>
                <a:close/>
              </a:path>
              <a:path fill="lightenLess" w="22922" h="21600">
                <a:moveTo>
                  <a:pt x="0" y="0"/>
                </a:moveTo>
                <a:lnTo>
                  <a:pt x="22922" y="0"/>
                </a:lnTo>
                <a:lnTo>
                  <a:pt x="21522" y="1400"/>
                </a:lnTo>
                <a:lnTo>
                  <a:pt x="1400" y="1400"/>
                </a:lnTo>
                <a:close/>
              </a:path>
              <a:path fill="darken" w="22922" h="21600">
                <a:moveTo>
                  <a:pt x="22922" y="0"/>
                </a:moveTo>
                <a:lnTo>
                  <a:pt x="22922" y="21600"/>
                </a:lnTo>
                <a:lnTo>
                  <a:pt x="21522" y="20200"/>
                </a:lnTo>
                <a:lnTo>
                  <a:pt x="21522" y="1400"/>
                </a:lnTo>
                <a:close/>
              </a:path>
              <a:path fill="darkenLess" w="22922" h="21600">
                <a:moveTo>
                  <a:pt x="22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22" y="20200"/>
                </a:lnTo>
                <a:close/>
              </a:path>
              <a:path fill="lighten" w="22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2" h="21600">
                <a:moveTo>
                  <a:pt x="11461" y="3837"/>
                </a:moveTo>
                <a:lnTo>
                  <a:pt x="14037" y="6448"/>
                </a:ln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lnTo>
                  <a:pt x="18424" y="10800"/>
                </a:lnTo>
                <a:lnTo>
                  <a:pt x="16770" y="10800"/>
                </a:lnTo>
                <a:lnTo>
                  <a:pt x="16770" y="17989"/>
                </a:lnTo>
                <a:lnTo>
                  <a:pt x="6152" y="17989"/>
                </a:lnTo>
                <a:lnTo>
                  <a:pt x="6152" y="10800"/>
                </a:lnTo>
                <a:lnTo>
                  <a:pt x="4498" y="10800"/>
                </a:lnTo>
                <a:close/>
              </a:path>
              <a:path fill="darkenLess" w="22922" h="21600">
                <a:moveTo>
                  <a:pt x="14037" y="6448"/>
                </a:moveTo>
                <a:lnTo>
                  <a:pt x="14037" y="4707"/>
                </a:lnTo>
                <a:lnTo>
                  <a:pt x="15813" y="4707"/>
                </a:lnTo>
                <a:lnTo>
                  <a:pt x="15813" y="8224"/>
                </a:lnTo>
                <a:close/>
              </a:path>
              <a:path fill="darkenLess" w="22922" h="21600">
                <a:moveTo>
                  <a:pt x="10538" y="14299"/>
                </a:moveTo>
                <a:lnTo>
                  <a:pt x="12384" y="14299"/>
                </a:lnTo>
                <a:lnTo>
                  <a:pt x="12384" y="17989"/>
                </a:lnTo>
                <a:lnTo>
                  <a:pt x="16770" y="17989"/>
                </a:lnTo>
                <a:lnTo>
                  <a:pt x="16770" y="10800"/>
                </a:lnTo>
                <a:lnTo>
                  <a:pt x="6152" y="10800"/>
                </a:lnTo>
                <a:lnTo>
                  <a:pt x="6152" y="17989"/>
                </a:lnTo>
                <a:lnTo>
                  <a:pt x="10538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2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2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20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9" dur="2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8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2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AutoShape 9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AutoShape 12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Text Box 13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Text Box 29"/>
          <p:cNvSpPr/>
          <p:nvPr/>
        </p:nvSpPr>
        <p:spPr>
          <a:xfrm>
            <a:off x="611280" y="215280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случаи, в которых одна часть предложения относится к настоящему или будущему, а другая часть относится к прошлому. Такие конструкции называю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смешанным типом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условных предложений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ложения смешанного типа  как бы "склеены" из условных предложений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тор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третье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типов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663480" y="49608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ore attentive, y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have pas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31"/>
          <p:cNvSpPr/>
          <p:nvPr/>
        </p:nvSpPr>
        <p:spPr>
          <a:xfrm>
            <a:off x="663480" y="5661000"/>
            <a:ext cx="8229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был более внимательным, то сдал бы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вче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 это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экзаме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Text Box 19"/>
          <p:cNvSpPr/>
          <p:nvPr/>
        </p:nvSpPr>
        <p:spPr>
          <a:xfrm>
            <a:off x="684360" y="2081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мешанные условные предложения в английском язык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двух видов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AutoShape 32"/>
          <p:cNvSpPr/>
          <p:nvPr/>
        </p:nvSpPr>
        <p:spPr>
          <a:xfrm>
            <a:off x="684360" y="3645000"/>
            <a:ext cx="338292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AutoShape 33"/>
          <p:cNvSpPr/>
          <p:nvPr/>
        </p:nvSpPr>
        <p:spPr>
          <a:xfrm>
            <a:off x="5364000" y="3645000"/>
            <a:ext cx="3383280" cy="2448000"/>
          </a:xfrm>
          <a:prstGeom prst="roundRect">
            <a:avLst>
              <a:gd name="adj" fmla="val 16667"/>
            </a:avLst>
          </a:prstGeom>
          <a:solidFill>
            <a:srgbClr val="b6a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34"/>
          <p:cNvSpPr/>
          <p:nvPr/>
        </p:nvSpPr>
        <p:spPr>
          <a:xfrm>
            <a:off x="1671480" y="314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5"/>
          <p:cNvSpPr/>
          <p:nvPr/>
        </p:nvSpPr>
        <p:spPr>
          <a:xfrm>
            <a:off x="6640560" y="3141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826920" y="3881520"/>
            <a:ext cx="29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 первом случае подчеркивается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результат в настоящ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 пр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условии в прошедш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39"/>
          <p:cNvSpPr/>
          <p:nvPr/>
        </p:nvSpPr>
        <p:spPr>
          <a:xfrm>
            <a:off x="5580000" y="3860640"/>
            <a:ext cx="29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Во втором случае подчеркивается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результат в прошедш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 при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условии в настоящем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16"/>
          <p:cNvSpPr/>
          <p:nvPr/>
        </p:nvSpPr>
        <p:spPr>
          <a:xfrm>
            <a:off x="755640" y="200988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611280" y="2852640"/>
            <a:ext cx="3600360" cy="309744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18"/>
          <p:cNvSpPr/>
          <p:nvPr/>
        </p:nvSpPr>
        <p:spPr>
          <a:xfrm>
            <a:off x="5003640" y="2852640"/>
            <a:ext cx="3598920" cy="309744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19"/>
          <p:cNvSpPr/>
          <p:nvPr/>
        </p:nvSpPr>
        <p:spPr>
          <a:xfrm>
            <a:off x="684360" y="2997360"/>
            <a:ext cx="34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20"/>
          <p:cNvSpPr/>
          <p:nvPr/>
        </p:nvSpPr>
        <p:spPr>
          <a:xfrm>
            <a:off x="5651640" y="3068640"/>
            <a:ext cx="22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21"/>
          <p:cNvSpPr/>
          <p:nvPr/>
        </p:nvSpPr>
        <p:spPr>
          <a:xfrm>
            <a:off x="1042920" y="3716280"/>
            <a:ext cx="2737080" cy="1584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22"/>
          <p:cNvSpPr/>
          <p:nvPr/>
        </p:nvSpPr>
        <p:spPr>
          <a:xfrm>
            <a:off x="5292720" y="3716280"/>
            <a:ext cx="3095640" cy="1657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AutoShape 23"/>
          <p:cNvSpPr/>
          <p:nvPr/>
        </p:nvSpPr>
        <p:spPr>
          <a:xfrm>
            <a:off x="3780000" y="3789360"/>
            <a:ext cx="1512720" cy="431640"/>
          </a:xfrm>
          <a:prstGeom prst="rightArrow">
            <a:avLst>
              <a:gd name="adj1" fmla="val 50000"/>
              <a:gd name="adj2" fmla="val 87615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27"/>
          <p:cNvSpPr/>
          <p:nvPr/>
        </p:nvSpPr>
        <p:spPr>
          <a:xfrm>
            <a:off x="971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…Past Perfect (I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5292720" y="3716280"/>
            <a:ext cx="32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+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инфинити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29"/>
          <p:cNvSpPr/>
          <p:nvPr/>
        </p:nvSpPr>
        <p:spPr>
          <a:xfrm>
            <a:off x="3780000" y="4581360"/>
            <a:ext cx="1512720" cy="432000"/>
          </a:xfrm>
          <a:prstGeom prst="rightArrow">
            <a:avLst>
              <a:gd name="adj1" fmla="val 50000"/>
              <a:gd name="adj2" fmla="val 87542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826920" y="5516640"/>
            <a:ext cx="756144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31"/>
          <p:cNvSpPr/>
          <p:nvPr/>
        </p:nvSpPr>
        <p:spPr>
          <a:xfrm>
            <a:off x="879480" y="5445000"/>
            <a:ext cx="745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32"/>
          <p:cNvSpPr/>
          <p:nvPr/>
        </p:nvSpPr>
        <p:spPr>
          <a:xfrm>
            <a:off x="879480" y="5516640"/>
            <a:ext cx="668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had tak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the medicine, you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Arial"/>
              </a:rPr>
              <a:t>would fe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uch better n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1042920" y="460224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  Past Simple (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7"/>
          <p:cNvSpPr/>
          <p:nvPr/>
        </p:nvSpPr>
        <p:spPr>
          <a:xfrm>
            <a:off x="5339880" y="4578480"/>
            <a:ext cx="296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+have+Participle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Text Box 38"/>
          <p:cNvSpPr/>
          <p:nvPr/>
        </p:nvSpPr>
        <p:spPr>
          <a:xfrm>
            <a:off x="6287400" y="486576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Text Box 39"/>
          <p:cNvSpPr/>
          <p:nvPr/>
        </p:nvSpPr>
        <p:spPr>
          <a:xfrm>
            <a:off x="1744560" y="1576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40"/>
          <p:cNvSpPr/>
          <p:nvPr/>
        </p:nvSpPr>
        <p:spPr>
          <a:xfrm>
            <a:off x="900000" y="5875200"/>
            <a:ext cx="74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more attentive,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have pass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the exam yesterd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41"/>
          <p:cNvSpPr/>
          <p:nvPr/>
        </p:nvSpPr>
        <p:spPr>
          <a:xfrm>
            <a:off x="4067280" y="3573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42"/>
          <p:cNvSpPr/>
          <p:nvPr/>
        </p:nvSpPr>
        <p:spPr>
          <a:xfrm>
            <a:off x="4048200" y="4365720"/>
            <a:ext cx="9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9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84360" y="2205000"/>
          <a:ext cx="8135640" cy="4032360"/>
        </p:xfrm>
        <a:graphic>
          <a:graphicData uri="http://schemas.openxmlformats.org/drawingml/2006/table">
            <a:tbl>
              <a:tblPr/>
              <a:tblGrid>
                <a:gridCol w="1008000"/>
                <a:gridCol w="2232000"/>
                <a:gridCol w="2448000"/>
                <a:gridCol w="24476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0bbdc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ccfe6"/>
                    </a:solidFill>
                  </a:tcPr>
                </a:tc>
              </a:tr>
            </a:tbl>
          </a:graphicData>
        </a:graphic>
      </p:graphicFrame>
      <p:sp>
        <p:nvSpPr>
          <p:cNvPr id="710" name="Text Box 44"/>
          <p:cNvSpPr/>
          <p:nvPr/>
        </p:nvSpPr>
        <p:spPr>
          <a:xfrm>
            <a:off x="755640" y="2133720"/>
            <a:ext cx="122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Союз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2124000" y="227664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Услов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4427640" y="2276640"/>
            <a:ext cx="189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Результат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51"/>
          <p:cNvSpPr/>
          <p:nvPr/>
        </p:nvSpPr>
        <p:spPr>
          <a:xfrm>
            <a:off x="6877080" y="2276640"/>
            <a:ext cx="20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Определенность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64"/>
          <p:cNvSpPr/>
          <p:nvPr/>
        </p:nvSpPr>
        <p:spPr>
          <a:xfrm>
            <a:off x="1743120" y="2873520"/>
            <a:ext cx="1965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attentive,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бы ты был более внимательным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65"/>
          <p:cNvSpPr/>
          <p:nvPr/>
        </p:nvSpPr>
        <p:spPr>
          <a:xfrm>
            <a:off x="684360" y="294480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66"/>
          <p:cNvSpPr/>
          <p:nvPr/>
        </p:nvSpPr>
        <p:spPr>
          <a:xfrm>
            <a:off x="3975120" y="2898720"/>
            <a:ext cx="23972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ould have pass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exam yesterday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 сдал бы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этот экзамен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67"/>
          <p:cNvSpPr/>
          <p:nvPr/>
        </p:nvSpPr>
        <p:spPr>
          <a:xfrm>
            <a:off x="6372360" y="2801880"/>
            <a:ext cx="2520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вообще (вчера, сегодня, завтра) был "более внимательным" - мало вероятное, но все же реальное условие (второй тип), то вчера (которое уже не вернешь), ты бы сдал этот экзамен - нереальное следствие условия, относящееся к прошлом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68"/>
          <p:cNvSpPr/>
          <p:nvPr/>
        </p:nvSpPr>
        <p:spPr>
          <a:xfrm>
            <a:off x="763200" y="4626000"/>
            <a:ext cx="92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f (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69"/>
          <p:cNvSpPr/>
          <p:nvPr/>
        </p:nvSpPr>
        <p:spPr>
          <a:xfrm>
            <a:off x="1743120" y="4602240"/>
            <a:ext cx="210816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If 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had tak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the medicine in the morning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Если бы ты принял лекарств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тр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Text Box 71"/>
          <p:cNvSpPr/>
          <p:nvPr/>
        </p:nvSpPr>
        <p:spPr>
          <a:xfrm>
            <a:off x="3975120" y="4554360"/>
            <a:ext cx="2325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you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would f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much better now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то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сей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 бы чувствовал себя гораздо лучше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72"/>
          <p:cNvSpPr/>
          <p:nvPr/>
        </p:nvSpPr>
        <p:spPr>
          <a:xfrm>
            <a:off x="6372360" y="4508640"/>
            <a:ext cx="2520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тро уже окончилось, поэтому это уже нереальное условие, относящееся к прошлому. (третий тип). "Ты сейчас чувствовал бы себя гораздо лучше" - вполне реальное следствие поставленного условия, относящееся к текущему момент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27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40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41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Text Box 42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43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47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50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59"/>
          <p:cNvSpPr/>
          <p:nvPr/>
        </p:nvSpPr>
        <p:spPr>
          <a:xfrm>
            <a:off x="3444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60"/>
          <p:cNvSpPr/>
          <p:nvPr/>
        </p:nvSpPr>
        <p:spPr>
          <a:xfrm>
            <a:off x="2484360" y="200988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atch the parts of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67"/>
          <p:cNvSpPr/>
          <p:nvPr/>
        </p:nvSpPr>
        <p:spPr>
          <a:xfrm>
            <a:off x="539640" y="3860640"/>
            <a:ext cx="3456000" cy="64800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68"/>
          <p:cNvSpPr/>
          <p:nvPr/>
        </p:nvSpPr>
        <p:spPr>
          <a:xfrm>
            <a:off x="539640" y="2924280"/>
            <a:ext cx="3456000" cy="72072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69"/>
          <p:cNvSpPr/>
          <p:nvPr/>
        </p:nvSpPr>
        <p:spPr>
          <a:xfrm>
            <a:off x="539640" y="4724280"/>
            <a:ext cx="3456000" cy="6494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70"/>
          <p:cNvSpPr/>
          <p:nvPr/>
        </p:nvSpPr>
        <p:spPr>
          <a:xfrm>
            <a:off x="539640" y="5589720"/>
            <a:ext cx="3456000" cy="647640"/>
          </a:xfrm>
          <a:prstGeom prst="rect">
            <a:avLst/>
          </a:prstGeom>
          <a:solidFill>
            <a:srgbClr val="8ab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71"/>
          <p:cNvSpPr/>
          <p:nvPr/>
        </p:nvSpPr>
        <p:spPr>
          <a:xfrm>
            <a:off x="5292720" y="2924280"/>
            <a:ext cx="3672000" cy="72072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72"/>
          <p:cNvSpPr/>
          <p:nvPr/>
        </p:nvSpPr>
        <p:spPr>
          <a:xfrm>
            <a:off x="5292720" y="3860640"/>
            <a:ext cx="3672000" cy="64800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73"/>
          <p:cNvSpPr/>
          <p:nvPr/>
        </p:nvSpPr>
        <p:spPr>
          <a:xfrm>
            <a:off x="5292720" y="4724280"/>
            <a:ext cx="3672000" cy="6494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74"/>
          <p:cNvSpPr/>
          <p:nvPr/>
        </p:nvSpPr>
        <p:spPr>
          <a:xfrm>
            <a:off x="5292720" y="5589720"/>
            <a:ext cx="3672000" cy="647640"/>
          </a:xfrm>
          <a:prstGeom prst="rect">
            <a:avLst/>
          </a:prstGeom>
          <a:solidFill>
            <a:srgbClr val="f7c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78"/>
          <p:cNvSpPr/>
          <p:nvPr/>
        </p:nvSpPr>
        <p:spPr>
          <a:xfrm>
            <a:off x="801720" y="3017880"/>
            <a:ext cx="29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had accep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at job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80"/>
          <p:cNvSpPr/>
          <p:nvPr/>
        </p:nvSpPr>
        <p:spPr>
          <a:xfrm>
            <a:off x="5481720" y="301788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b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millionaire now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83"/>
          <p:cNvSpPr/>
          <p:nvPr/>
        </p:nvSpPr>
        <p:spPr>
          <a:xfrm>
            <a:off x="730080" y="3881520"/>
            <a:ext cx="25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had marri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85"/>
          <p:cNvSpPr/>
          <p:nvPr/>
        </p:nvSpPr>
        <p:spPr>
          <a:xfrm>
            <a:off x="5508720" y="4867200"/>
            <a:ext cx="316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li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appy now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87"/>
          <p:cNvSpPr/>
          <p:nvPr/>
        </p:nvSpPr>
        <p:spPr>
          <a:xfrm>
            <a:off x="802440" y="4794120"/>
            <a:ext cx="25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e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a good coo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89"/>
          <p:cNvSpPr/>
          <p:nvPr/>
        </p:nvSpPr>
        <p:spPr>
          <a:xfrm>
            <a:off x="5364000" y="378936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 have invi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m to lunch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91"/>
          <p:cNvSpPr/>
          <p:nvPr/>
        </p:nvSpPr>
        <p:spPr>
          <a:xfrm>
            <a:off x="730080" y="5610240"/>
            <a:ext cx="22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didn't lov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Text Box 92"/>
          <p:cNvSpPr/>
          <p:nvPr/>
        </p:nvSpPr>
        <p:spPr>
          <a:xfrm>
            <a:off x="5410080" y="5659560"/>
            <a:ext cx="34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wouldn't have marri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him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63" name="AutoShape 93"/>
          <p:cNvCxnSpPr>
            <a:stCxn id="738" idx="0"/>
            <a:endCxn id="751" idx="1"/>
          </p:cNvCxnSpPr>
          <p:nvPr/>
        </p:nvCxnSpPr>
        <p:spPr>
          <a:xfrm>
            <a:off x="4300560" y="2997360"/>
            <a:ext cx="992880" cy="288000"/>
          </a:xfrm>
          <a:prstGeom prst="straightConnector1">
            <a:avLst/>
          </a:prstGeom>
          <a:ln w="0">
            <a:noFill/>
          </a:ln>
        </p:spPr>
      </p:cxnSp>
      <p:sp>
        <p:nvSpPr>
          <p:cNvPr id="764" name="Line 94"/>
          <p:cNvSpPr/>
          <p:nvPr/>
        </p:nvSpPr>
        <p:spPr>
          <a:xfrm>
            <a:off x="3995640" y="328464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95"/>
          <p:cNvSpPr/>
          <p:nvPr/>
        </p:nvSpPr>
        <p:spPr>
          <a:xfrm>
            <a:off x="3995640" y="4149720"/>
            <a:ext cx="1297080" cy="93492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96"/>
          <p:cNvSpPr/>
          <p:nvPr/>
        </p:nvSpPr>
        <p:spPr>
          <a:xfrm flipV="1">
            <a:off x="3995640" y="4220640"/>
            <a:ext cx="1297080" cy="79236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97"/>
          <p:cNvSpPr/>
          <p:nvPr/>
        </p:nvSpPr>
        <p:spPr>
          <a:xfrm>
            <a:off x="3995640" y="5877000"/>
            <a:ext cx="12970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769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22"/>
          <p:cNvSpPr/>
          <p:nvPr/>
        </p:nvSpPr>
        <p:spPr>
          <a:xfrm>
            <a:off x="3515400" y="150480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23"/>
          <p:cNvSpPr/>
          <p:nvPr/>
        </p:nvSpPr>
        <p:spPr>
          <a:xfrm>
            <a:off x="2771640" y="2009880"/>
            <a:ext cx="39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Choose the correct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Text Box 24"/>
          <p:cNvSpPr/>
          <p:nvPr/>
        </p:nvSpPr>
        <p:spPr>
          <a:xfrm>
            <a:off x="395280" y="2441520"/>
            <a:ext cx="70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1. If you were always near 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n’t have got lost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ores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25"/>
          <p:cNvSpPr/>
          <p:nvPr/>
        </p:nvSpPr>
        <p:spPr>
          <a:xfrm>
            <a:off x="755640" y="28526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ouldn’t get lost             b) didn’t get lost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n’t have got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AutoShape 26"/>
          <p:cNvSpPr/>
          <p:nvPr/>
        </p:nvSpPr>
        <p:spPr>
          <a:xfrm>
            <a:off x="3419640" y="2492280"/>
            <a:ext cx="2376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27"/>
          <p:cNvSpPr/>
          <p:nvPr/>
        </p:nvSpPr>
        <p:spPr>
          <a:xfrm>
            <a:off x="395280" y="3305160"/>
            <a:ext cx="873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 would get a better mark today if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had look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over the material yesterda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AutoShape 28"/>
          <p:cNvSpPr/>
          <p:nvPr/>
        </p:nvSpPr>
        <p:spPr>
          <a:xfrm>
            <a:off x="5003640" y="335772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9"/>
          <p:cNvSpPr/>
          <p:nvPr/>
        </p:nvSpPr>
        <p:spPr>
          <a:xfrm>
            <a:off x="721080" y="3784680"/>
            <a:ext cx="67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d looked                       b) have looked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с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look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30"/>
          <p:cNvSpPr/>
          <p:nvPr/>
        </p:nvSpPr>
        <p:spPr>
          <a:xfrm>
            <a:off x="395280" y="416880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3. If you hadn't wasted your time on computer games you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n’t fai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the final exam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AutoShape 31"/>
          <p:cNvSpPr/>
          <p:nvPr/>
        </p:nvSpPr>
        <p:spPr>
          <a:xfrm>
            <a:off x="6372360" y="422100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32"/>
          <p:cNvSpPr/>
          <p:nvPr/>
        </p:nvSpPr>
        <p:spPr>
          <a:xfrm>
            <a:off x="755640" y="47941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wouldn’t have failed       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n’t fail                  c) have fail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33"/>
          <p:cNvSpPr/>
          <p:nvPr/>
        </p:nvSpPr>
        <p:spPr>
          <a:xfrm>
            <a:off x="17280" y="5176800"/>
            <a:ext cx="70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4. If I knew her well I  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would have accep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her invitation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AutoShape 34"/>
          <p:cNvSpPr/>
          <p:nvPr/>
        </p:nvSpPr>
        <p:spPr>
          <a:xfrm>
            <a:off x="2771640" y="5300640"/>
            <a:ext cx="2232000" cy="360360"/>
          </a:xfrm>
          <a:prstGeom prst="roundRect">
            <a:avLst>
              <a:gd name="adj" fmla="val 16667"/>
            </a:avLst>
          </a:prstGeom>
          <a:solidFill>
            <a:srgbClr val="a590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35"/>
          <p:cNvSpPr/>
          <p:nvPr/>
        </p:nvSpPr>
        <p:spPr>
          <a:xfrm>
            <a:off x="735120" y="5661000"/>
            <a:ext cx="81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a) have accepted                  b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had accepted                  c) would have acce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2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02" name="WordArt 3"/>
          <p:cNvSpPr txBox="1"/>
          <p:nvPr/>
        </p:nvSpPr>
        <p:spPr>
          <a:xfrm>
            <a:off x="1908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MIXED  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Text Box 22"/>
          <p:cNvSpPr/>
          <p:nvPr/>
        </p:nvSpPr>
        <p:spPr>
          <a:xfrm>
            <a:off x="322812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Text Box 23"/>
          <p:cNvSpPr/>
          <p:nvPr/>
        </p:nvSpPr>
        <p:spPr>
          <a:xfrm>
            <a:off x="2556000" y="200988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24"/>
          <p:cNvSpPr/>
          <p:nvPr/>
        </p:nvSpPr>
        <p:spPr>
          <a:xfrm>
            <a:off x="857880" y="2513160"/>
            <a:ext cx="76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Если бы я не любила его, я бы не вышла за него замуж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25"/>
          <p:cNvSpPr/>
          <p:nvPr/>
        </p:nvSpPr>
        <p:spPr>
          <a:xfrm>
            <a:off x="539640" y="249228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26"/>
          <p:cNvSpPr/>
          <p:nvPr/>
        </p:nvSpPr>
        <p:spPr>
          <a:xfrm>
            <a:off x="539640" y="3068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Если бы меня пригласили, я бы прише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Text Box 28"/>
          <p:cNvSpPr/>
          <p:nvPr/>
        </p:nvSpPr>
        <p:spPr>
          <a:xfrm>
            <a:off x="539640" y="36655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Если бы я хорошо готовил, я бы пригласил их на обед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Text Box 30"/>
          <p:cNvSpPr/>
          <p:nvPr/>
        </p:nvSpPr>
        <p:spPr>
          <a:xfrm>
            <a:off x="539640" y="424188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Если бы я знал английский, я бы нашел лучшую работ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32"/>
          <p:cNvSpPr/>
          <p:nvPr/>
        </p:nvSpPr>
        <p:spPr>
          <a:xfrm>
            <a:off x="539640" y="4797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Если бы ты был более внимательным, то сдал бы вчера этот экзаме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539640" y="47973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AutoShape 34">
            <a:hlinkClick r:id="rId2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20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20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" dur="2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0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5" dur="2000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684360" y="227664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чь  в таких предложениях идет не об одной конкретной ситуации, а о чем-то, что верно всегда – такая «универсальная правда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If we heat water it boils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– Если мы нагреем воду, она закипи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обеих частях предложения употребляется Present Sim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32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422360"/>
          </a:xfrm>
          <a:prstGeom prst="rect">
            <a:avLst/>
          </a:prstGeom>
          <a:ln w="0">
            <a:noFill/>
          </a:ln>
        </p:spPr>
      </p:pic>
      <p:sp>
        <p:nvSpPr>
          <p:cNvPr id="833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22"/>
          <p:cNvSpPr/>
          <p:nvPr/>
        </p:nvSpPr>
        <p:spPr>
          <a:xfrm>
            <a:off x="611280" y="2276640"/>
            <a:ext cx="83534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едложения 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I wish”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пользуются для выражения сожаления, разочарования, грусти, когда что-то столь желаемое не получается или не получилось ранее. Они имеют много общего с условными предложениями. Для этого в них присутствует слово wish (жалко, что не).</a:t>
            </a:r>
            <a:br>
              <a:rPr sz="2400"/>
            </a:br>
            <a:br>
              <a:rPr sz="2400"/>
            </a:b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I wish I knew what to do about the problem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– Жаль, что я не знаю, что делать с этой проблемой (и я сожале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52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53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81320"/>
          </a:xfrm>
          <a:prstGeom prst="rect">
            <a:avLst/>
          </a:prstGeom>
          <a:ln w="0">
            <a:noFill/>
          </a:ln>
        </p:spPr>
      </p:pic>
      <p:sp>
        <p:nvSpPr>
          <p:cNvPr id="854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755640" y="20811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 английском языке предложения с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I wis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”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огут быть трех типов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AutoShape 26"/>
          <p:cNvSpPr/>
          <p:nvPr/>
        </p:nvSpPr>
        <p:spPr>
          <a:xfrm>
            <a:off x="61128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AutoShape 27"/>
          <p:cNvSpPr/>
          <p:nvPr/>
        </p:nvSpPr>
        <p:spPr>
          <a:xfrm>
            <a:off x="356400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AutoShape 28"/>
          <p:cNvSpPr/>
          <p:nvPr/>
        </p:nvSpPr>
        <p:spPr>
          <a:xfrm>
            <a:off x="6443640" y="3284640"/>
            <a:ext cx="2376360" cy="2881080"/>
          </a:xfrm>
          <a:custGeom>
            <a:avLst/>
            <a:gdLst>
              <a:gd name="textAreaLeft" fmla="*/ 115920 w 2376360"/>
              <a:gd name="textAreaRight" fmla="*/ 2260440 w 2376360"/>
              <a:gd name="textAreaTop" fmla="*/ 115920 h 2881080"/>
              <a:gd name="textAreaBottom" fmla="*/ 2765160 h 2881080"/>
            </a:gdLst>
            <a:ahLst/>
            <a:rect l="textAreaLeft" t="textAreaTop" r="textAreaRight" b="textAreaBottom"/>
            <a:pathLst>
              <a:path w="21600" h="26187">
                <a:moveTo>
                  <a:pt x="3600" y="0"/>
                </a:moveTo>
                <a:arcTo wR="3600" hR="3600" stAng="16200000" swAng="-5400000"/>
                <a:lnTo>
                  <a:pt x="0" y="22587"/>
                </a:lnTo>
                <a:arcTo wR="3600" hR="3600" stAng="10800000" swAng="-5400000"/>
                <a:lnTo>
                  <a:pt x="18000" y="261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31"/>
          <p:cNvSpPr/>
          <p:nvPr/>
        </p:nvSpPr>
        <p:spPr>
          <a:xfrm>
            <a:off x="755640" y="3449520"/>
            <a:ext cx="23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34"/>
          <p:cNvSpPr/>
          <p:nvPr/>
        </p:nvSpPr>
        <p:spPr>
          <a:xfrm>
            <a:off x="3635280" y="3449520"/>
            <a:ext cx="223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Речь идёт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прошедшем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времени. Такая фраза - выражение сожаления о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прошл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Text Box 36"/>
          <p:cNvSpPr/>
          <p:nvPr/>
        </p:nvSpPr>
        <p:spPr>
          <a:xfrm>
            <a:off x="6516720" y="335772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ы желаем, чтобы что-то произо-шло в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будущем,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сожалеем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настояще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879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880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5900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23"/>
          <p:cNvSpPr/>
          <p:nvPr/>
        </p:nvSpPr>
        <p:spPr>
          <a:xfrm>
            <a:off x="684360" y="2060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  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Rectangle 24"/>
          <p:cNvSpPr/>
          <p:nvPr/>
        </p:nvSpPr>
        <p:spPr>
          <a:xfrm>
            <a:off x="611280" y="2637000"/>
            <a:ext cx="3600360" cy="360036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Rectangle 25"/>
          <p:cNvSpPr/>
          <p:nvPr/>
        </p:nvSpPr>
        <p:spPr>
          <a:xfrm>
            <a:off x="5364000" y="2637000"/>
            <a:ext cx="3529080" cy="360036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Rectangle 28"/>
          <p:cNvSpPr/>
          <p:nvPr/>
        </p:nvSpPr>
        <p:spPr>
          <a:xfrm>
            <a:off x="1042920" y="2924280"/>
            <a:ext cx="2737080" cy="24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29"/>
          <p:cNvSpPr/>
          <p:nvPr/>
        </p:nvSpPr>
        <p:spPr>
          <a:xfrm>
            <a:off x="5796000" y="2924280"/>
            <a:ext cx="2736720" cy="24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30"/>
          <p:cNvSpPr/>
          <p:nvPr/>
        </p:nvSpPr>
        <p:spPr>
          <a:xfrm>
            <a:off x="5919840" y="2944800"/>
            <a:ext cx="2468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Past Simple / Past Continuou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31"/>
          <p:cNvSpPr/>
          <p:nvPr/>
        </p:nvSpPr>
        <p:spPr>
          <a:xfrm>
            <a:off x="1528920" y="2944800"/>
            <a:ext cx="109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32"/>
          <p:cNvSpPr/>
          <p:nvPr/>
        </p:nvSpPr>
        <p:spPr>
          <a:xfrm>
            <a:off x="1547640" y="393372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33"/>
          <p:cNvSpPr/>
          <p:nvPr/>
        </p:nvSpPr>
        <p:spPr>
          <a:xfrm>
            <a:off x="1547640" y="4724280"/>
            <a:ext cx="11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sh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34"/>
          <p:cNvSpPr/>
          <p:nvPr/>
        </p:nvSpPr>
        <p:spPr>
          <a:xfrm>
            <a:off x="5992920" y="39337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ast Perfec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35"/>
          <p:cNvSpPr/>
          <p:nvPr/>
        </p:nvSpPr>
        <p:spPr>
          <a:xfrm>
            <a:off x="5867280" y="467352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+ Infin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AutoShape 36"/>
          <p:cNvSpPr/>
          <p:nvPr/>
        </p:nvSpPr>
        <p:spPr>
          <a:xfrm>
            <a:off x="3780000" y="306864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AutoShape 37"/>
          <p:cNvSpPr/>
          <p:nvPr/>
        </p:nvSpPr>
        <p:spPr>
          <a:xfrm>
            <a:off x="3780000" y="4005360"/>
            <a:ext cx="2016000" cy="431640"/>
          </a:xfrm>
          <a:prstGeom prst="rightArrow">
            <a:avLst>
              <a:gd name="adj1" fmla="val 50000"/>
              <a:gd name="adj2" fmla="val 116764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AutoShape 38"/>
          <p:cNvSpPr/>
          <p:nvPr/>
        </p:nvSpPr>
        <p:spPr>
          <a:xfrm>
            <a:off x="3780000" y="4797360"/>
            <a:ext cx="2016000" cy="432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39"/>
          <p:cNvSpPr/>
          <p:nvPr/>
        </p:nvSpPr>
        <p:spPr>
          <a:xfrm>
            <a:off x="826920" y="5516640"/>
            <a:ext cx="784872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40"/>
          <p:cNvSpPr/>
          <p:nvPr/>
        </p:nvSpPr>
        <p:spPr>
          <a:xfrm>
            <a:off x="3635280" y="53942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knew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the answer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Text Box 41"/>
          <p:cNvSpPr/>
          <p:nvPr/>
        </p:nvSpPr>
        <p:spPr>
          <a:xfrm>
            <a:off x="1979640" y="57340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so rude to my parents yesterday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Text Box 42"/>
          <p:cNvSpPr/>
          <p:nvPr/>
        </p:nvSpPr>
        <p:spPr>
          <a:xfrm>
            <a:off x="1116000" y="60418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stop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playing computer games and spend some time with 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17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18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32876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6" name=""/>
          <p:cNvGraphicFramePr/>
          <p:nvPr/>
        </p:nvGraphicFramePr>
        <p:xfrm>
          <a:off x="539640" y="2276640"/>
          <a:ext cx="8425080" cy="3960720"/>
        </p:xfrm>
        <a:graphic>
          <a:graphicData uri="http://schemas.openxmlformats.org/drawingml/2006/table">
            <a:tbl>
              <a:tblPr/>
              <a:tblGrid>
                <a:gridCol w="1944720"/>
                <a:gridCol w="2158920"/>
                <a:gridCol w="2160720"/>
                <a:gridCol w="21607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fee"/>
                    </a:solid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aec5e0"/>
                    </a:solidFill>
                  </a:tcPr>
                </a:tc>
              </a:tr>
            </a:tbl>
          </a:graphicData>
        </a:graphic>
      </p:graphicFrame>
      <p:sp>
        <p:nvSpPr>
          <p:cNvPr id="937" name="Text Box 63"/>
          <p:cNvSpPr/>
          <p:nvPr/>
        </p:nvSpPr>
        <p:spPr>
          <a:xfrm>
            <a:off x="1099080" y="236844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Тип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64"/>
          <p:cNvSpPr/>
          <p:nvPr/>
        </p:nvSpPr>
        <p:spPr>
          <a:xfrm>
            <a:off x="2885760" y="23684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оясн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65"/>
          <p:cNvSpPr/>
          <p:nvPr/>
        </p:nvSpPr>
        <p:spPr>
          <a:xfrm>
            <a:off x="4944600" y="2297160"/>
            <a:ext cx="10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мер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66"/>
          <p:cNvSpPr/>
          <p:nvPr/>
        </p:nvSpPr>
        <p:spPr>
          <a:xfrm>
            <a:off x="7278840" y="23684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Перевод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Text Box 67"/>
          <p:cNvSpPr/>
          <p:nvPr/>
        </p:nvSpPr>
        <p:spPr>
          <a:xfrm>
            <a:off x="539640" y="301788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Past Simple / Past Continuou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68"/>
          <p:cNvSpPr/>
          <p:nvPr/>
        </p:nvSpPr>
        <p:spPr>
          <a:xfrm>
            <a:off x="611280" y="41688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Past Perfect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Text Box 69"/>
          <p:cNvSpPr/>
          <p:nvPr/>
        </p:nvSpPr>
        <p:spPr>
          <a:xfrm>
            <a:off x="595080" y="5321160"/>
            <a:ext cx="14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wish + Would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70"/>
          <p:cNvSpPr/>
          <p:nvPr/>
        </p:nvSpPr>
        <p:spPr>
          <a:xfrm>
            <a:off x="2484360" y="294480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еем о чем-либо в настоящем, но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изменить не може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71"/>
          <p:cNvSpPr/>
          <p:nvPr/>
        </p:nvSpPr>
        <p:spPr>
          <a:xfrm>
            <a:off x="2484360" y="42418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еем о прошл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Text Box 72"/>
          <p:cNvSpPr/>
          <p:nvPr/>
        </p:nvSpPr>
        <p:spPr>
          <a:xfrm>
            <a:off x="2484360" y="5084640"/>
            <a:ext cx="215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Выражаем свое недовольство текущи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положеним дел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73"/>
          <p:cNvSpPr/>
          <p:nvPr/>
        </p:nvSpPr>
        <p:spPr>
          <a:xfrm>
            <a:off x="4695840" y="2970360"/>
            <a:ext cx="203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live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in France.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74"/>
          <p:cNvSpPr/>
          <p:nvPr/>
        </p:nvSpPr>
        <p:spPr>
          <a:xfrm>
            <a:off x="4767120" y="4149720"/>
            <a:ext cx="196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had listened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to my parents when I was a teenager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75"/>
          <p:cNvSpPr/>
          <p:nvPr/>
        </p:nvSpPr>
        <p:spPr>
          <a:xfrm>
            <a:off x="4767120" y="5202360"/>
            <a:ext cx="1965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i="1" lang="en-US" sz="1600" spc="-1" strike="noStrike">
                <a:solidFill>
                  <a:srgbClr val="800000"/>
                </a:solidFill>
                <a:latin typeface="Times New Roman"/>
                <a:ea typeface="Arial"/>
              </a:rPr>
              <a:t>would call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your Granny more often.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76"/>
          <p:cNvSpPr/>
          <p:nvPr/>
        </p:nvSpPr>
        <p:spPr>
          <a:xfrm>
            <a:off x="6856560" y="3068640"/>
            <a:ext cx="2036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Как жаль, что я не живу во Франции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77"/>
          <p:cNvSpPr/>
          <p:nvPr/>
        </p:nvSpPr>
        <p:spPr>
          <a:xfrm>
            <a:off x="6856560" y="4025880"/>
            <a:ext cx="203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ь, что я не слушался родителей будучи подростк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78"/>
          <p:cNvSpPr/>
          <p:nvPr/>
        </p:nvSpPr>
        <p:spPr>
          <a:xfrm>
            <a:off x="6804000" y="5176800"/>
            <a:ext cx="208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Было бы неплохо, если бы ты звонил бабуле чащ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54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55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436760"/>
          </a:xfrm>
          <a:prstGeom prst="rect">
            <a:avLst/>
          </a:prstGeom>
          <a:ln w="0">
            <a:noFill/>
          </a:ln>
        </p:spPr>
      </p:pic>
      <p:sp>
        <p:nvSpPr>
          <p:cNvPr id="95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Text Box 22"/>
          <p:cNvSpPr/>
          <p:nvPr/>
        </p:nvSpPr>
        <p:spPr>
          <a:xfrm>
            <a:off x="3299760" y="15048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Text Box 32"/>
          <p:cNvSpPr/>
          <p:nvPr/>
        </p:nvSpPr>
        <p:spPr>
          <a:xfrm>
            <a:off x="2843280" y="20098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Text Box 33"/>
          <p:cNvSpPr/>
          <p:nvPr/>
        </p:nvSpPr>
        <p:spPr>
          <a:xfrm>
            <a:off x="664560" y="2441520"/>
            <a:ext cx="37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kne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the answ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Text Box 35"/>
          <p:cNvSpPr/>
          <p:nvPr/>
        </p:nvSpPr>
        <p:spPr>
          <a:xfrm>
            <a:off x="684360" y="2441520"/>
            <a:ext cx="45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Text Box 36"/>
          <p:cNvSpPr/>
          <p:nvPr/>
        </p:nvSpPr>
        <p:spPr>
          <a:xfrm>
            <a:off x="684360" y="2873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idn’t have to wo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tomorr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Text Box 38"/>
          <p:cNvSpPr/>
          <p:nvPr/>
        </p:nvSpPr>
        <p:spPr>
          <a:xfrm>
            <a:off x="684360" y="3305160"/>
            <a:ext cx="75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n’t be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so rude to my parents yesterda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Text Box 40"/>
          <p:cNvSpPr/>
          <p:nvPr/>
        </p:nvSpPr>
        <p:spPr>
          <a:xfrm>
            <a:off x="684360" y="3736800"/>
            <a:ext cx="69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ad to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me about your plans in adv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684360" y="42418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w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g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ith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666000" y="4241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684360" y="467352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6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you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sto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laying computer games and spend some time with m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6" dur="20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20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20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2000"/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20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2000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20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2000"/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984" name="WordArt 3"/>
          <p:cNvSpPr txBox="1"/>
          <p:nvPr/>
        </p:nvSpPr>
        <p:spPr>
          <a:xfrm>
            <a:off x="2771640" y="40464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I  WISH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985" name="Picture 4" descr="29b8b4fb76a1"/>
          <p:cNvPicPr/>
          <p:nvPr/>
        </p:nvPicPr>
        <p:blipFill>
          <a:blip r:embed="rId2"/>
          <a:stretch/>
        </p:blipFill>
        <p:spPr>
          <a:xfrm>
            <a:off x="395280" y="333360"/>
            <a:ext cx="1440000" cy="1521000"/>
          </a:xfrm>
          <a:prstGeom prst="rect">
            <a:avLst/>
          </a:prstGeom>
          <a:ln w="0">
            <a:noFill/>
          </a:ln>
        </p:spPr>
      </p:pic>
      <p:sp>
        <p:nvSpPr>
          <p:cNvPr id="986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AutoShape 8"/>
          <p:cNvSpPr/>
          <p:nvPr/>
        </p:nvSpPr>
        <p:spPr>
          <a:xfrm>
            <a:off x="358920" y="1989000"/>
            <a:ext cx="878508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Text Box 22"/>
          <p:cNvSpPr/>
          <p:nvPr/>
        </p:nvSpPr>
        <p:spPr>
          <a:xfrm>
            <a:off x="3515400" y="1576440"/>
            <a:ext cx="229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Text Box 23"/>
          <p:cNvSpPr/>
          <p:nvPr/>
        </p:nvSpPr>
        <p:spPr>
          <a:xfrm>
            <a:off x="3059280" y="2009880"/>
            <a:ext cx="35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Text Box 24"/>
          <p:cNvSpPr/>
          <p:nvPr/>
        </p:nvSpPr>
        <p:spPr>
          <a:xfrm>
            <a:off x="592200" y="2565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Жаль, что я не знаю, что делать с этой проблемой (и я сожалею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Text Box 26"/>
          <p:cNvSpPr/>
          <p:nvPr/>
        </p:nvSpPr>
        <p:spPr>
          <a:xfrm>
            <a:off x="611280" y="2565360"/>
            <a:ext cx="60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Text Box 27"/>
          <p:cNvSpPr/>
          <p:nvPr/>
        </p:nvSpPr>
        <p:spPr>
          <a:xfrm>
            <a:off x="611280" y="3449520"/>
            <a:ext cx="47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л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дт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Text Box 28"/>
          <p:cNvSpPr/>
          <p:nvPr/>
        </p:nvSpPr>
        <p:spPr>
          <a:xfrm>
            <a:off x="594360" y="34495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Text Box 29"/>
          <p:cNvSpPr/>
          <p:nvPr/>
        </p:nvSpPr>
        <p:spPr>
          <a:xfrm>
            <a:off x="611280" y="3933720"/>
            <a:ext cx="38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э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каза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611280" y="4437000"/>
            <a:ext cx="61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чилс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сердн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школ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594360" y="4457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611280" y="49608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. Жаль, что я не говорю по-итальянс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Text Box 35"/>
          <p:cNvSpPr/>
          <p:nvPr/>
        </p:nvSpPr>
        <p:spPr>
          <a:xfrm>
            <a:off x="611280" y="54450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6. Жал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чт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я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зя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фотоаппара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Text Box 36"/>
          <p:cNvSpPr/>
          <p:nvPr/>
        </p:nvSpPr>
        <p:spPr>
          <a:xfrm>
            <a:off x="594360" y="5465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AutoShape 37">
            <a:hlinkClick r:id="rId3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2000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20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20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20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20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2000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8" dur="20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3" dur="2000"/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0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WordArt 3"/>
          <p:cNvSpPr txBox="1"/>
          <p:nvPr/>
        </p:nvSpPr>
        <p:spPr>
          <a:xfrm>
            <a:off x="919080" y="404640"/>
            <a:ext cx="7685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CONDITIONAL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2484360" y="2008080"/>
            <a:ext cx="39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AutoShape 8"/>
          <p:cNvSpPr/>
          <p:nvPr/>
        </p:nvSpPr>
        <p:spPr>
          <a:xfrm>
            <a:off x="468360" y="2662200"/>
            <a:ext cx="8424720" cy="350352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5703840" y="2781360"/>
            <a:ext cx="11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3327480" y="2781360"/>
            <a:ext cx="1388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5580000" y="2421000"/>
            <a:ext cx="151308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Text Box 12"/>
          <p:cNvSpPr/>
          <p:nvPr/>
        </p:nvSpPr>
        <p:spPr>
          <a:xfrm>
            <a:off x="7164360" y="4433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Text Box 13"/>
          <p:cNvSpPr/>
          <p:nvPr/>
        </p:nvSpPr>
        <p:spPr>
          <a:xfrm>
            <a:off x="468360" y="20098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14"/>
          <p:cNvSpPr/>
          <p:nvPr/>
        </p:nvSpPr>
        <p:spPr>
          <a:xfrm>
            <a:off x="468360" y="27813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Text Box 15"/>
          <p:cNvSpPr/>
          <p:nvPr/>
        </p:nvSpPr>
        <p:spPr>
          <a:xfrm>
            <a:off x="447840" y="2997360"/>
            <a:ext cx="77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Text Box 16"/>
          <p:cNvSpPr/>
          <p:nvPr/>
        </p:nvSpPr>
        <p:spPr>
          <a:xfrm>
            <a:off x="49849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Text Box 17"/>
          <p:cNvSpPr/>
          <p:nvPr/>
        </p:nvSpPr>
        <p:spPr>
          <a:xfrm>
            <a:off x="5200560" y="236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Text Box 18"/>
          <p:cNvSpPr/>
          <p:nvPr/>
        </p:nvSpPr>
        <p:spPr>
          <a:xfrm>
            <a:off x="4911840" y="229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Text Box 19"/>
          <p:cNvSpPr/>
          <p:nvPr/>
        </p:nvSpPr>
        <p:spPr>
          <a:xfrm>
            <a:off x="541656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Text Box 20"/>
          <p:cNvSpPr/>
          <p:nvPr/>
        </p:nvSpPr>
        <p:spPr>
          <a:xfrm>
            <a:off x="684360" y="2944800"/>
            <a:ext cx="1079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Text Box 21"/>
          <p:cNvSpPr/>
          <p:nvPr/>
        </p:nvSpPr>
        <p:spPr>
          <a:xfrm>
            <a:off x="73512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 Box 22"/>
          <p:cNvSpPr/>
          <p:nvPr/>
        </p:nvSpPr>
        <p:spPr>
          <a:xfrm>
            <a:off x="3544920" y="157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Text Box 36"/>
          <p:cNvSpPr/>
          <p:nvPr/>
        </p:nvSpPr>
        <p:spPr>
          <a:xfrm>
            <a:off x="2411280" y="20098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СПОЛЬЗУЕМЫЕ  РЕСУРС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37"/>
          <p:cNvSpPr/>
          <p:nvPr/>
        </p:nvSpPr>
        <p:spPr>
          <a:xfrm>
            <a:off x="663480" y="2781360"/>
            <a:ext cx="8156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Голицинский Ю.Б.  Грамматика: Сборник упражнений. - 6-е изд., - СПб.: КАРО, 2008. - 544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activeenglish.ru &gt; category/grammar/conditionals/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study.ru &gt;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Уроки онлай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www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blog.ru/conditional-sent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he-World.ru›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-language/grammar…171-uslovno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uzzle-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nglish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com›Уро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611280" y="2924280"/>
            <a:ext cx="3600360" cy="3025800"/>
          </a:xfrm>
          <a:prstGeom prst="rect">
            <a:avLst/>
          </a:prstGeom>
          <a:solidFill>
            <a:srgbClr val="ac60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755640" y="2009880"/>
            <a:ext cx="82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хема предложения строится следующим образ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5003640" y="2924280"/>
            <a:ext cx="3598920" cy="3025800"/>
          </a:xfrm>
          <a:prstGeom prst="rect">
            <a:avLst/>
          </a:prstGeom>
          <a:solidFill>
            <a:srgbClr val="4cba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826920" y="3068640"/>
            <a:ext cx="32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ONDITIONAL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5703840" y="306864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MAIN  CLA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1042920" y="3789360"/>
            <a:ext cx="273708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+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5435640" y="3789360"/>
            <a:ext cx="27367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t Si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780000" y="3933720"/>
            <a:ext cx="1655640" cy="790560"/>
          </a:xfrm>
          <a:prstGeom prst="rightArrow">
            <a:avLst>
              <a:gd name="adj1" fmla="val 50000"/>
              <a:gd name="adj2" fmla="val 52357"/>
            </a:avLst>
          </a:prstGeom>
          <a:solidFill>
            <a:srgbClr val="8ade5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826920" y="5373720"/>
            <a:ext cx="7561440" cy="576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8"/>
          <p:cNvSpPr/>
          <p:nvPr/>
        </p:nvSpPr>
        <p:spPr>
          <a:xfrm>
            <a:off x="2987640" y="5445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you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he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ice, it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mel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040200" y="1484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ВАЖНО ЗАПОМНИТЬ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08200" y="2349360"/>
            <a:ext cx="772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условных предложениях нулевого типа союз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if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ожет заменяться союзом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te, my fathe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k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 to school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д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я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паздываю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то отец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твози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меня в школ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town, w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inner together.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Когд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иезжае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о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мес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ужинаем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311040"/>
            <a:ext cx="6546600" cy="104796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4"/>
          <p:cNvSpPr/>
          <p:nvPr/>
        </p:nvSpPr>
        <p:spPr>
          <a:xfrm>
            <a:off x="324000" y="1916280"/>
            <a:ext cx="8640720" cy="460836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83760" y="157644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607840" y="200988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87880" y="2657520"/>
            <a:ext cx="55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m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late for work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,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y chief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s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ngr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611280" y="3233880"/>
            <a:ext cx="68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A person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oesn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'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 eat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mea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h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s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a vegetaria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594720" y="32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611280" y="3809880"/>
            <a:ext cx="64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get u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arly, my father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dri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me to school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611280" y="4384800"/>
            <a:ext cx="41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Everything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wet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rains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557760" cy="8953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168560" y="2152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84360" y="27288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492360" y="155736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УПРАЖНЕНИЕ №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2967120" y="2060640"/>
            <a:ext cx="33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Translate the sent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592200" y="2657520"/>
            <a:ext cx="80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539640" y="26575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1 Если ты хочешь хорошую работу, ты должен хорошо учить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611280" y="359424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. Ты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н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должен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мног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ть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есл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очеш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охудет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594360" y="35942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11280" y="42418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. Если хранить кофе в морозильнике, то аромат сохраняется дольш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611280" y="522936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. Собака радуется, когда видит хозяин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594360" y="5249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AutoShape 19">
            <a:hlinkClick r:id="rId3" action="ppaction://hlinksldjump"/>
          </p:cNvPr>
          <p:cNvSpPr/>
          <p:nvPr/>
        </p:nvSpPr>
        <p:spPr>
          <a:xfrm>
            <a:off x="7956720" y="5589720"/>
            <a:ext cx="610920" cy="576000"/>
          </a:xfrm>
          <a:custGeom>
            <a:avLst/>
            <a:gdLst>
              <a:gd name="textAreaLeft" fmla="*/ 37080 w 610920"/>
              <a:gd name="textAreaRight" fmla="*/ 573840 w 6109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2909" h="21600">
                <a:moveTo>
                  <a:pt x="0" y="0"/>
                </a:moveTo>
                <a:lnTo>
                  <a:pt x="22909" y="0"/>
                </a:lnTo>
                <a:lnTo>
                  <a:pt x="22909" y="21600"/>
                </a:lnTo>
                <a:lnTo>
                  <a:pt x="0" y="21600"/>
                </a:lnTo>
                <a:close/>
              </a:path>
              <a:path fill="lightenLess" w="22909" h="21600">
                <a:moveTo>
                  <a:pt x="0" y="0"/>
                </a:moveTo>
                <a:lnTo>
                  <a:pt x="22909" y="0"/>
                </a:lnTo>
                <a:lnTo>
                  <a:pt x="21509" y="1400"/>
                </a:lnTo>
                <a:lnTo>
                  <a:pt x="1400" y="1400"/>
                </a:lnTo>
                <a:close/>
              </a:path>
              <a:path fill="darken" w="22909" h="21600">
                <a:moveTo>
                  <a:pt x="22909" y="0"/>
                </a:moveTo>
                <a:lnTo>
                  <a:pt x="22909" y="21600"/>
                </a:lnTo>
                <a:lnTo>
                  <a:pt x="21509" y="20200"/>
                </a:lnTo>
                <a:lnTo>
                  <a:pt x="21509" y="1400"/>
                </a:lnTo>
                <a:close/>
              </a:path>
              <a:path fill="darkenLess" w="22909" h="21600">
                <a:moveTo>
                  <a:pt x="22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9" y="20200"/>
                </a:lnTo>
                <a:close/>
              </a:path>
              <a:path fill="lighten" w="22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9" h="21600">
                <a:moveTo>
                  <a:pt x="11454" y="3837"/>
                </a:moveTo>
                <a:lnTo>
                  <a:pt x="14031" y="6448"/>
                </a:ln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lnTo>
                  <a:pt x="18417" y="10800"/>
                </a:lnTo>
                <a:lnTo>
                  <a:pt x="16764" y="10800"/>
                </a:lnTo>
                <a:lnTo>
                  <a:pt x="16764" y="17989"/>
                </a:lnTo>
                <a:lnTo>
                  <a:pt x="6145" y="17989"/>
                </a:lnTo>
                <a:lnTo>
                  <a:pt x="6145" y="10800"/>
                </a:lnTo>
                <a:lnTo>
                  <a:pt x="4491" y="10800"/>
                </a:lnTo>
                <a:close/>
              </a:path>
              <a:path fill="darkenLess" w="22909" h="21600">
                <a:moveTo>
                  <a:pt x="14031" y="6448"/>
                </a:moveTo>
                <a:lnTo>
                  <a:pt x="14031" y="4707"/>
                </a:lnTo>
                <a:lnTo>
                  <a:pt x="15806" y="4707"/>
                </a:lnTo>
                <a:lnTo>
                  <a:pt x="15806" y="8224"/>
                </a:lnTo>
                <a:close/>
              </a:path>
              <a:path fill="darkenLess" w="22909" h="21600">
                <a:moveTo>
                  <a:pt x="10532" y="14299"/>
                </a:moveTo>
                <a:lnTo>
                  <a:pt x="12377" y="14299"/>
                </a:lnTo>
                <a:lnTo>
                  <a:pt x="12377" y="17989"/>
                </a:lnTo>
                <a:lnTo>
                  <a:pt x="16764" y="17989"/>
                </a:lnTo>
                <a:lnTo>
                  <a:pt x="16764" y="10800"/>
                </a:lnTo>
                <a:lnTo>
                  <a:pt x="6145" y="10800"/>
                </a:lnTo>
                <a:lnTo>
                  <a:pt x="6145" y="17989"/>
                </a:lnTo>
                <a:lnTo>
                  <a:pt x="10532" y="17989"/>
                </a:lnTo>
                <a:close/>
              </a:path>
            </a:pathLst>
          </a:custGeom>
          <a:solidFill>
            <a:srgbClr val="aca7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3" descr="C:\Users\User\Desktop\33086t.jpg"/>
          <p:cNvPicPr/>
          <p:nvPr/>
        </p:nvPicPr>
        <p:blipFill>
          <a:blip r:embed="rId1"/>
          <a:stretch/>
        </p:blipFill>
        <p:spPr>
          <a:xfrm>
            <a:off x="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WordArt 3" descr="Белый мрамор"/>
          <p:cNvPicPr/>
          <p:nvPr/>
        </p:nvPicPr>
        <p:blipFill>
          <a:blip r:embed="rId2"/>
          <a:stretch/>
        </p:blipFill>
        <p:spPr>
          <a:xfrm>
            <a:off x="2036880" y="463680"/>
            <a:ext cx="6778440" cy="89532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4"/>
          <p:cNvSpPr/>
          <p:nvPr/>
        </p:nvSpPr>
        <p:spPr>
          <a:xfrm>
            <a:off x="324000" y="1989000"/>
            <a:ext cx="8640720" cy="4535640"/>
          </a:xfrm>
          <a:prstGeom prst="roundRect">
            <a:avLst>
              <a:gd name="adj" fmla="val 16667"/>
            </a:avLst>
          </a:prstGeom>
          <a:solidFill>
            <a:srgbClr val="d7b06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68360" y="1989000"/>
            <a:ext cx="828036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ый тип условных предложений относится к реальным ситуациям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выполнение условий в этих предложениях вполне осуществим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есмотря на русский перевод, условная часть предложения выражается только при помощи Настоящего времени (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бычно Present Simple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). 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ой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сти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спользуетс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удущее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ремя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f you finish your homework, we shall go to the cin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русском переводе обе части предложения будут находиться в будущем врем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Если ты закончишь домашнюю работу, мы пойдем в кин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16:40:29Z</dcterms:created>
  <dc:creator>User</dc:creator>
  <dc:description/>
  <dc:language>en-US</dc:language>
  <cp:lastModifiedBy>Пользователь Windows</cp:lastModifiedBy>
  <dcterms:modified xsi:type="dcterms:W3CDTF">2020-01-08T09:11:49Z</dcterms:modified>
  <cp:revision>84</cp:revision>
  <dc:subject/>
  <dc:title>CONDITIONA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e0000000000010243100207f6000400038000</vt:lpwstr>
  </property>
</Properties>
</file>