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DE2-D3F0-4917-B2B8-5750E353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64B-1DFA-4B95-84DC-16BD3895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FCC-0D9F-4EBC-8A5C-C8BEAD32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BAD-72AA-45B7-B3BA-7F3A392C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42BE-B520-46B5-B397-9E06AC5B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90E9-D43F-4079-949E-A201069B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A360-062E-45E2-A9A3-5B8DDB46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6DA7-350A-46A8-AD81-0C7A355D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B331-F79A-4FD9-940A-C6D4CF26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FB7D-F1AA-48FF-8CC6-453F9242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5E9A-20F1-48DC-9584-311108D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6AD-3509-490D-9FC7-607F0857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FDEA-7574-42A0-9E9B-36883E1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FC5C-A5CF-4428-8F68-7C3631C3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F538-19DC-4A0D-BDEA-FB6CE1E6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A432-0AB3-4435-A3A4-2C81B7C6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BE04-2952-4E85-ADCF-58FCBEC5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F71A-5DC6-4EBB-888A-14AC884E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5941-5A1D-4EAE-9A07-D8092EC0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59ED5-8E95-46E1-BD3D-9E11F033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DA3E-6AF8-4DC9-BDDF-C52CBC8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16FB-B7EF-46D4-B1EF-5CF7A0ED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103-7D5E-4972-B43B-20B3CA4A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4673-31BC-4159-9757-039409EA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37AA-400F-41CF-BD71-29CBD1F1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D6DA-31D0-4515-B78F-C60CD181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5530-0FEA-4278-B9D1-85D90B6A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99EA-BD7C-4079-9F17-01091C23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A3FD-3287-44F4-AC6B-18BA1486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8FA4-343D-4B50-84CD-1C2BA408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5651-B70D-41C3-A241-A4F0746E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08BA1-2AFB-45B2-9702-A62DED6E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797B-4B7D-49AF-8B69-1676C7C2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DC5-60F5-4B47-AEA3-5C2BCAE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353AA-7FE2-4938-BF38-2C4AF34F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63F4-4F6E-4A47-A840-74D96BA1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35230-1BB8-4753-8A5E-94EAEA32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2A19F-E3D3-452E-8DB3-2AD078E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0E74-4C12-4DA7-9E6B-A19451B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5E29-E131-4E17-A115-E3AFF9F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873E2-B91E-4D5D-B1F6-45578CE2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677B-AB80-49F6-8640-819DC1DD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14AF-950B-42E1-B0BA-1C7789AB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2AD2-417B-4093-8F4B-F3CB44C7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95D-7D49-4DF6-B15A-E8D35C06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74FBC-494B-4527-B274-C0F13A9B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5AAC4-46BD-443B-8CB3-9236C516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E8F08-0DD4-4798-BECA-1970D6F5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D8B1-2696-4E9E-A0AD-02EB8CAF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B418-144A-4F7F-9776-93FA98C5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E8F0-6BA6-4F97-BC0F-23277A7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5B748-5D1A-44E9-8D58-15ADE080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F98FD-5C52-4A1F-B797-9B46D602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730B-A566-4DCA-933D-B0825E91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6598-C210-40F2-8827-6D4DF8A1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D5C-A78C-46F7-B3C6-74897B07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C77B7-6412-4DA3-B051-080E603B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384-2D2B-4E1D-A0C7-70650492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050-C6D6-4630-AE78-D3529472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AC5-A10B-4FCB-9A4E-0EDD8D18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0EA0-F358-4482-BDAE-BC42CFB06F42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54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A53E-92FC-4A75-B75C-D9299F2DCBFC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54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B149-C861-49FE-A274-E932123C09B0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AE0E-FCA9-4FAA-AD17-2A9DE925AF80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54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87D0-4359-4AF3-8144-EAEBA9DADB82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24.xml"/><Relationship Id="rId6" Type="http://schemas.openxmlformats.org/officeDocument/2006/relationships/slide" Target="slide33.xml"/><Relationship Id="rId7" Type="http://schemas.openxmlformats.org/officeDocument/2006/relationships/slide" Target="slide40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WordArt 5"/>
          <p:cNvSpPr txBox="1"/>
          <p:nvPr/>
        </p:nvSpPr>
        <p:spPr>
          <a:xfrm>
            <a:off x="900000" y="1700280"/>
            <a:ext cx="7128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468360" y="19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611280" y="2060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950760" y="301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87948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755640" y="3141720"/>
            <a:ext cx="34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5703840" y="314172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+Presen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18"/>
          <p:cNvSpPr/>
          <p:nvPr/>
        </p:nvSpPr>
        <p:spPr>
          <a:xfrm>
            <a:off x="3780000" y="3933720"/>
            <a:ext cx="1584000" cy="790560"/>
          </a:xfrm>
          <a:prstGeom prst="rightArrow">
            <a:avLst>
              <a:gd name="adj1" fmla="val 50000"/>
              <a:gd name="adj2" fmla="val 50091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536400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5632560" y="40258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utur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900000" y="539424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finis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r homework, we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ill 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the cin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592200" y="2152800"/>
            <a:ext cx="808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мимо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употребляются такие слова и фразы, как: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as soon a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(как только),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til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hen she reads the letter, she will become nervous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 soon as you are ready, I'll drive you ho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же в условных предложениях используется союз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les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(если только не/ разве только не), который можно заменить на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if + not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(отрицание). После союза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les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агол-сказуемое ставится в утвердительной форме, поскольку союз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les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уже заключает в себе отриц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he will forget about it unless we remind her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а забудет про это, если только мы ей не напомним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he will forget about it if we don't remind 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3071520" y="1504800"/>
            <a:ext cx="358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539640" y="242100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даточное предложение, которое обычно начинается со слова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может стоять как в начале условного предложения (перед главным предложением), так и в конце. Если оно стоит в начале, то после него ставится запятая. Если же оно стоит в конце, то перед ним запятая не стави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you leave now, you'll catch the trai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'll catch the train if you leave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419640" y="148428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2916360" y="19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Use the required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519120" y="24922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t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rains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, we won't go to the pa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will rain     b)rains   c)will not rain   d)doesn’t 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You won't pass the exam, 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unl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you work ha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if         b)when         c)unless         d)as soon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When we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a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       ready, I’ll call yo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shall be       b)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You will pay back, as soon as you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fi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  a new jo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find             b)will fi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 I will see you when you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a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    in Moscow next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are      b)will 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 What will you do, when you  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find ou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the tru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will find out     b)have find out    c)find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1042920" y="2565360"/>
            <a:ext cx="792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3492360" y="3213000"/>
            <a:ext cx="792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1908000" y="3789360"/>
            <a:ext cx="71928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AutoShape 12"/>
          <p:cNvSpPr/>
          <p:nvPr/>
        </p:nvSpPr>
        <p:spPr>
          <a:xfrm>
            <a:off x="4427640" y="4365720"/>
            <a:ext cx="649080" cy="3585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13"/>
          <p:cNvSpPr/>
          <p:nvPr/>
        </p:nvSpPr>
        <p:spPr>
          <a:xfrm>
            <a:off x="3348000" y="5013360"/>
            <a:ext cx="576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14"/>
          <p:cNvSpPr/>
          <p:nvPr/>
        </p:nvSpPr>
        <p:spPr>
          <a:xfrm>
            <a:off x="3851280" y="5589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7248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684360" y="20811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mplete the sentences, putting the verbs into the correct for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19120" y="278136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If you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e)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ee, I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come)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to see yo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If 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(to see)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r, I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e) 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gl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If you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busy, I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leave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you alone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If I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liv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in Moscow, I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vis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the Tretyakov Gallery every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If she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know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English, she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try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o enter the universit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If mother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uy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a cake, we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hav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a very nice tea pa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520920" y="4002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519120" y="4581360"/>
            <a:ext cx="71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20920" y="5226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519120" y="5805360"/>
            <a:ext cx="64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20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2000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3348000" y="1484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1959120" y="20098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into Englis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519120" y="2513160"/>
            <a:ext cx="8229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Если ты закончишь домашнюю работу вовремя, мы пойдем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ки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Матч отменят, если пойдет дожд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Ты опоздаешь, если не поторопишь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Я куплю машину, если мне повысят зарплат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Если ты опоздаешь, позвони мне пожалуйс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Если я увижу её, я передам ей от тебя прив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519120" y="2492280"/>
            <a:ext cx="82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519120" y="4005360"/>
            <a:ext cx="50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16">
            <a:hlinkClick r:id="rId2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2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2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2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611280" y="208116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второго типа в английском язык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писывают события настоящего и будущего времени. Ситуации, описанные в таких предложениях, нереальны (невозможны, невероятны, воображаемы). Такие предложения имеют невозможный, гипотетический оттенок. Обратите внимание, что на русский язык данные предложения переводятся в сослагательном наклонении, с частицей "бы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059480" y="5249880"/>
            <a:ext cx="59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it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in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ou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uld sta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ho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Если бы поше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дождь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ы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тался до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611280" y="2133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663480" y="316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43480" y="287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1384200" y="39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555948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5364000" y="3789360"/>
            <a:ext cx="309564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903840" y="39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564000" y="3933720"/>
            <a:ext cx="1800000" cy="790560"/>
          </a:xfrm>
          <a:prstGeom prst="rightArrow">
            <a:avLst>
              <a:gd name="adj1" fmla="val 50000"/>
              <a:gd name="adj2" fmla="val 56922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1239840" y="40258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... Simple P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26920" y="31417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5848200" y="314172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5435640" y="40258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.. would +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гол ..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950760" y="54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2700360" y="53942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t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rain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you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st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t hom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59220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11280" y="2205000"/>
          <a:ext cx="8064360" cy="4019760"/>
        </p:xfrm>
        <a:graphic>
          <a:graphicData uri="http://schemas.openxmlformats.org/drawingml/2006/table">
            <a:tbl>
              <a:tblPr/>
              <a:tblGrid>
                <a:gridCol w="1630440"/>
                <a:gridCol w="2251080"/>
                <a:gridCol w="2193840"/>
                <a:gridCol w="1989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юз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в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ность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4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more serious about your 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л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 своей работе серьез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it in tim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 смог закончи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ее воврем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начении "суметь"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Результат указывает на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y were late again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 они опоздал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uld not let them in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бы не позволила им вой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uld”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ворящий уверен в результа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e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them more politely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тил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 ним вежлив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и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г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еб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h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в значении "может быть", "возможно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916360" y="2060640"/>
            <a:ext cx="37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539640" y="24922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гол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to b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в прошедшем времени всегда буд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и никогда — </a:t>
            </a: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это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f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 he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 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he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592200" y="3716280"/>
            <a:ext cx="585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we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ere, he would help u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бы он был здесь, он бы помог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592200" y="4581360"/>
            <a:ext cx="7867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If I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wer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you, I would drive more carefully in the rain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бы я был на твоем месте, я бы вел машину аккуратнее во время дождя. (но я не на твоем мест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AutoShape 12"/>
          <p:cNvSpPr/>
          <p:nvPr/>
        </p:nvSpPr>
        <p:spPr>
          <a:xfrm>
            <a:off x="1400040" y="5839200"/>
            <a:ext cx="6559560" cy="509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     I/you/he/she/it/we/the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w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214200" y="6922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19120" y="2492280"/>
            <a:ext cx="8156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предел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2" action="ppaction://hlinksldjump"/>
              </a:rPr>
              <a:t>НУЛЕВ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3" action="ppaction://hlinksldjump"/>
              </a:rPr>
              <a:t>ПЕРВ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4" action="ppaction://hlinksldjump"/>
              </a:rPr>
              <a:t>ВТОР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5" action="ppaction://hlinksldjump"/>
              </a:rPr>
              <a:t>ТРЕТЬЕ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6" action="ppaction://hlinksldjump"/>
              </a:rPr>
              <a:t>СМЕШАННОГ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с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7" action="ppaction://hlinksldjump"/>
              </a:rPr>
              <a:t>I W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425040" y="157644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одерж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684360" y="23684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бы придать просьбе или предложению больший оттенок вежливости, используются условные предложения второго тип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11280" y="41688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t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be nice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h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lpe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me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Буд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хорошо,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она мне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мож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Более вежливая просьба – условное предложение второго тип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25092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28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2102760" y="208116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atch the parts of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735120" y="27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7"/>
          <p:cNvSpPr/>
          <p:nvPr/>
        </p:nvSpPr>
        <p:spPr>
          <a:xfrm>
            <a:off x="539640" y="4547160"/>
            <a:ext cx="3240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finish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 work this week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9"/>
          <p:cNvSpPr/>
          <p:nvPr/>
        </p:nvSpPr>
        <p:spPr>
          <a:xfrm>
            <a:off x="5580000" y="275328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tel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er the sto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5580000" y="368820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g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on vac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5580000" y="4614840"/>
            <a:ext cx="3168720" cy="58068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plan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the veget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5580000" y="547596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he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 new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41"/>
          <p:cNvSpPr/>
          <p:nvPr/>
        </p:nvSpPr>
        <p:spPr>
          <a:xfrm>
            <a:off x="611280" y="2780280"/>
            <a:ext cx="316872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rriv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43"/>
          <p:cNvSpPr/>
          <p:nvPr/>
        </p:nvSpPr>
        <p:spPr>
          <a:xfrm>
            <a:off x="539640" y="3811680"/>
            <a:ext cx="32403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45"/>
          <p:cNvSpPr/>
          <p:nvPr/>
        </p:nvSpPr>
        <p:spPr>
          <a:xfrm>
            <a:off x="539640" y="3668760"/>
            <a:ext cx="32403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46"/>
          <p:cNvSpPr/>
          <p:nvPr/>
        </p:nvSpPr>
        <p:spPr>
          <a:xfrm>
            <a:off x="729720" y="378612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sa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47"/>
          <p:cNvSpPr/>
          <p:nvPr/>
        </p:nvSpPr>
        <p:spPr>
          <a:xfrm>
            <a:off x="539640" y="5367240"/>
            <a:ext cx="32403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ain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next week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97" idx="3"/>
            <a:endCxn id="396" idx="1"/>
          </p:cNvCxnSpPr>
          <p:nvPr/>
        </p:nvCxnSpPr>
        <p:spPr>
          <a:xfrm>
            <a:off x="3780000" y="3132000"/>
            <a:ext cx="1800720" cy="2696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03" name="AutoShape 50"/>
          <p:cNvCxnSpPr>
            <a:stCxn id="397" idx="3"/>
            <a:endCxn id="396" idx="1"/>
          </p:cNvCxnSpPr>
          <p:nvPr/>
        </p:nvCxnSpPr>
        <p:spPr>
          <a:xfrm>
            <a:off x="3780000" y="3132000"/>
            <a:ext cx="1800720" cy="2696400"/>
          </a:xfrm>
          <a:prstGeom prst="straightConnector1">
            <a:avLst/>
          </a:prstGeom>
          <a:ln w="0">
            <a:noFill/>
          </a:ln>
        </p:spPr>
      </p:cxnSp>
      <p:sp>
        <p:nvSpPr>
          <p:cNvPr id="404" name="Line 51"/>
          <p:cNvSpPr/>
          <p:nvPr/>
        </p:nvSpPr>
        <p:spPr>
          <a:xfrm>
            <a:off x="3780000" y="3141720"/>
            <a:ext cx="1800000" cy="27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52"/>
          <p:cNvSpPr/>
          <p:nvPr/>
        </p:nvSpPr>
        <p:spPr>
          <a:xfrm>
            <a:off x="3708360" y="2997360"/>
            <a:ext cx="1800360" cy="27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53"/>
          <p:cNvSpPr/>
          <p:nvPr/>
        </p:nvSpPr>
        <p:spPr>
          <a:xfrm>
            <a:off x="3780000" y="3141720"/>
            <a:ext cx="1800000" cy="27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7" name="AutoShape 54"/>
          <p:cNvCxnSpPr>
            <a:stCxn id="396" idx="1"/>
            <a:endCxn id="406" idx="0"/>
          </p:cNvCxnSpPr>
          <p:nvPr/>
        </p:nvCxnSpPr>
        <p:spPr>
          <a:xfrm>
            <a:off x="5579640" y="5827320"/>
            <a:ext cx="1080" cy="5004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Line 55"/>
          <p:cNvSpPr/>
          <p:nvPr/>
        </p:nvSpPr>
        <p:spPr>
          <a:xfrm>
            <a:off x="3780000" y="3213000"/>
            <a:ext cx="1800000" cy="259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56"/>
          <p:cNvSpPr/>
          <p:nvPr/>
        </p:nvSpPr>
        <p:spPr>
          <a:xfrm>
            <a:off x="3780000" y="3141720"/>
            <a:ext cx="1800000" cy="26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58"/>
          <p:cNvSpPr/>
          <p:nvPr/>
        </p:nvSpPr>
        <p:spPr>
          <a:xfrm>
            <a:off x="3635280" y="2997360"/>
            <a:ext cx="1944720" cy="28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59"/>
          <p:cNvSpPr/>
          <p:nvPr/>
        </p:nvSpPr>
        <p:spPr>
          <a:xfrm>
            <a:off x="3708360" y="3068640"/>
            <a:ext cx="1871640" cy="28083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12" name="AutoShape 60"/>
          <p:cNvCxnSpPr>
            <a:endCxn id="393" idx="1"/>
          </p:cNvCxnSpPr>
          <p:nvPr/>
        </p:nvCxnSpPr>
        <p:spPr>
          <a:xfrm flipV="1">
            <a:off x="3780000" y="3104280"/>
            <a:ext cx="1800720" cy="98820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3" name="AutoShape 61"/>
          <p:cNvCxnSpPr>
            <a:endCxn id="394" idx="1"/>
          </p:cNvCxnSpPr>
          <p:nvPr/>
        </p:nvCxnSpPr>
        <p:spPr>
          <a:xfrm flipV="1">
            <a:off x="3780000" y="4039920"/>
            <a:ext cx="1800720" cy="101016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4" name="AutoShape 62"/>
          <p:cNvCxnSpPr>
            <a:stCxn id="401" idx="3"/>
            <a:endCxn id="395" idx="1"/>
          </p:cNvCxnSpPr>
          <p:nvPr/>
        </p:nvCxnSpPr>
        <p:spPr>
          <a:xfrm flipV="1">
            <a:off x="3780000" y="4905000"/>
            <a:ext cx="1800720" cy="87552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cover dir="l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2556000" y="20811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hoose the correct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22776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13720" y="251316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you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pok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foreign language, you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coul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g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better jo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1042920" y="2924280"/>
            <a:ext cx="16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uld 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03840" y="2924280"/>
            <a:ext cx="13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can 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6156360" y="292428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have g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7160" y="3449520"/>
            <a:ext cx="77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If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I 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ha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the time, 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g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to the beach this weekend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1023840" y="3860640"/>
            <a:ext cx="16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 have h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3975120" y="3860640"/>
            <a:ext cx="11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 had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6208560" y="3860640"/>
            <a:ext cx="9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w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588960" y="4457880"/>
            <a:ext cx="744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lot of money, I 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trave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round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1023840" y="4869000"/>
            <a:ext cx="20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3995640" y="486900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did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6227640" y="48690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can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585720" y="5394240"/>
            <a:ext cx="74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 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 you, 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dr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more carefully in the rain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1042920" y="582624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 w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975120" y="582624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 have b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6280920" y="582624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we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AutoShape 27"/>
          <p:cNvSpPr/>
          <p:nvPr/>
        </p:nvSpPr>
        <p:spPr>
          <a:xfrm>
            <a:off x="5435640" y="2565360"/>
            <a:ext cx="122544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28"/>
          <p:cNvSpPr/>
          <p:nvPr/>
        </p:nvSpPr>
        <p:spPr>
          <a:xfrm>
            <a:off x="1476360" y="350028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29"/>
          <p:cNvSpPr/>
          <p:nvPr/>
        </p:nvSpPr>
        <p:spPr>
          <a:xfrm>
            <a:off x="4067280" y="4508640"/>
            <a:ext cx="1728720" cy="3585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30"/>
          <p:cNvSpPr/>
          <p:nvPr/>
        </p:nvSpPr>
        <p:spPr>
          <a:xfrm>
            <a:off x="1476360" y="544500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358848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3111480" y="2060640"/>
            <a:ext cx="33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582120" y="2513160"/>
            <a:ext cx="80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he finished his project, he would take part in the confer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611280" y="25131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1280" y="3305160"/>
            <a:ext cx="52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were you I would visit the old lad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593640" y="330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611280" y="38098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would you do if you won the priz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593640" y="3809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84640" y="4313160"/>
            <a:ext cx="73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ould agree if I were invited to travel round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92200" y="431316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20">
            <a:hlinkClick r:id="rId4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9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а выражаю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нереальные условия, так как речь в них ид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 событиях, которые уже произошли или 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ошли в прошло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и ничего исправить нельз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потребляется эта модель тогда, когда ну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ообщить об упущенной возможности. 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русский язык переводятся сослагатель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наклонением ( формой прошедшего врем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 частицей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б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WordArt 11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3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611280" y="213372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611280" y="2852640"/>
            <a:ext cx="3600360" cy="309744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5003640" y="2852640"/>
            <a:ext cx="3598920" cy="309744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826920" y="3068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5867280" y="306864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1042920" y="3716280"/>
            <a:ext cx="273708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5364000" y="3716280"/>
            <a:ext cx="309564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166760" y="3860640"/>
            <a:ext cx="20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 +  Past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5364000" y="3716280"/>
            <a:ext cx="88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ou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shou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m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012000" y="40766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 have + Participle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AutoShape 23"/>
          <p:cNvSpPr/>
          <p:nvPr/>
        </p:nvSpPr>
        <p:spPr>
          <a:xfrm>
            <a:off x="3564000" y="3789360"/>
            <a:ext cx="1800000" cy="719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26"/>
          <p:cNvSpPr/>
          <p:nvPr/>
        </p:nvSpPr>
        <p:spPr>
          <a:xfrm>
            <a:off x="971640" y="539424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I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I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had bee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free yesterday, I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would have join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3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634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611280" y="2205000"/>
          <a:ext cx="7993080" cy="4110120"/>
        </p:xfrm>
        <a:graphic>
          <a:graphicData uri="http://schemas.openxmlformats.org/drawingml/2006/table">
            <a:tbl>
              <a:tblPr/>
              <a:tblGrid>
                <a:gridCol w="1008000"/>
                <a:gridCol w="2305080"/>
                <a:gridCol w="2303280"/>
                <a:gridCol w="2376720"/>
              </a:tblGrid>
              <a:tr h="5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юз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в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ность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would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бы оказал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мотря на то, что это не случилось, говорящий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вере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результа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could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бы мог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мотря на то, что это не случилось, результат указывает только на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might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бы мог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мотря на то, что это не случилось, результат указывает только на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should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бе бы следовало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тя это не случилось, результат содержит хорошее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шен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вет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AutoShape 3"/>
          <p:cNvSpPr/>
          <p:nvPr/>
        </p:nvSpPr>
        <p:spPr>
          <a:xfrm>
            <a:off x="250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2771640" y="1989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47840" y="2421000"/>
            <a:ext cx="83073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ак и в других условных предложениях, условная часть может идти перед основной и наобор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 they had finished work on time they would have already gone for a walk.</a:t>
            </a:r>
            <a:br>
              <a:rPr sz="16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сли бы они закончили работу вовремя, то уже ушли бы на прогулку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376200" y="3789360"/>
            <a:ext cx="8516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Условная часть предложения может содержать инверсию для выражения эмоциональ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ad I known about it beforehand I wouldn't have made such a terrible mistake!</a:t>
            </a:r>
            <a:br>
              <a:rPr sz="16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нал бы я об этом заранее, то не совершил бы такой ужасной ошибки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76200" y="5084640"/>
            <a:ext cx="85885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бщие и специальные вопросы образуются аналитическим способом, то есть путем перестановки членов пред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ould we have arrived on time if we hadn't missed the train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would you have lived if you had found your relativ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3"/>
          <p:cNvSpPr/>
          <p:nvPr/>
        </p:nvSpPr>
        <p:spPr>
          <a:xfrm>
            <a:off x="250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835280" y="155736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ULD и MIGHT в условных предложен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519120" y="213372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Модальные глаголы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COUL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MIGHT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часто употребляются в главном предложении условных предложений, а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COUL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иногда употребляется в придаточном предложении с нереальным условием. Отметьте, что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MAY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обычно не употребляется в условных предложениях с нереальным условие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539640" y="4025880"/>
            <a:ext cx="8280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we had left before five, we could have caught the six o'clock train. (We didn't leave before five, and we didn't catch the six o'clock train.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мы выехали до пяти, мы могли бы успеть на шестичасовой поезд. (Мы не выехали до пяти, и мы не успели на шестичасовой поезд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he hadn't met Maria, he might have remained a bachelor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он не встретил Марию, он мог бы остаться холостя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3"/>
          <p:cNvSpPr/>
          <p:nvPr/>
        </p:nvSpPr>
        <p:spPr>
          <a:xfrm>
            <a:off x="179280" y="2060640"/>
            <a:ext cx="8785440" cy="453528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WordArt 4"/>
          <p:cNvSpPr txBox="1"/>
          <p:nvPr/>
        </p:nvSpPr>
        <p:spPr>
          <a:xfrm>
            <a:off x="2093760" y="476280"/>
            <a:ext cx="6438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484360" y="155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UT FOR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NOT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539640" y="242100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Иногда придаточное нереального условия заменятся конструкцией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BUT FOR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(ил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IF NOT FOR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+ существительное или местоимение. Такие конструкции могут употребляться в ситуациях, относящихся к прошлому или настоящем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447840" y="3860640"/>
            <a:ext cx="8300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But f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e children, they would have divorced years ago. – If it hadn't been for the children, they would have divorced years ago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не дети, они бы давно развелись. – Если бы не дети, они бы давно развел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If not f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er, he would never have become such a good doctor. – If it hadn't been for her, he would never have become such a good doctor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не она, он никогда не стал бы таким хорошим врачом. – Если бы не она, он никогда не стал бы таким хорошим врач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5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63480" y="2205000"/>
            <a:ext cx="7869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словные предложения – это сложноподчиненные предложения, в которых в придаточном предложении называется условие, а в главном предложении – следствие, результат этого условия. И условие, и следствие могут относится к настоящему, прошедшему и будущему. Придаточные предложения условия чаще всего вводятся союзом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В отличие от русского языка, запятая в сложноподчиненном предложении ставится только в случае, если придаточное предложение находится перед главным, и то это правило не всегда соблюдае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бычно  условные предложения делят на три типа в зависимости от того, насколько вероятно событие, о котором идет речь. Эти три типа – основные, а на самом деле их больш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34360" y="157644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3348000" y="155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AutoShape 40"/>
          <p:cNvSpPr/>
          <p:nvPr/>
        </p:nvSpPr>
        <p:spPr>
          <a:xfrm>
            <a:off x="250920" y="2133720"/>
            <a:ext cx="8893080" cy="453528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41"/>
          <p:cNvSpPr/>
          <p:nvPr/>
        </p:nvSpPr>
        <p:spPr>
          <a:xfrm>
            <a:off x="2463120" y="215280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atch the parts of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42"/>
          <p:cNvSpPr/>
          <p:nvPr/>
        </p:nvSpPr>
        <p:spPr>
          <a:xfrm>
            <a:off x="468360" y="2924280"/>
            <a:ext cx="42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43"/>
          <p:cNvSpPr/>
          <p:nvPr/>
        </p:nvSpPr>
        <p:spPr>
          <a:xfrm>
            <a:off x="539640" y="2924280"/>
            <a:ext cx="3456000" cy="64908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684360" y="299736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48"/>
          <p:cNvSpPr/>
          <p:nvPr/>
        </p:nvSpPr>
        <p:spPr>
          <a:xfrm>
            <a:off x="5435640" y="2924280"/>
            <a:ext cx="3457440" cy="64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52"/>
          <p:cNvSpPr/>
          <p:nvPr/>
        </p:nvSpPr>
        <p:spPr>
          <a:xfrm>
            <a:off x="826920" y="2997360"/>
            <a:ext cx="914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54"/>
          <p:cNvSpPr/>
          <p:nvPr/>
        </p:nvSpPr>
        <p:spPr>
          <a:xfrm>
            <a:off x="59220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593280" y="3016080"/>
            <a:ext cx="34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lea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glish befor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57"/>
          <p:cNvSpPr/>
          <p:nvPr/>
        </p:nvSpPr>
        <p:spPr>
          <a:xfrm>
            <a:off x="539640" y="3789360"/>
            <a:ext cx="3456000" cy="6476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539640" y="4724280"/>
            <a:ext cx="3456000" cy="6494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59"/>
          <p:cNvSpPr/>
          <p:nvPr/>
        </p:nvSpPr>
        <p:spPr>
          <a:xfrm>
            <a:off x="539640" y="5661000"/>
            <a:ext cx="3456000" cy="6476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60"/>
          <p:cNvSpPr/>
          <p:nvPr/>
        </p:nvSpPr>
        <p:spPr>
          <a:xfrm>
            <a:off x="5508720" y="4005360"/>
            <a:ext cx="338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61"/>
          <p:cNvSpPr/>
          <p:nvPr/>
        </p:nvSpPr>
        <p:spPr>
          <a:xfrm>
            <a:off x="5435640" y="3789360"/>
            <a:ext cx="3457440" cy="64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62"/>
          <p:cNvSpPr/>
          <p:nvPr/>
        </p:nvSpPr>
        <p:spPr>
          <a:xfrm>
            <a:off x="5435640" y="4724280"/>
            <a:ext cx="3457440" cy="64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63"/>
          <p:cNvSpPr/>
          <p:nvPr/>
        </p:nvSpPr>
        <p:spPr>
          <a:xfrm>
            <a:off x="5435640" y="5589720"/>
            <a:ext cx="3457440" cy="64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65"/>
          <p:cNvSpPr/>
          <p:nvPr/>
        </p:nvSpPr>
        <p:spPr>
          <a:xfrm>
            <a:off x="5487840" y="474516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uld have f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 good job long ago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68"/>
          <p:cNvSpPr/>
          <p:nvPr/>
        </p:nvSpPr>
        <p:spPr>
          <a:xfrm>
            <a:off x="592200" y="380844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Jim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driv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he car yesterda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70"/>
          <p:cNvSpPr/>
          <p:nvPr/>
        </p:nvSpPr>
        <p:spPr>
          <a:xfrm>
            <a:off x="5559480" y="560880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ght have m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with an accident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72"/>
          <p:cNvSpPr/>
          <p:nvPr/>
        </p:nvSpPr>
        <p:spPr>
          <a:xfrm>
            <a:off x="664200" y="481644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you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studi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properl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74"/>
          <p:cNvSpPr/>
          <p:nvPr/>
        </p:nvSpPr>
        <p:spPr>
          <a:xfrm>
            <a:off x="5559480" y="380844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uld have passed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he exam we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76"/>
          <p:cNvSpPr/>
          <p:nvPr/>
        </p:nvSpPr>
        <p:spPr>
          <a:xfrm>
            <a:off x="663480" y="5805360"/>
            <a:ext cx="31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b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free yesterda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78"/>
          <p:cNvSpPr/>
          <p:nvPr/>
        </p:nvSpPr>
        <p:spPr>
          <a:xfrm>
            <a:off x="5580000" y="306864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uld have jo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you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Line 79"/>
          <p:cNvSpPr/>
          <p:nvPr/>
        </p:nvSpPr>
        <p:spPr>
          <a:xfrm>
            <a:off x="3995640" y="3284640"/>
            <a:ext cx="1440000" cy="180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81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82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83"/>
          <p:cNvSpPr/>
          <p:nvPr/>
        </p:nvSpPr>
        <p:spPr>
          <a:xfrm>
            <a:off x="3924360" y="3213000"/>
            <a:ext cx="165564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84"/>
          <p:cNvSpPr/>
          <p:nvPr/>
        </p:nvSpPr>
        <p:spPr>
          <a:xfrm>
            <a:off x="3995640" y="3284640"/>
            <a:ext cx="7164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5" name="AutoShape 85"/>
          <p:cNvCxnSpPr>
            <a:stCxn id="533" idx="0"/>
            <a:endCxn id="533" idx="1"/>
          </p:cNvCxnSpPr>
          <p:nvPr/>
        </p:nvCxnSpPr>
        <p:spPr>
          <a:xfrm>
            <a:off x="3924000" y="3212640"/>
            <a:ext cx="1656360" cy="1872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6" name="AutoShape 86"/>
          <p:cNvCxnSpPr>
            <a:stCxn id="533" idx="1"/>
            <a:endCxn id="533" idx="1"/>
          </p:cNvCxnSpPr>
          <p:nvPr/>
        </p:nvCxnSpPr>
        <p:spPr>
          <a:xfrm>
            <a:off x="5579640" y="508428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537" name="Line 87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8" name="AutoShape 88"/>
          <p:cNvCxnSpPr/>
          <p:nvPr/>
        </p:nvCxnSpPr>
        <p:spPr>
          <a:xfrm>
            <a:off x="4679640" y="-360"/>
            <a:ext cx="4678920" cy="34297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9" name="AutoShape 89"/>
          <p:cNvCxnSpPr>
            <a:stCxn id="537" idx="0"/>
            <a:endCxn id="537" idx="1"/>
          </p:cNvCxnSpPr>
          <p:nvPr/>
        </p:nvCxnSpPr>
        <p:spPr>
          <a:xfrm>
            <a:off x="3924000" y="3212640"/>
            <a:ext cx="1585080" cy="1872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0" name="AutoShape 90"/>
          <p:cNvCxnSpPr>
            <a:stCxn id="515" idx="3"/>
          </p:cNvCxnSpPr>
          <p:nvPr/>
        </p:nvCxnSpPr>
        <p:spPr>
          <a:xfrm>
            <a:off x="4026960" y="3200400"/>
            <a:ext cx="1429560" cy="1807200"/>
          </a:xfrm>
          <a:prstGeom prst="straightConnector1">
            <a:avLst/>
          </a:prstGeom>
          <a:ln w="0">
            <a:noFill/>
          </a:ln>
        </p:spPr>
      </p:cxnSp>
      <p:sp>
        <p:nvSpPr>
          <p:cNvPr id="541" name="Line 91"/>
          <p:cNvSpPr/>
          <p:nvPr/>
        </p:nvSpPr>
        <p:spPr>
          <a:xfrm>
            <a:off x="3924360" y="3141720"/>
            <a:ext cx="1655640" cy="208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92"/>
          <p:cNvSpPr/>
          <p:nvPr/>
        </p:nvSpPr>
        <p:spPr>
          <a:xfrm>
            <a:off x="3924360" y="3213000"/>
            <a:ext cx="180000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95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4" name="AutoShape 96"/>
          <p:cNvCxnSpPr>
            <a:stCxn id="524" idx="3"/>
            <a:endCxn id="543" idx="0"/>
          </p:cNvCxnSpPr>
          <p:nvPr/>
        </p:nvCxnSpPr>
        <p:spPr>
          <a:xfrm flipV="1">
            <a:off x="3924000" y="3212280"/>
            <a:ext cx="1080" cy="916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5" name="AutoShape 97"/>
          <p:cNvCxnSpPr>
            <a:stCxn id="543" idx="0"/>
            <a:endCxn id="524" idx="3"/>
          </p:cNvCxnSpPr>
          <p:nvPr/>
        </p:nvCxnSpPr>
        <p:spPr>
          <a:xfrm>
            <a:off x="3924000" y="3212640"/>
            <a:ext cx="1080" cy="916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6" name="AutoShape 98"/>
          <p:cNvCxnSpPr>
            <a:stCxn id="524" idx="3"/>
            <a:endCxn id="522" idx="1"/>
          </p:cNvCxnSpPr>
          <p:nvPr/>
        </p:nvCxnSpPr>
        <p:spPr>
          <a:xfrm>
            <a:off x="3924360" y="4128840"/>
            <a:ext cx="1512000" cy="178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7" name="AutoShape 99"/>
          <p:cNvCxnSpPr>
            <a:stCxn id="524" idx="3"/>
          </p:cNvCxnSpPr>
          <p:nvPr/>
        </p:nvCxnSpPr>
        <p:spPr>
          <a:xfrm>
            <a:off x="3924360" y="4129200"/>
            <a:ext cx="2160" cy="2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8" name="AutoShape 100"/>
          <p:cNvCxnSpPr>
            <a:stCxn id="524" idx="3"/>
            <a:endCxn id="522" idx="1"/>
          </p:cNvCxnSpPr>
          <p:nvPr/>
        </p:nvCxnSpPr>
        <p:spPr>
          <a:xfrm>
            <a:off x="3924360" y="4128840"/>
            <a:ext cx="1512000" cy="178668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9" name="AutoShape 101"/>
          <p:cNvCxnSpPr>
            <a:stCxn id="526" idx="3"/>
            <a:endCxn id="543" idx="1"/>
          </p:cNvCxnSpPr>
          <p:nvPr/>
        </p:nvCxnSpPr>
        <p:spPr>
          <a:xfrm>
            <a:off x="3768480" y="5000400"/>
            <a:ext cx="174060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0" name="AutoShape 102"/>
          <p:cNvCxnSpPr>
            <a:stCxn id="526" idx="3"/>
            <a:endCxn id="542" idx="0"/>
          </p:cNvCxnSpPr>
          <p:nvPr/>
        </p:nvCxnSpPr>
        <p:spPr>
          <a:xfrm>
            <a:off x="3768840" y="5000400"/>
            <a:ext cx="195624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1" name="AutoShape 103"/>
          <p:cNvCxnSpPr>
            <a:stCxn id="543" idx="1"/>
            <a:endCxn id="542" idx="1"/>
          </p:cNvCxnSpPr>
          <p:nvPr/>
        </p:nvCxnSpPr>
        <p:spPr>
          <a:xfrm>
            <a:off x="5508360" y="5084280"/>
            <a:ext cx="216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2" name="AutoShape 104"/>
          <p:cNvCxnSpPr>
            <a:stCxn id="542" idx="1"/>
            <a:endCxn id="517" idx="3"/>
          </p:cNvCxnSpPr>
          <p:nvPr/>
        </p:nvCxnSpPr>
        <p:spPr>
          <a:xfrm flipH="1" flipV="1">
            <a:off x="3995280" y="5049000"/>
            <a:ext cx="1729440" cy="35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3" name="AutoShape 105"/>
          <p:cNvCxnSpPr>
            <a:stCxn id="542" idx="1"/>
            <a:endCxn id="543" idx="1"/>
          </p:cNvCxnSpPr>
          <p:nvPr/>
        </p:nvCxnSpPr>
        <p:spPr>
          <a:xfrm flipH="1">
            <a:off x="5508000" y="5084280"/>
            <a:ext cx="216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4" name="AutoShape 106"/>
          <p:cNvCxnSpPr>
            <a:stCxn id="526" idx="3"/>
            <a:endCxn id="543" idx="1"/>
          </p:cNvCxnSpPr>
          <p:nvPr/>
        </p:nvCxnSpPr>
        <p:spPr>
          <a:xfrm>
            <a:off x="3768480" y="5000400"/>
            <a:ext cx="174060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5" name="AutoShape 107"/>
          <p:cNvCxnSpPr>
            <a:stCxn id="542" idx="1"/>
            <a:endCxn id="517" idx="3"/>
          </p:cNvCxnSpPr>
          <p:nvPr/>
        </p:nvCxnSpPr>
        <p:spPr>
          <a:xfrm flipH="1" flipV="1">
            <a:off x="3995280" y="5049000"/>
            <a:ext cx="1729440" cy="35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6" name="AutoShape 108"/>
          <p:cNvCxnSpPr>
            <a:stCxn id="517" idx="3"/>
          </p:cNvCxnSpPr>
          <p:nvPr/>
        </p:nvCxnSpPr>
        <p:spPr>
          <a:xfrm flipV="1">
            <a:off x="3995640" y="4291920"/>
            <a:ext cx="1370880" cy="75780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7" name="AutoShape 109"/>
          <p:cNvCxnSpPr>
            <a:stCxn id="507" idx="1"/>
            <a:endCxn id="542" idx="1"/>
          </p:cNvCxnSpPr>
          <p:nvPr/>
        </p:nvCxnSpPr>
        <p:spPr>
          <a:xfrm>
            <a:off x="250920" y="4402080"/>
            <a:ext cx="5474160" cy="682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8" name="AutoShape 111"/>
          <p:cNvCxnSpPr>
            <a:stCxn id="542" idx="1"/>
            <a:endCxn id="526" idx="3"/>
          </p:cNvCxnSpPr>
          <p:nvPr/>
        </p:nvCxnSpPr>
        <p:spPr>
          <a:xfrm flipH="1" flipV="1">
            <a:off x="3768480" y="5000040"/>
            <a:ext cx="195624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9" name="AutoShape 112"/>
          <p:cNvCxnSpPr>
            <a:stCxn id="528" idx="3"/>
            <a:endCxn id="542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0" name="AutoShape 113"/>
          <p:cNvCxnSpPr>
            <a:stCxn id="528" idx="3"/>
            <a:endCxn id="542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1" name="AutoShape 114"/>
          <p:cNvCxnSpPr>
            <a:stCxn id="528" idx="3"/>
            <a:endCxn id="542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2" name="AutoShape 116"/>
          <p:cNvCxnSpPr>
            <a:stCxn id="507" idx="0"/>
          </p:cNvCxnSpPr>
          <p:nvPr/>
        </p:nvCxnSpPr>
        <p:spPr>
          <a:xfrm flipH="1" flipV="1">
            <a:off x="4679640" y="-720"/>
            <a:ext cx="18000" cy="2134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3" name="AutoShape 117"/>
          <p:cNvCxnSpPr>
            <a:stCxn id="528" idx="3"/>
            <a:endCxn id="529" idx="1"/>
          </p:cNvCxnSpPr>
          <p:nvPr/>
        </p:nvCxnSpPr>
        <p:spPr>
          <a:xfrm flipV="1">
            <a:off x="3819600" y="3252960"/>
            <a:ext cx="1761120" cy="2737080"/>
          </a:xfrm>
          <a:prstGeom prst="straightConnector1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cover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3348000" y="148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11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626200" y="198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hoose the correct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324000" y="2441520"/>
            <a:ext cx="83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 I wouldn't have come to the party yesterday if I                           invited the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663480" y="2781360"/>
            <a:ext cx="8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w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17"/>
          <p:cNvSpPr/>
          <p:nvPr/>
        </p:nvSpPr>
        <p:spPr>
          <a:xfrm>
            <a:off x="5703840" y="278136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asn’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3040200" y="278136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3327480" y="278136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dn’t b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20"/>
          <p:cNvSpPr/>
          <p:nvPr/>
        </p:nvSpPr>
        <p:spPr>
          <a:xfrm>
            <a:off x="283320" y="342576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Would they                            us if we had lost all our lugga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22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27"/>
          <p:cNvSpPr/>
          <p:nvPr/>
        </p:nvSpPr>
        <p:spPr>
          <a:xfrm>
            <a:off x="661680" y="378612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had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29"/>
          <p:cNvSpPr/>
          <p:nvPr/>
        </p:nvSpPr>
        <p:spPr>
          <a:xfrm>
            <a:off x="3039480" y="37861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5724360" y="385920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ve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34"/>
          <p:cNvSpPr/>
          <p:nvPr/>
        </p:nvSpPr>
        <p:spPr>
          <a:xfrm>
            <a:off x="5630760" y="24177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dn’t b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AutoShape 35"/>
          <p:cNvSpPr/>
          <p:nvPr/>
        </p:nvSpPr>
        <p:spPr>
          <a:xfrm>
            <a:off x="5580000" y="2421000"/>
            <a:ext cx="1490760" cy="43164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36"/>
          <p:cNvSpPr/>
          <p:nvPr/>
        </p:nvSpPr>
        <p:spPr>
          <a:xfrm>
            <a:off x="1957680" y="3425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ve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AutoShape 37"/>
          <p:cNvSpPr/>
          <p:nvPr/>
        </p:nvSpPr>
        <p:spPr>
          <a:xfrm>
            <a:off x="1908000" y="3429000"/>
            <a:ext cx="156240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39"/>
          <p:cNvSpPr/>
          <p:nvPr/>
        </p:nvSpPr>
        <p:spPr>
          <a:xfrm>
            <a:off x="360360" y="443376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If she hadn’t put on a short dress she wouldn’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tten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42"/>
          <p:cNvSpPr/>
          <p:nvPr/>
        </p:nvSpPr>
        <p:spPr>
          <a:xfrm>
            <a:off x="5508720" y="44337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ve at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AutoShape 43"/>
          <p:cNvSpPr/>
          <p:nvPr/>
        </p:nvSpPr>
        <p:spPr>
          <a:xfrm>
            <a:off x="5508720" y="4437000"/>
            <a:ext cx="1727280" cy="43200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44"/>
          <p:cNvSpPr/>
          <p:nvPr/>
        </p:nvSpPr>
        <p:spPr>
          <a:xfrm>
            <a:off x="663480" y="49388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at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45"/>
          <p:cNvSpPr/>
          <p:nvPr/>
        </p:nvSpPr>
        <p:spPr>
          <a:xfrm>
            <a:off x="3059280" y="48672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ve at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46"/>
          <p:cNvSpPr/>
          <p:nvPr/>
        </p:nvSpPr>
        <p:spPr>
          <a:xfrm>
            <a:off x="5724360" y="4867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t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47"/>
          <p:cNvSpPr/>
          <p:nvPr/>
        </p:nvSpPr>
        <p:spPr>
          <a:xfrm>
            <a:off x="395280" y="5514840"/>
            <a:ext cx="11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If y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48"/>
          <p:cNvSpPr/>
          <p:nvPr/>
        </p:nvSpPr>
        <p:spPr>
          <a:xfrm>
            <a:off x="2811960" y="551484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e up, I should have told you somet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49"/>
          <p:cNvSpPr/>
          <p:nvPr/>
        </p:nvSpPr>
        <p:spPr>
          <a:xfrm>
            <a:off x="1598760" y="55148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d 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AutoShape 50"/>
          <p:cNvSpPr/>
          <p:nvPr/>
        </p:nvSpPr>
        <p:spPr>
          <a:xfrm>
            <a:off x="1547640" y="5516640"/>
            <a:ext cx="1152720" cy="43344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51"/>
          <p:cNvSpPr/>
          <p:nvPr/>
        </p:nvSpPr>
        <p:spPr>
          <a:xfrm>
            <a:off x="611280" y="587520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r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53"/>
          <p:cNvSpPr/>
          <p:nvPr/>
        </p:nvSpPr>
        <p:spPr>
          <a:xfrm>
            <a:off x="3059280" y="5945040"/>
            <a:ext cx="15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ve 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54"/>
          <p:cNvSpPr/>
          <p:nvPr/>
        </p:nvSpPr>
        <p:spPr>
          <a:xfrm>
            <a:off x="5724360" y="60166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d 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3348000" y="148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9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15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17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6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39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40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45"/>
          <p:cNvSpPr/>
          <p:nvPr/>
        </p:nvSpPr>
        <p:spPr>
          <a:xfrm>
            <a:off x="2700360" y="1989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46"/>
          <p:cNvSpPr/>
          <p:nvPr/>
        </p:nvSpPr>
        <p:spPr>
          <a:xfrm>
            <a:off x="778680" y="2560680"/>
            <a:ext cx="73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 бы ты не забыл на работе ключ, ты бы открыл двер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49"/>
          <p:cNvSpPr/>
          <p:nvPr/>
        </p:nvSpPr>
        <p:spPr>
          <a:xfrm>
            <a:off x="447840" y="3017880"/>
            <a:ext cx="83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Он бы не женился на ней, если бы она не готовила так замечательно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51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52"/>
          <p:cNvSpPr/>
          <p:nvPr/>
        </p:nvSpPr>
        <p:spPr>
          <a:xfrm>
            <a:off x="447840" y="364500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Ты бы понял материал вчерашнего урока гораздо лучше, если бы читал медлен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53"/>
          <p:cNvSpPr/>
          <p:nvPr/>
        </p:nvSpPr>
        <p:spPr>
          <a:xfrm>
            <a:off x="447840" y="3645000"/>
            <a:ext cx="83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54"/>
          <p:cNvSpPr/>
          <p:nvPr/>
        </p:nvSpPr>
        <p:spPr>
          <a:xfrm>
            <a:off x="447840" y="429264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Конференция бы провалилась, если бы Петерсон не сделал такой замечательный докл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55"/>
          <p:cNvSpPr/>
          <p:nvPr/>
        </p:nvSpPr>
        <p:spPr>
          <a:xfrm>
            <a:off x="447840" y="4292640"/>
            <a:ext cx="84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56"/>
          <p:cNvSpPr/>
          <p:nvPr/>
        </p:nvSpPr>
        <p:spPr>
          <a:xfrm>
            <a:off x="447840" y="4960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 Я бы, возможно, ответил Вам раньше, если бы я владел точной информацией по этому вопрос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57"/>
          <p:cNvSpPr/>
          <p:nvPr/>
        </p:nvSpPr>
        <p:spPr>
          <a:xfrm>
            <a:off x="447840" y="4941720"/>
            <a:ext cx="869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58"/>
          <p:cNvSpPr/>
          <p:nvPr/>
        </p:nvSpPr>
        <p:spPr>
          <a:xfrm>
            <a:off x="447840" y="566100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 Мы бы не поехали на этот курорт, если бы дети не попроси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59"/>
          <p:cNvSpPr/>
          <p:nvPr/>
        </p:nvSpPr>
        <p:spPr>
          <a:xfrm>
            <a:off x="447840" y="566100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AutoShape 60">
            <a:hlinkClick r:id="rId2" action="ppaction://hlinksldjump"/>
          </p:cNvPr>
          <p:cNvSpPr/>
          <p:nvPr/>
        </p:nvSpPr>
        <p:spPr>
          <a:xfrm>
            <a:off x="8388360" y="6093000"/>
            <a:ext cx="611280" cy="57600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2" h="21600">
                <a:moveTo>
                  <a:pt x="11461" y="3837"/>
                </a:moveTo>
                <a:lnTo>
                  <a:pt x="14037" y="6448"/>
                </a:ln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lnTo>
                  <a:pt x="18424" y="10800"/>
                </a:lnTo>
                <a:lnTo>
                  <a:pt x="16770" y="10800"/>
                </a:lnTo>
                <a:lnTo>
                  <a:pt x="16770" y="17989"/>
                </a:lnTo>
                <a:lnTo>
                  <a:pt x="6152" y="17989"/>
                </a:lnTo>
                <a:lnTo>
                  <a:pt x="6152" y="10800"/>
                </a:lnTo>
                <a:lnTo>
                  <a:pt x="4498" y="10800"/>
                </a:lnTo>
                <a:close/>
              </a:path>
              <a:path fill="darkenLess" w="22922" h="21600">
                <a:moveTo>
                  <a:pt x="14037" y="6448"/>
                </a:move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close/>
              </a:path>
              <a:path fill="darkenLess" w="22922" h="21600">
                <a:moveTo>
                  <a:pt x="10538" y="14299"/>
                </a:moveTo>
                <a:lnTo>
                  <a:pt x="12384" y="14299"/>
                </a:lnTo>
                <a:lnTo>
                  <a:pt x="12384" y="17989"/>
                </a:lnTo>
                <a:lnTo>
                  <a:pt x="16770" y="17989"/>
                </a:lnTo>
                <a:lnTo>
                  <a:pt x="16770" y="10800"/>
                </a:lnTo>
                <a:lnTo>
                  <a:pt x="6152" y="10800"/>
                </a:lnTo>
                <a:lnTo>
                  <a:pt x="6152" y="17989"/>
                </a:lnTo>
                <a:lnTo>
                  <a:pt x="10538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AutoShape 9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AutoShape 12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611280" y="215280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огут быть случаи, в которых одна часть предложения относится к настоящему или будущему, а другая часть относится к прошлому. Такие конструкции называю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смешанным типо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условных предложений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ложения смешанного типа  как бы "склеены" из условных предложени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тор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ье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типов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663480" y="4960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e attentive,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have pa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31"/>
          <p:cNvSpPr/>
          <p:nvPr/>
        </p:nvSpPr>
        <p:spPr>
          <a:xfrm>
            <a:off x="663480" y="5661000"/>
            <a:ext cx="8229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был более внимательным, то сдал бы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ч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эт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аме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 Box 19"/>
          <p:cNvSpPr/>
          <p:nvPr/>
        </p:nvSpPr>
        <p:spPr>
          <a:xfrm>
            <a:off x="684360" y="20811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мешанные условные предложения в английском язык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огут быть двух видов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AutoShape 32"/>
          <p:cNvSpPr/>
          <p:nvPr/>
        </p:nvSpPr>
        <p:spPr>
          <a:xfrm>
            <a:off x="684360" y="3645000"/>
            <a:ext cx="3382920" cy="2448000"/>
          </a:xfrm>
          <a:prstGeom prst="roundRect">
            <a:avLst>
              <a:gd name="adj" fmla="val 16667"/>
            </a:avLst>
          </a:prstGeom>
          <a:solidFill>
            <a:srgbClr val="b6a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AutoShape 33"/>
          <p:cNvSpPr/>
          <p:nvPr/>
        </p:nvSpPr>
        <p:spPr>
          <a:xfrm>
            <a:off x="5364000" y="3645000"/>
            <a:ext cx="3383280" cy="2448000"/>
          </a:xfrm>
          <a:prstGeom prst="roundRect">
            <a:avLst>
              <a:gd name="adj" fmla="val 16667"/>
            </a:avLst>
          </a:prstGeom>
          <a:solidFill>
            <a:srgbClr val="b6a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34"/>
          <p:cNvSpPr/>
          <p:nvPr/>
        </p:nvSpPr>
        <p:spPr>
          <a:xfrm>
            <a:off x="1671480" y="314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35"/>
          <p:cNvSpPr/>
          <p:nvPr/>
        </p:nvSpPr>
        <p:spPr>
          <a:xfrm>
            <a:off x="6640560" y="31417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826920" y="3881520"/>
            <a:ext cx="29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В первом случае подчеркивается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результат в настоящ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 пр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условии в прошедш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xt Box 39"/>
          <p:cNvSpPr/>
          <p:nvPr/>
        </p:nvSpPr>
        <p:spPr>
          <a:xfrm>
            <a:off x="5580000" y="3860640"/>
            <a:ext cx="29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Во втором случае подчеркивается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результат в прошедш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 пр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условии в настоящ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755640" y="20098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611280" y="2852640"/>
            <a:ext cx="3600360" cy="309744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18"/>
          <p:cNvSpPr/>
          <p:nvPr/>
        </p:nvSpPr>
        <p:spPr>
          <a:xfrm>
            <a:off x="5003640" y="2852640"/>
            <a:ext cx="3598920" cy="309744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19"/>
          <p:cNvSpPr/>
          <p:nvPr/>
        </p:nvSpPr>
        <p:spPr>
          <a:xfrm>
            <a:off x="684360" y="2997360"/>
            <a:ext cx="34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20"/>
          <p:cNvSpPr/>
          <p:nvPr/>
        </p:nvSpPr>
        <p:spPr>
          <a:xfrm>
            <a:off x="5651640" y="306864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Rectangle 21"/>
          <p:cNvSpPr/>
          <p:nvPr/>
        </p:nvSpPr>
        <p:spPr>
          <a:xfrm>
            <a:off x="1042920" y="3716280"/>
            <a:ext cx="273708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22"/>
          <p:cNvSpPr/>
          <p:nvPr/>
        </p:nvSpPr>
        <p:spPr>
          <a:xfrm>
            <a:off x="5292720" y="3716280"/>
            <a:ext cx="3095640" cy="1657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AutoShape 23"/>
          <p:cNvSpPr/>
          <p:nvPr/>
        </p:nvSpPr>
        <p:spPr>
          <a:xfrm>
            <a:off x="3780000" y="3789360"/>
            <a:ext cx="1512720" cy="431640"/>
          </a:xfrm>
          <a:prstGeom prst="rightArrow">
            <a:avLst>
              <a:gd name="adj1" fmla="val 50000"/>
              <a:gd name="adj2" fmla="val 87615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27"/>
          <p:cNvSpPr/>
          <p:nvPr/>
        </p:nvSpPr>
        <p:spPr>
          <a:xfrm>
            <a:off x="971640" y="3789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…Past Perfect (I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28"/>
          <p:cNvSpPr/>
          <p:nvPr/>
        </p:nvSpPr>
        <p:spPr>
          <a:xfrm>
            <a:off x="5292720" y="3716280"/>
            <a:ext cx="32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инфинити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29"/>
          <p:cNvSpPr/>
          <p:nvPr/>
        </p:nvSpPr>
        <p:spPr>
          <a:xfrm>
            <a:off x="3780000" y="4581360"/>
            <a:ext cx="1512720" cy="432000"/>
          </a:xfrm>
          <a:prstGeom prst="rightArrow">
            <a:avLst>
              <a:gd name="adj1" fmla="val 50000"/>
              <a:gd name="adj2" fmla="val 87542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30"/>
          <p:cNvSpPr/>
          <p:nvPr/>
        </p:nvSpPr>
        <p:spPr>
          <a:xfrm>
            <a:off x="826920" y="5516640"/>
            <a:ext cx="756144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31"/>
          <p:cNvSpPr/>
          <p:nvPr/>
        </p:nvSpPr>
        <p:spPr>
          <a:xfrm>
            <a:off x="879480" y="544500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32"/>
          <p:cNvSpPr/>
          <p:nvPr/>
        </p:nvSpPr>
        <p:spPr>
          <a:xfrm>
            <a:off x="879480" y="5516640"/>
            <a:ext cx="668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you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had ta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the medicine, you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would fe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much better n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1042920" y="46022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  Past Simple (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37"/>
          <p:cNvSpPr/>
          <p:nvPr/>
        </p:nvSpPr>
        <p:spPr>
          <a:xfrm>
            <a:off x="5339880" y="4578480"/>
            <a:ext cx="296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+have+Participle 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38"/>
          <p:cNvSpPr/>
          <p:nvPr/>
        </p:nvSpPr>
        <p:spPr>
          <a:xfrm>
            <a:off x="6287400" y="486576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39"/>
          <p:cNvSpPr/>
          <p:nvPr/>
        </p:nvSpPr>
        <p:spPr>
          <a:xfrm>
            <a:off x="1744560" y="157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40"/>
          <p:cNvSpPr/>
          <p:nvPr/>
        </p:nvSpPr>
        <p:spPr>
          <a:xfrm>
            <a:off x="900000" y="5875200"/>
            <a:ext cx="74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more attentive,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have pas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the exam yesterd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41"/>
          <p:cNvSpPr/>
          <p:nvPr/>
        </p:nvSpPr>
        <p:spPr>
          <a:xfrm>
            <a:off x="4067280" y="3573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42"/>
          <p:cNvSpPr/>
          <p:nvPr/>
        </p:nvSpPr>
        <p:spPr>
          <a:xfrm>
            <a:off x="4048200" y="4365720"/>
            <a:ext cx="9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9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684360" y="2205000"/>
          <a:ext cx="8135640" cy="4032360"/>
        </p:xfrm>
        <a:graphic>
          <a:graphicData uri="http://schemas.openxmlformats.org/drawingml/2006/table">
            <a:tbl>
              <a:tblPr/>
              <a:tblGrid>
                <a:gridCol w="1008000"/>
                <a:gridCol w="2232000"/>
                <a:gridCol w="2448000"/>
                <a:gridCol w="24476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</a:tr>
            </a:tbl>
          </a:graphicData>
        </a:graphic>
      </p:graphicFrame>
      <p:sp>
        <p:nvSpPr>
          <p:cNvPr id="710" name="Text Box 44"/>
          <p:cNvSpPr/>
          <p:nvPr/>
        </p:nvSpPr>
        <p:spPr>
          <a:xfrm>
            <a:off x="755640" y="213372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оюз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Text Box 45"/>
          <p:cNvSpPr/>
          <p:nvPr/>
        </p:nvSpPr>
        <p:spPr>
          <a:xfrm>
            <a:off x="2124000" y="2276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4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50"/>
          <p:cNvSpPr/>
          <p:nvPr/>
        </p:nvSpPr>
        <p:spPr>
          <a:xfrm>
            <a:off x="4427640" y="2276640"/>
            <a:ext cx="189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Результа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51"/>
          <p:cNvSpPr/>
          <p:nvPr/>
        </p:nvSpPr>
        <p:spPr>
          <a:xfrm>
            <a:off x="6877080" y="227664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Определенност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1743120" y="2873520"/>
            <a:ext cx="1965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attentive,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бы ты был более внимательны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684360" y="294480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f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3975120" y="2898720"/>
            <a:ext cx="2397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ould have pas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сдал бы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че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этот экзамен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2801880"/>
            <a:ext cx="2520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вообще (вчера, сегодня, завтра) был "более внимательным" - мало вероятное, но все же реальное условие (второй тип), то вчера (которое уже не вернешь), ты бы сдал этот экзамен - нереальное следствие условия, относящееся к прошлом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63200" y="4626000"/>
            <a:ext cx="92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f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69"/>
          <p:cNvSpPr/>
          <p:nvPr/>
        </p:nvSpPr>
        <p:spPr>
          <a:xfrm>
            <a:off x="1743120" y="4602240"/>
            <a:ext cx="21081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ad tak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he medicine in the morning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принял лекарств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71"/>
          <p:cNvSpPr/>
          <p:nvPr/>
        </p:nvSpPr>
        <p:spPr>
          <a:xfrm>
            <a:off x="3975120" y="4554360"/>
            <a:ext cx="2325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would f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much better now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т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ейч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 бы чувствовал себя гораздо лучше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72"/>
          <p:cNvSpPr/>
          <p:nvPr/>
        </p:nvSpPr>
        <p:spPr>
          <a:xfrm>
            <a:off x="6372360" y="4508640"/>
            <a:ext cx="2520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Утро уже окончилось, поэтому это уже нереальное условие, относящееся к прошлому. (третий тип). "Ты сейчас чувствовал бы себя гораздо лучше" - вполне реальное следствие поставленного условия, относящееся к текущему момент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40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41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Text Box 42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43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47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50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59"/>
          <p:cNvSpPr/>
          <p:nvPr/>
        </p:nvSpPr>
        <p:spPr>
          <a:xfrm>
            <a:off x="3444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60"/>
          <p:cNvSpPr/>
          <p:nvPr/>
        </p:nvSpPr>
        <p:spPr>
          <a:xfrm>
            <a:off x="2484360" y="200988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atch the parts of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67"/>
          <p:cNvSpPr/>
          <p:nvPr/>
        </p:nvSpPr>
        <p:spPr>
          <a:xfrm>
            <a:off x="539640" y="3860640"/>
            <a:ext cx="3456000" cy="64800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68"/>
          <p:cNvSpPr/>
          <p:nvPr/>
        </p:nvSpPr>
        <p:spPr>
          <a:xfrm>
            <a:off x="539640" y="2924280"/>
            <a:ext cx="3456000" cy="72072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69"/>
          <p:cNvSpPr/>
          <p:nvPr/>
        </p:nvSpPr>
        <p:spPr>
          <a:xfrm>
            <a:off x="539640" y="4724280"/>
            <a:ext cx="3456000" cy="64944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70"/>
          <p:cNvSpPr/>
          <p:nvPr/>
        </p:nvSpPr>
        <p:spPr>
          <a:xfrm>
            <a:off x="539640" y="5589720"/>
            <a:ext cx="3456000" cy="64764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71"/>
          <p:cNvSpPr/>
          <p:nvPr/>
        </p:nvSpPr>
        <p:spPr>
          <a:xfrm>
            <a:off x="5292720" y="2924280"/>
            <a:ext cx="3672000" cy="72072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72"/>
          <p:cNvSpPr/>
          <p:nvPr/>
        </p:nvSpPr>
        <p:spPr>
          <a:xfrm>
            <a:off x="5292720" y="3860640"/>
            <a:ext cx="3672000" cy="64800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73"/>
          <p:cNvSpPr/>
          <p:nvPr/>
        </p:nvSpPr>
        <p:spPr>
          <a:xfrm>
            <a:off x="5292720" y="4724280"/>
            <a:ext cx="3672000" cy="64944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74"/>
          <p:cNvSpPr/>
          <p:nvPr/>
        </p:nvSpPr>
        <p:spPr>
          <a:xfrm>
            <a:off x="5292720" y="5589720"/>
            <a:ext cx="3672000" cy="64764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78"/>
          <p:cNvSpPr/>
          <p:nvPr/>
        </p:nvSpPr>
        <p:spPr>
          <a:xfrm>
            <a:off x="801720" y="301788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had accep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at job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80"/>
          <p:cNvSpPr/>
          <p:nvPr/>
        </p:nvSpPr>
        <p:spPr>
          <a:xfrm>
            <a:off x="5481720" y="3017880"/>
            <a:ext cx="33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b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a millionaire now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83"/>
          <p:cNvSpPr/>
          <p:nvPr/>
        </p:nvSpPr>
        <p:spPr>
          <a:xfrm>
            <a:off x="730080" y="388152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had marri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im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85"/>
          <p:cNvSpPr/>
          <p:nvPr/>
        </p:nvSpPr>
        <p:spPr>
          <a:xfrm>
            <a:off x="5508720" y="486720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li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appy now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87"/>
          <p:cNvSpPr/>
          <p:nvPr/>
        </p:nvSpPr>
        <p:spPr>
          <a:xfrm>
            <a:off x="802440" y="47941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e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a good co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89"/>
          <p:cNvSpPr/>
          <p:nvPr/>
        </p:nvSpPr>
        <p:spPr>
          <a:xfrm>
            <a:off x="5364000" y="378936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have invi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m to lunch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91"/>
          <p:cNvSpPr/>
          <p:nvPr/>
        </p:nvSpPr>
        <p:spPr>
          <a:xfrm>
            <a:off x="730080" y="561024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didn't lo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im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92"/>
          <p:cNvSpPr/>
          <p:nvPr/>
        </p:nvSpPr>
        <p:spPr>
          <a:xfrm>
            <a:off x="5410080" y="5659560"/>
            <a:ext cx="34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n't have marri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im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63" name="AutoShape 93"/>
          <p:cNvCxnSpPr>
            <a:stCxn id="738" idx="0"/>
            <a:endCxn id="751" idx="1"/>
          </p:cNvCxnSpPr>
          <p:nvPr/>
        </p:nvCxnSpPr>
        <p:spPr>
          <a:xfrm>
            <a:off x="4300560" y="2997360"/>
            <a:ext cx="992880" cy="288000"/>
          </a:xfrm>
          <a:prstGeom prst="straightConnector1">
            <a:avLst/>
          </a:prstGeom>
          <a:ln w="0">
            <a:noFill/>
          </a:ln>
        </p:spPr>
      </p:cxnSp>
      <p:sp>
        <p:nvSpPr>
          <p:cNvPr id="764" name="Line 94"/>
          <p:cNvSpPr/>
          <p:nvPr/>
        </p:nvSpPr>
        <p:spPr>
          <a:xfrm>
            <a:off x="3995640" y="3284640"/>
            <a:ext cx="12970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95"/>
          <p:cNvSpPr/>
          <p:nvPr/>
        </p:nvSpPr>
        <p:spPr>
          <a:xfrm>
            <a:off x="3995640" y="4149720"/>
            <a:ext cx="1297080" cy="93492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Line 96"/>
          <p:cNvSpPr/>
          <p:nvPr/>
        </p:nvSpPr>
        <p:spPr>
          <a:xfrm flipV="1">
            <a:off x="3995640" y="4220640"/>
            <a:ext cx="1297080" cy="7923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Line 97"/>
          <p:cNvSpPr/>
          <p:nvPr/>
        </p:nvSpPr>
        <p:spPr>
          <a:xfrm>
            <a:off x="3995640" y="5877000"/>
            <a:ext cx="12970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351540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2771640" y="2009880"/>
            <a:ext cx="39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hoose the correct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Text Box 24"/>
          <p:cNvSpPr/>
          <p:nvPr/>
        </p:nvSpPr>
        <p:spPr>
          <a:xfrm>
            <a:off x="395280" y="2441520"/>
            <a:ext cx="70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 If you were always near 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n’t have got los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orest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25"/>
          <p:cNvSpPr/>
          <p:nvPr/>
        </p:nvSpPr>
        <p:spPr>
          <a:xfrm>
            <a:off x="755640" y="2852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wouldn’t get lost             b) didn’t get lost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n’t have got l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AutoShape 26"/>
          <p:cNvSpPr/>
          <p:nvPr/>
        </p:nvSpPr>
        <p:spPr>
          <a:xfrm>
            <a:off x="3419640" y="249228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27"/>
          <p:cNvSpPr/>
          <p:nvPr/>
        </p:nvSpPr>
        <p:spPr>
          <a:xfrm>
            <a:off x="395280" y="3305160"/>
            <a:ext cx="873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You would get a better mark today if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d look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over the material yesterda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AutoShape 28"/>
          <p:cNvSpPr/>
          <p:nvPr/>
        </p:nvSpPr>
        <p:spPr>
          <a:xfrm>
            <a:off x="5003640" y="335772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29"/>
          <p:cNvSpPr/>
          <p:nvPr/>
        </p:nvSpPr>
        <p:spPr>
          <a:xfrm>
            <a:off x="721080" y="378468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had looked                       b) have looked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ook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30"/>
          <p:cNvSpPr/>
          <p:nvPr/>
        </p:nvSpPr>
        <p:spPr>
          <a:xfrm>
            <a:off x="395280" y="4168800"/>
            <a:ext cx="874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If you hadn't wasted your time on computer games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n’t fai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 final exa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AutoShape 31"/>
          <p:cNvSpPr/>
          <p:nvPr/>
        </p:nvSpPr>
        <p:spPr>
          <a:xfrm>
            <a:off x="6372360" y="422100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Text Box 32"/>
          <p:cNvSpPr/>
          <p:nvPr/>
        </p:nvSpPr>
        <p:spPr>
          <a:xfrm>
            <a:off x="755640" y="47941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wouldn’t have failed       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n’t fail                  c) have fai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Text Box 33"/>
          <p:cNvSpPr/>
          <p:nvPr/>
        </p:nvSpPr>
        <p:spPr>
          <a:xfrm>
            <a:off x="17280" y="5176800"/>
            <a:ext cx="70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If I knew her well I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have accep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her invitatio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AutoShape 34"/>
          <p:cNvSpPr/>
          <p:nvPr/>
        </p:nvSpPr>
        <p:spPr>
          <a:xfrm>
            <a:off x="2771640" y="5300640"/>
            <a:ext cx="223200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35"/>
          <p:cNvSpPr/>
          <p:nvPr/>
        </p:nvSpPr>
        <p:spPr>
          <a:xfrm>
            <a:off x="735120" y="5661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have accepted                  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d accepted                  c) would have accep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02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22"/>
          <p:cNvSpPr/>
          <p:nvPr/>
        </p:nvSpPr>
        <p:spPr>
          <a:xfrm>
            <a:off x="3228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2556000" y="20098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857880" y="2513160"/>
            <a:ext cx="76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Если бы я не любила его, я бы не вышла за него замуж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25"/>
          <p:cNvSpPr/>
          <p:nvPr/>
        </p:nvSpPr>
        <p:spPr>
          <a:xfrm>
            <a:off x="539640" y="2492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539640" y="3068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Если бы меня пригласили, я бы прише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Text Box 28"/>
          <p:cNvSpPr/>
          <p:nvPr/>
        </p:nvSpPr>
        <p:spPr>
          <a:xfrm>
            <a:off x="539640" y="3665520"/>
            <a:ext cx="85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Если бы я хорошо готовил, я бы пригласил их на обе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539640" y="42418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Если бы я знал английский, я бы нашел лучшую рабо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32"/>
          <p:cNvSpPr/>
          <p:nvPr/>
        </p:nvSpPr>
        <p:spPr>
          <a:xfrm>
            <a:off x="539640" y="479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. Если бы ты был более внимательным, то сдал бы вчера этот экзаме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33"/>
          <p:cNvSpPr/>
          <p:nvPr/>
        </p:nvSpPr>
        <p:spPr>
          <a:xfrm>
            <a:off x="539640" y="4797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AutoShape 34">
            <a:hlinkClick r:id="rId2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20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20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20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20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84360" y="227664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чь  в таких предложениях идет не об одной конкретной ситуации, а о чем-то, что верно всегда – такая «универсальная правд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If we heat water it boils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Если мы нагреем воду, она закип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беих частях предложения употребляется Present Sim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32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42236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Text Box 22"/>
          <p:cNvSpPr/>
          <p:nvPr/>
        </p:nvSpPr>
        <p:spPr>
          <a:xfrm>
            <a:off x="611280" y="2276640"/>
            <a:ext cx="83534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ложения 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I wish”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пользуются для выражения сожаления, разочарования, грусти, когда что-то столь желаемое не получается или не получилось ранее. Они имеют много общего с условными предложениями. Для этого в них присутствует слово wish (жалко, что не).</a:t>
            </a:r>
            <a:br>
              <a:rPr sz="2400"/>
            </a:br>
            <a:br>
              <a:rPr sz="24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I wish I knew what to do about the problem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Жаль, что я не знаю, что делать с этой проблемой (и я сожалею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52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53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38132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755640" y="20811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 английском языке предложения 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 wis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”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огут быть трех тип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AutoShape 26"/>
          <p:cNvSpPr/>
          <p:nvPr/>
        </p:nvSpPr>
        <p:spPr>
          <a:xfrm>
            <a:off x="61128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AutoShape 27"/>
          <p:cNvSpPr/>
          <p:nvPr/>
        </p:nvSpPr>
        <p:spPr>
          <a:xfrm>
            <a:off x="356400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AutoShape 28"/>
          <p:cNvSpPr/>
          <p:nvPr/>
        </p:nvSpPr>
        <p:spPr>
          <a:xfrm>
            <a:off x="644364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31"/>
          <p:cNvSpPr/>
          <p:nvPr/>
        </p:nvSpPr>
        <p:spPr>
          <a:xfrm>
            <a:off x="755640" y="3449520"/>
            <a:ext cx="23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Речь идёт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настоящем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 Такая фраза - выражение сожаления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настоящ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Text Box 34"/>
          <p:cNvSpPr/>
          <p:nvPr/>
        </p:nvSpPr>
        <p:spPr>
          <a:xfrm>
            <a:off x="3635280" y="3449520"/>
            <a:ext cx="22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Речь идёт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прошедшем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 Такая фраза - выражение сожаления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прош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Text Box 36"/>
          <p:cNvSpPr/>
          <p:nvPr/>
        </p:nvSpPr>
        <p:spPr>
          <a:xfrm>
            <a:off x="6516720" y="335772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ы желаем, чтобы что-то произо-шло в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будущем,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сожалеем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настояще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80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35900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23"/>
          <p:cNvSpPr/>
          <p:nvPr/>
        </p:nvSpPr>
        <p:spPr>
          <a:xfrm>
            <a:off x="684360" y="2060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  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Rectangle 24"/>
          <p:cNvSpPr/>
          <p:nvPr/>
        </p:nvSpPr>
        <p:spPr>
          <a:xfrm>
            <a:off x="611280" y="2637000"/>
            <a:ext cx="3600360" cy="360036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Rectangle 25"/>
          <p:cNvSpPr/>
          <p:nvPr/>
        </p:nvSpPr>
        <p:spPr>
          <a:xfrm>
            <a:off x="5364000" y="2637000"/>
            <a:ext cx="3529080" cy="360036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Rectangle 28"/>
          <p:cNvSpPr/>
          <p:nvPr/>
        </p:nvSpPr>
        <p:spPr>
          <a:xfrm>
            <a:off x="1042920" y="2924280"/>
            <a:ext cx="2737080" cy="24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Rectangle 29"/>
          <p:cNvSpPr/>
          <p:nvPr/>
        </p:nvSpPr>
        <p:spPr>
          <a:xfrm>
            <a:off x="5796000" y="2924280"/>
            <a:ext cx="2736720" cy="24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30"/>
          <p:cNvSpPr/>
          <p:nvPr/>
        </p:nvSpPr>
        <p:spPr>
          <a:xfrm>
            <a:off x="5919840" y="2944800"/>
            <a:ext cx="2468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ast Simple / Past Continuou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31"/>
          <p:cNvSpPr/>
          <p:nvPr/>
        </p:nvSpPr>
        <p:spPr>
          <a:xfrm>
            <a:off x="1528920" y="294480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sh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32"/>
          <p:cNvSpPr/>
          <p:nvPr/>
        </p:nvSpPr>
        <p:spPr>
          <a:xfrm>
            <a:off x="1547640" y="3933720"/>
            <a:ext cx="11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sh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33"/>
          <p:cNvSpPr/>
          <p:nvPr/>
        </p:nvSpPr>
        <p:spPr>
          <a:xfrm>
            <a:off x="1547640" y="4724280"/>
            <a:ext cx="11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sh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34"/>
          <p:cNvSpPr/>
          <p:nvPr/>
        </p:nvSpPr>
        <p:spPr>
          <a:xfrm>
            <a:off x="5992920" y="39337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ast Perfec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Text Box 35"/>
          <p:cNvSpPr/>
          <p:nvPr/>
        </p:nvSpPr>
        <p:spPr>
          <a:xfrm>
            <a:off x="5867280" y="467352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+ Infin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AutoShape 36"/>
          <p:cNvSpPr/>
          <p:nvPr/>
        </p:nvSpPr>
        <p:spPr>
          <a:xfrm>
            <a:off x="3780000" y="306864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AutoShape 37"/>
          <p:cNvSpPr/>
          <p:nvPr/>
        </p:nvSpPr>
        <p:spPr>
          <a:xfrm>
            <a:off x="3780000" y="400536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AutoShape 38"/>
          <p:cNvSpPr/>
          <p:nvPr/>
        </p:nvSpPr>
        <p:spPr>
          <a:xfrm>
            <a:off x="3780000" y="4797360"/>
            <a:ext cx="2016000" cy="432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Rectangle 39"/>
          <p:cNvSpPr/>
          <p:nvPr/>
        </p:nvSpPr>
        <p:spPr>
          <a:xfrm>
            <a:off x="826920" y="5516640"/>
            <a:ext cx="784872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40"/>
          <p:cNvSpPr/>
          <p:nvPr/>
        </p:nvSpPr>
        <p:spPr>
          <a:xfrm>
            <a:off x="3635280" y="53942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knew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the answer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Text Box 41"/>
          <p:cNvSpPr/>
          <p:nvPr/>
        </p:nvSpPr>
        <p:spPr>
          <a:xfrm>
            <a:off x="1979640" y="5734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hadn’t been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so rude to my parents yesterday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Text Box 42"/>
          <p:cNvSpPr/>
          <p:nvPr/>
        </p:nvSpPr>
        <p:spPr>
          <a:xfrm>
            <a:off x="1116000" y="60418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stop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playing computer games and spend some time with 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17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18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539640" y="2276640"/>
          <a:ext cx="8425080" cy="3960720"/>
        </p:xfrm>
        <a:graphic>
          <a:graphicData uri="http://schemas.openxmlformats.org/drawingml/2006/table">
            <a:tbl>
              <a:tblPr/>
              <a:tblGrid>
                <a:gridCol w="1944720"/>
                <a:gridCol w="2158920"/>
                <a:gridCol w="2160720"/>
                <a:gridCol w="216072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</a:tr>
            </a:tbl>
          </a:graphicData>
        </a:graphic>
      </p:graphicFrame>
      <p:sp>
        <p:nvSpPr>
          <p:cNvPr id="937" name="Text Box 63"/>
          <p:cNvSpPr/>
          <p:nvPr/>
        </p:nvSpPr>
        <p:spPr>
          <a:xfrm>
            <a:off x="1099080" y="23684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Text Box 64"/>
          <p:cNvSpPr/>
          <p:nvPr/>
        </p:nvSpPr>
        <p:spPr>
          <a:xfrm>
            <a:off x="2885760" y="23684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ояснен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Text Box 65"/>
          <p:cNvSpPr/>
          <p:nvPr/>
        </p:nvSpPr>
        <p:spPr>
          <a:xfrm>
            <a:off x="4944600" y="229716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ме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Text Box 66"/>
          <p:cNvSpPr/>
          <p:nvPr/>
        </p:nvSpPr>
        <p:spPr>
          <a:xfrm>
            <a:off x="7278840" y="2368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ерево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Text Box 67"/>
          <p:cNvSpPr/>
          <p:nvPr/>
        </p:nvSpPr>
        <p:spPr>
          <a:xfrm>
            <a:off x="539640" y="301788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sh + Past Simple / Past Continuou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Text Box 68"/>
          <p:cNvSpPr/>
          <p:nvPr/>
        </p:nvSpPr>
        <p:spPr>
          <a:xfrm>
            <a:off x="611280" y="41688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sh + Past Perfec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69"/>
          <p:cNvSpPr/>
          <p:nvPr/>
        </p:nvSpPr>
        <p:spPr>
          <a:xfrm>
            <a:off x="595080" y="53211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sh + Woul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70"/>
          <p:cNvSpPr/>
          <p:nvPr/>
        </p:nvSpPr>
        <p:spPr>
          <a:xfrm>
            <a:off x="2484360" y="29448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еем о чем-либо в настоящем, н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изменить не мож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Text Box 71"/>
          <p:cNvSpPr/>
          <p:nvPr/>
        </p:nvSpPr>
        <p:spPr>
          <a:xfrm>
            <a:off x="2484360" y="42418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еем о прошло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Text Box 72"/>
          <p:cNvSpPr/>
          <p:nvPr/>
        </p:nvSpPr>
        <p:spPr>
          <a:xfrm>
            <a:off x="2484360" y="5084640"/>
            <a:ext cx="215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ыражаем свое недовольство текущи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положеним де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Text Box 73"/>
          <p:cNvSpPr/>
          <p:nvPr/>
        </p:nvSpPr>
        <p:spPr>
          <a:xfrm>
            <a:off x="4695840" y="2970360"/>
            <a:ext cx="203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  <a:ea typeface="Arial"/>
              </a:rPr>
              <a:t>live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in France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Text Box 74"/>
          <p:cNvSpPr/>
          <p:nvPr/>
        </p:nvSpPr>
        <p:spPr>
          <a:xfrm>
            <a:off x="4767120" y="4149720"/>
            <a:ext cx="196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  <a:ea typeface="Arial"/>
              </a:rPr>
              <a:t>had listene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to my parents when I was a teenager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Text Box 75"/>
          <p:cNvSpPr/>
          <p:nvPr/>
        </p:nvSpPr>
        <p:spPr>
          <a:xfrm>
            <a:off x="4767120" y="5202360"/>
            <a:ext cx="196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  <a:ea typeface="Arial"/>
              </a:rPr>
              <a:t>would call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your Granny more often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Text Box 76"/>
          <p:cNvSpPr/>
          <p:nvPr/>
        </p:nvSpPr>
        <p:spPr>
          <a:xfrm>
            <a:off x="6856560" y="3068640"/>
            <a:ext cx="2036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Как жаль, что я не живу во Франци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Text Box 77"/>
          <p:cNvSpPr/>
          <p:nvPr/>
        </p:nvSpPr>
        <p:spPr>
          <a:xfrm>
            <a:off x="6856560" y="4025880"/>
            <a:ext cx="203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ь, что я не слушался родителей будучи подростко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Text Box 78"/>
          <p:cNvSpPr/>
          <p:nvPr/>
        </p:nvSpPr>
        <p:spPr>
          <a:xfrm>
            <a:off x="6804000" y="5176800"/>
            <a:ext cx="208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Было бы неплохо, если бы ты звонил бабуле чащ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54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55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436760"/>
          </a:xfrm>
          <a:prstGeom prst="rect">
            <a:avLst/>
          </a:prstGeom>
          <a:ln w="0">
            <a:noFill/>
          </a:ln>
        </p:spPr>
      </p:pic>
      <p:sp>
        <p:nvSpPr>
          <p:cNvPr id="956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Text Box 22"/>
          <p:cNvSpPr/>
          <p:nvPr/>
        </p:nvSpPr>
        <p:spPr>
          <a:xfrm>
            <a:off x="329976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Text Box 32"/>
          <p:cNvSpPr/>
          <p:nvPr/>
        </p:nvSpPr>
        <p:spPr>
          <a:xfrm>
            <a:off x="2843280" y="20098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Text Box 33"/>
          <p:cNvSpPr/>
          <p:nvPr/>
        </p:nvSpPr>
        <p:spPr>
          <a:xfrm>
            <a:off x="664560" y="244152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kn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the answ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Text Box 35"/>
          <p:cNvSpPr/>
          <p:nvPr/>
        </p:nvSpPr>
        <p:spPr>
          <a:xfrm>
            <a:off x="684360" y="2441520"/>
            <a:ext cx="45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Text Box 36"/>
          <p:cNvSpPr/>
          <p:nvPr/>
        </p:nvSpPr>
        <p:spPr>
          <a:xfrm>
            <a:off x="684360" y="28735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dn’t have to wo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tomorr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Text Box 38"/>
          <p:cNvSpPr/>
          <p:nvPr/>
        </p:nvSpPr>
        <p:spPr>
          <a:xfrm>
            <a:off x="684360" y="3305160"/>
            <a:ext cx="75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adn’t be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so rude to my parents yesterda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Text Box 40"/>
          <p:cNvSpPr/>
          <p:nvPr/>
        </p:nvSpPr>
        <p:spPr>
          <a:xfrm>
            <a:off x="684360" y="3736800"/>
            <a:ext cx="69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ad to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me about your plans in adv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684360" y="42418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w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g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you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666000" y="4241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684360" y="467352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6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sto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laying computer games and spend some time with m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20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20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20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20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20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20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20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20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84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85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521000"/>
          </a:xfrm>
          <a:prstGeom prst="rect">
            <a:avLst/>
          </a:prstGeom>
          <a:ln w="0">
            <a:noFill/>
          </a:ln>
        </p:spPr>
      </p:pic>
      <p:sp>
        <p:nvSpPr>
          <p:cNvPr id="986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Text Box 22"/>
          <p:cNvSpPr/>
          <p:nvPr/>
        </p:nvSpPr>
        <p:spPr>
          <a:xfrm>
            <a:off x="3515400" y="157644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Text Box 23"/>
          <p:cNvSpPr/>
          <p:nvPr/>
        </p:nvSpPr>
        <p:spPr>
          <a:xfrm>
            <a:off x="3059280" y="2009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Text Box 24"/>
          <p:cNvSpPr/>
          <p:nvPr/>
        </p:nvSpPr>
        <p:spPr>
          <a:xfrm>
            <a:off x="592200" y="256536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 Жаль, что я не знаю, что делать с этой проблемой (и я сожалею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Text Box 26"/>
          <p:cNvSpPr/>
          <p:nvPr/>
        </p:nvSpPr>
        <p:spPr>
          <a:xfrm>
            <a:off x="611280" y="2565360"/>
            <a:ext cx="60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Text Box 27"/>
          <p:cNvSpPr/>
          <p:nvPr/>
        </p:nvSpPr>
        <p:spPr>
          <a:xfrm>
            <a:off x="611280" y="3449520"/>
            <a:ext cx="47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т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долж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дт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Text Box 28"/>
          <p:cNvSpPr/>
          <p:nvPr/>
        </p:nvSpPr>
        <p:spPr>
          <a:xfrm>
            <a:off x="594360" y="344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Text Box 29"/>
          <p:cNvSpPr/>
          <p:nvPr/>
        </p:nvSpPr>
        <p:spPr>
          <a:xfrm>
            <a:off x="611280" y="393372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э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каза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611280" y="4437000"/>
            <a:ext cx="61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чилс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сердн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школ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594360" y="4457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611280" y="49608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. Жаль, что я не говорю по-итальян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Text Box 35"/>
          <p:cNvSpPr/>
          <p:nvPr/>
        </p:nvSpPr>
        <p:spPr>
          <a:xfrm>
            <a:off x="611280" y="54450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6. 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зя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фотоаппара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Text Box 36"/>
          <p:cNvSpPr/>
          <p:nvPr/>
        </p:nvSpPr>
        <p:spPr>
          <a:xfrm>
            <a:off x="594360" y="546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AutoShape 37">
            <a:hlinkClick r:id="rId3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20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20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20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20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2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20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0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017" name="WordArt 3"/>
          <p:cNvSpPr txBox="1"/>
          <p:nvPr/>
        </p:nvSpPr>
        <p:spPr>
          <a:xfrm>
            <a:off x="919080" y="404640"/>
            <a:ext cx="7685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AutoShape 8"/>
          <p:cNvSpPr/>
          <p:nvPr/>
        </p:nvSpPr>
        <p:spPr>
          <a:xfrm>
            <a:off x="468360" y="2662200"/>
            <a:ext cx="8424720" cy="350352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 Box 22"/>
          <p:cNvSpPr/>
          <p:nvPr/>
        </p:nvSpPr>
        <p:spPr>
          <a:xfrm>
            <a:off x="3544920" y="157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Text Box 36"/>
          <p:cNvSpPr/>
          <p:nvPr/>
        </p:nvSpPr>
        <p:spPr>
          <a:xfrm>
            <a:off x="2411280" y="20098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СПОЛЬЗУЕМЫЕ  РЕСУРС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Text Box 37"/>
          <p:cNvSpPr/>
          <p:nvPr/>
        </p:nvSpPr>
        <p:spPr>
          <a:xfrm>
            <a:off x="663480" y="2781360"/>
            <a:ext cx="815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Голицинский Ю.Б.  Грамматика: Сборник упражнений. - 6-е изд., - СПб.: КАРО, 2008. - 544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ww.activeenglish.ru &gt; category/grammar/conditionals/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ww.study.ru &gt;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роки онлай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ww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ngblog.ru/conditional-sent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he-World.ru›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nglis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-language/grammar…171-uslovno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uzzle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nglis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com›Ур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755640" y="2009880"/>
            <a:ext cx="82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826920" y="306864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5703840" y="30686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+Presen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5435640" y="3789360"/>
            <a:ext cx="27367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3780000" y="3933720"/>
            <a:ext cx="1655640" cy="790560"/>
          </a:xfrm>
          <a:prstGeom prst="rightArrow">
            <a:avLst>
              <a:gd name="adj1" fmla="val 50000"/>
              <a:gd name="adj2" fmla="val 52357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2987640" y="5445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you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he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ice, it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mel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040200" y="1484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808200" y="2349360"/>
            <a:ext cx="772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условных предложениях нулевого типа союз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может заменяться союзом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te, my fathe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k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 to school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г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паздыва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то отец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твоз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меня в школ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town, w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nner together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г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езжае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жинае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311040"/>
            <a:ext cx="6546600" cy="104796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>
            <a:off x="324000" y="1916280"/>
            <a:ext cx="8640720" cy="460836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83760" y="157644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607840" y="20098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87880" y="2657520"/>
            <a:ext cx="55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m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ate for work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y chief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s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ngr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611280" y="323388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 person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oesn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'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 eat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eat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vegetaria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594720" y="323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611280" y="38098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get u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arly, my father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ri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me to schoo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611280" y="438480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verything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wet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rain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492360" y="15573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967120" y="2060640"/>
            <a:ext cx="33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592200" y="2657520"/>
            <a:ext cx="80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539640" y="26575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1 Если ты хочешь хорошую работу, ты должен хорошо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11280" y="359424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Т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долж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ног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есть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очеш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худе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594360" y="35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11280" y="42418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Если хранить кофе в морозильнике, то аромат сохраняется дольш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611280" y="522936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Собака радуется, когда видит хозяи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94360" y="5249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19">
            <a:hlinkClick r:id="rId3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778440" cy="89532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468360" y="1989000"/>
            <a:ext cx="828036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ый тип условных предложений относится к реальным ситуациям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выполнение условий в этих предложениях вполне осуществим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смотря на русский перевод, условная часть предложения выражается только при помощи Настоящего времени (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обычно Present Simple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. 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новно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ст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пользуетс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дуще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f you finish your homework, we shall go to the cin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русском переводе обе части предложения будут находиться в будущем врем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Если ты закончишь домашнюю работу, мы пойдем в ки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6:40:29Z</dcterms:created>
  <dc:creator>User</dc:creator>
  <dc:description/>
  <dc:language>en-US</dc:language>
  <cp:lastModifiedBy>Пользователь Windows</cp:lastModifiedBy>
  <dcterms:modified xsi:type="dcterms:W3CDTF">2020-01-08T09:11:49Z</dcterms:modified>
  <cp:revision>84</cp:revision>
  <dc:subject/>
  <dc:title>CONDITION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e0000000000010243100207f6000400038000</vt:lpwstr>
  </property>
</Properties>
</file>