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6F3-9A5E-4CB0-BC5E-6E378621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110-E109-4F75-AAFC-219D53F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CE9-543C-4BF3-B814-70E33552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5B7-FBE5-42A6-9F96-602711C0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791-7CD2-4A22-9F35-CE843D1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0E5-6EC8-4553-A77C-FE0DCA0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EA0-0F0D-4907-AA9A-F36DF891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7A0-B934-43B9-A182-7CCB2983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051-F4A1-43F7-8BD6-07E981D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935-7BFE-4AAF-9212-2AA9961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078-BBCA-45E1-9065-51E55D6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06A-90C4-48B6-B985-E65FBEC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6845-5929-4BB4-BF83-F09ED7BCE43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60200"/>
            <a:ext cx="10515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й сад «Мишутка»г Ак-Довурак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49280" y="1375920"/>
            <a:ext cx="80960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изитная  карт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Участника конкурса педагогического маст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«Воспитатель - 2020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спитатель МБДОУ детский сад «Мишут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 Ак-Довур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Segoe Prin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Segoe Print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Чарующая музыка осени.mp3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249200" y="73080"/>
            <a:ext cx="10528560" cy="235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60440" y="411120"/>
            <a:ext cx="875376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Я  -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псан Людмила Кара-оо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Высш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квалификационной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МБДОУ д/с «Мишут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ние: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среднее специ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ж раб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26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жде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очетной грамотой – Министер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Образования науки  Р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очетная грамота  - Профсоюз работ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образования и науки Р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Текстовое поле 9" descr=""/>
          <p:cNvPicPr/>
          <p:nvPr/>
        </p:nvPicPr>
        <p:blipFill>
          <a:blip r:embed="rId3"/>
          <a:stretch/>
        </p:blipFill>
        <p:spPr>
          <a:xfrm>
            <a:off x="1311120" y="2060640"/>
            <a:ext cx="565020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J:\визитка\чурук люда.jpg"/>
          <p:cNvPicPr/>
          <p:nvPr/>
        </p:nvPicPr>
        <p:blipFill>
          <a:blip r:embed="rId4"/>
          <a:stretch/>
        </p:blipFill>
        <p:spPr>
          <a:xfrm>
            <a:off x="139680" y="3767040"/>
            <a:ext cx="209880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едагогическое кред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760" y="2185920"/>
            <a:ext cx="5661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спитателем надо род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Чтоб детей непременно лю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терпенье иметь, не серд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 заботой уметь окруж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D:\Чурук\библиотека\DSCF0013.JPG"/>
          <p:cNvPicPr/>
          <p:nvPr/>
        </p:nvPicPr>
        <p:blipFill>
          <a:blip r:embed="rId2"/>
          <a:stretch/>
        </p:blipFill>
        <p:spPr>
          <a:xfrm>
            <a:off x="8599320" y="20952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D:\Чурук\Новая папка\IMG-8656c9621d2c97d014855b2d22a49359-V.jpg"/>
          <p:cNvPicPr/>
          <p:nvPr/>
        </p:nvPicPr>
        <p:blipFill>
          <a:blip r:embed="rId3"/>
          <a:stretch/>
        </p:blipFill>
        <p:spPr>
          <a:xfrm>
            <a:off x="5986440" y="1984320"/>
            <a:ext cx="248112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256680"/>
            <a:ext cx="391824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Труд воспитателя очень непрос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гры, занятия, творческий рост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о ни о чем не жалею, друз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етям я сердце свое отда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D:\Мои документы\Мои рисунки\2015-04-14, голубь\голубь 041.jpg"/>
          <p:cNvPicPr/>
          <p:nvPr/>
        </p:nvPicPr>
        <p:blipFill>
          <a:blip r:embed="rId2"/>
          <a:stretch/>
        </p:blipFill>
        <p:spPr>
          <a:xfrm>
            <a:off x="8478720" y="528480"/>
            <a:ext cx="2724120" cy="2471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D:\Мои документы\Мои рисунки\2015-05-06, фест\фест 025.jpg"/>
          <p:cNvPicPr/>
          <p:nvPr/>
        </p:nvPicPr>
        <p:blipFill>
          <a:blip r:embed="rId3"/>
          <a:stretch/>
        </p:blipFill>
        <p:spPr>
          <a:xfrm>
            <a:off x="1711440" y="4005360"/>
            <a:ext cx="3692520" cy="2673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D:\Мои документы\Мои рисунки\2015-06-27, выпуск 2015\выпуск 2015 006.jpg"/>
          <p:cNvPicPr/>
          <p:nvPr/>
        </p:nvPicPr>
        <p:blipFill>
          <a:blip r:embed="rId4"/>
          <a:stretch/>
        </p:blipFill>
        <p:spPr>
          <a:xfrm>
            <a:off x="4862520" y="561960"/>
            <a:ext cx="3154320" cy="2597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D:\Мои документы\средняя гр3\сайт гр №6\зима !\WP_20161213_001.jpg"/>
          <p:cNvPicPr/>
          <p:nvPr/>
        </p:nvPicPr>
        <p:blipFill>
          <a:blip r:embed="rId5"/>
          <a:stretch/>
        </p:blipFill>
        <p:spPr>
          <a:xfrm>
            <a:off x="282600" y="1751040"/>
            <a:ext cx="342108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:\фото  гр №3\старший\DSCN1912.JPG"/>
          <p:cNvPicPr/>
          <p:nvPr/>
        </p:nvPicPr>
        <p:blipFill>
          <a:blip r:embed="rId6"/>
          <a:stretch/>
        </p:blipFill>
        <p:spPr>
          <a:xfrm>
            <a:off x="5986440" y="3440160"/>
            <a:ext cx="395460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:\фото  гр №3\кружок\DSCN1898.JPG"/>
          <p:cNvPicPr/>
          <p:nvPr/>
        </p:nvPicPr>
        <p:blipFill>
          <a:blip r:embed="rId2"/>
          <a:stretch/>
        </p:blipFill>
        <p:spPr>
          <a:xfrm>
            <a:off x="592200" y="219240"/>
            <a:ext cx="3497040" cy="262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фото  гр №3\кружок\IMG_2766.JPG"/>
          <p:cNvPicPr/>
          <p:nvPr/>
        </p:nvPicPr>
        <p:blipFill>
          <a:blip r:embed="rId3"/>
          <a:stretch/>
        </p:blipFill>
        <p:spPr>
          <a:xfrm>
            <a:off x="7561440" y="136440"/>
            <a:ext cx="3535200" cy="26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фото  гр №3\кружок\DSCN9226.jpg"/>
          <p:cNvPicPr/>
          <p:nvPr/>
        </p:nvPicPr>
        <p:blipFill>
          <a:blip r:embed="rId4"/>
          <a:stretch/>
        </p:blipFill>
        <p:spPr>
          <a:xfrm>
            <a:off x="4151160" y="326880"/>
            <a:ext cx="320544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:\фото  гр №3\кружок\DSCN9228.jpg"/>
          <p:cNvPicPr/>
          <p:nvPr/>
        </p:nvPicPr>
        <p:blipFill>
          <a:blip r:embed="rId5"/>
          <a:stretch/>
        </p:blipFill>
        <p:spPr>
          <a:xfrm>
            <a:off x="2057400" y="3016080"/>
            <a:ext cx="3622680" cy="271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D:\фото  гр №3\кружок\DSCN9229.jpg"/>
          <p:cNvPicPr/>
          <p:nvPr/>
        </p:nvPicPr>
        <p:blipFill>
          <a:blip r:embed="rId6"/>
          <a:stretch/>
        </p:blipFill>
        <p:spPr>
          <a:xfrm>
            <a:off x="6291360" y="2995560"/>
            <a:ext cx="35258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9" descr="D:\Мои рисунки\гр 2\20191025_110115.jpg"/>
          <p:cNvPicPr/>
          <p:nvPr/>
        </p:nvPicPr>
        <p:blipFill>
          <a:blip r:embed="rId2"/>
          <a:stretch/>
        </p:blipFill>
        <p:spPr>
          <a:xfrm>
            <a:off x="838080" y="254484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D:\Мои рисунки\гр 2\20191025_110229.jpg"/>
          <p:cNvPicPr/>
          <p:nvPr/>
        </p:nvPicPr>
        <p:blipFill>
          <a:blip r:embed="rId3"/>
          <a:stretch/>
        </p:blipFill>
        <p:spPr>
          <a:xfrm>
            <a:off x="9767880" y="258840"/>
            <a:ext cx="219852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D:\Мои рисунки\гр 2\20190920_094420.jpg"/>
          <p:cNvPicPr/>
          <p:nvPr/>
        </p:nvPicPr>
        <p:blipFill>
          <a:blip r:embed="rId4"/>
          <a:stretch/>
        </p:blipFill>
        <p:spPr>
          <a:xfrm>
            <a:off x="982800" y="228600"/>
            <a:ext cx="476244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2" descr="D:\Мои рисунки\гр 2\20190910_111403.jpg"/>
          <p:cNvPicPr/>
          <p:nvPr/>
        </p:nvPicPr>
        <p:blipFill>
          <a:blip r:embed="rId5"/>
          <a:stretch/>
        </p:blipFill>
        <p:spPr>
          <a:xfrm>
            <a:off x="6551640" y="677880"/>
            <a:ext cx="27241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4480" y="390240"/>
            <a:ext cx="85392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Picture 6" descr="D:\Мои рисунки\гр 2\20191017_163822.jpg"/>
          <p:cNvPicPr/>
          <p:nvPr/>
        </p:nvPicPr>
        <p:blipFill>
          <a:blip r:embed="rId2"/>
          <a:stretch/>
        </p:blipFill>
        <p:spPr>
          <a:xfrm>
            <a:off x="355680" y="1763640"/>
            <a:ext cx="2448000" cy="4351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D:\Мои рисунки\гр 2\20191017_161806.jpg"/>
          <p:cNvPicPr/>
          <p:nvPr/>
        </p:nvPicPr>
        <p:blipFill>
          <a:blip r:embed="rId3"/>
          <a:stretch/>
        </p:blipFill>
        <p:spPr>
          <a:xfrm>
            <a:off x="2846520" y="3751200"/>
            <a:ext cx="4851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Мои рисунки\гр 2\Новая папка\20190918_092954.jpg"/>
          <p:cNvPicPr/>
          <p:nvPr/>
        </p:nvPicPr>
        <p:blipFill>
          <a:blip r:embed="rId4"/>
          <a:stretch/>
        </p:blipFill>
        <p:spPr>
          <a:xfrm>
            <a:off x="8405640" y="3305160"/>
            <a:ext cx="1805040" cy="320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D:\Мои рисунки\Новая папка\IMG-f5285d265bcff62190dc8da878e5ed60-V.jpg"/>
          <p:cNvPicPr/>
          <p:nvPr/>
        </p:nvPicPr>
        <p:blipFill>
          <a:blip r:embed="rId5"/>
          <a:stretch/>
        </p:blipFill>
        <p:spPr>
          <a:xfrm>
            <a:off x="7927920" y="923760"/>
            <a:ext cx="4140360" cy="233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D:\Мои рисунки\Новая папка\IMG-e7f8eea144bd09aa2d23a58bfab8ce71-V.jpg"/>
          <p:cNvPicPr/>
          <p:nvPr/>
        </p:nvPicPr>
        <p:blipFill>
          <a:blip r:embed="rId6"/>
          <a:stretch/>
        </p:blipFill>
        <p:spPr>
          <a:xfrm>
            <a:off x="2855880" y="316080"/>
            <a:ext cx="49291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14400" y="1871640"/>
            <a:ext cx="1052820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Admin</dc:creator>
  <dc:description/>
  <cp:keywords/>
  <dc:language>en-US</dc:language>
  <cp:lastModifiedBy>Белек</cp:lastModifiedBy>
  <dcterms:modified xsi:type="dcterms:W3CDTF">2020-01-31T19:02:17Z</dcterms:modified>
  <cp:revision>50</cp:revision>
  <dc:subject/>
  <dc:title>Приветствую вас, уважаемые коллеги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56</vt:lpwstr>
  </property>
</Properties>
</file>