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45E-9CE1-4031-968A-79A442799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A84-66B6-4281-83A3-5AFAAA46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84A-2A45-4D29-ACBD-84FDB6A0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7CA-A9DA-4001-B937-94EE9B6A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19CF-19B0-4929-A753-4D86B30E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010-FA3B-4BA0-864D-30192E0B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87F-D759-46D6-BA5B-073261C5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3C74-2DF4-4D01-A622-67EB1ADE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8AA-C0DD-4403-A398-9AC7A5BD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16E-FFBC-4ACA-9C30-A4CA2FE0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386-7C55-4BAB-B754-B734518D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588-0FAC-4BFC-AB30-30BE53C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5F31-E56E-446E-B7EC-7AD1CA67806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8720" y="160200"/>
            <a:ext cx="10515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ский сад «Мишутка»г Ак-Довурак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49280" y="1375920"/>
            <a:ext cx="8096040" cy="39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изитная  карточ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Участника конкурса педагогического мастер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«Воспитатель - 2020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оспитатель МБДОУ детский сад «Мишут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г Ак-Довур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Segoe Print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Segoe Print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Чарующая музыка осени.mp3" descr=""/>
          <p:cNvPicPr/>
          <p:nvPr/>
        </p:nvPicPr>
        <p:blipFill>
          <a:blip r:embed="rId2"/>
          <a:stretch/>
        </p:blipFill>
        <p:spPr>
          <a:xfrm>
            <a:off x="59436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1249200" y="73080"/>
            <a:ext cx="10528560" cy="235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260440" y="411120"/>
            <a:ext cx="8753760" cy="61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Я  - воспита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опсан Людмила Кара-оо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          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Высш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квалификационной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МБДОУ д/с «Мишут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разование: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среднее специальн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ж рабо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26 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гражден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очетной грамотой – Министер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Образования науки  РТ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очетная грамота  - Профсоюз работник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образования и науки Р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Текстовое поле 9" descr=""/>
          <p:cNvPicPr/>
          <p:nvPr/>
        </p:nvPicPr>
        <p:blipFill>
          <a:blip r:embed="rId3"/>
          <a:stretch/>
        </p:blipFill>
        <p:spPr>
          <a:xfrm>
            <a:off x="1311120" y="2060640"/>
            <a:ext cx="5650200" cy="90180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6" descr="J:\визитка\чурук люда.jpg"/>
          <p:cNvPicPr/>
          <p:nvPr/>
        </p:nvPicPr>
        <p:blipFill>
          <a:blip r:embed="rId4"/>
          <a:stretch/>
        </p:blipFill>
        <p:spPr>
          <a:xfrm>
            <a:off x="139680" y="3767040"/>
            <a:ext cx="2098800" cy="28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5bb0"/>
                </a:solidFill>
                <a:latin typeface="Times New Roman"/>
                <a:ea typeface="Times New Roman"/>
              </a:rPr>
              <a:t>Педагогическое кред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4760" y="2185920"/>
            <a:ext cx="56610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Воспитателем надо род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Чтоб детей непременно люб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терпенье иметь, не сердитьс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И  заботой уметь окружи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D:\Чурук\библиотека\DSCF0013.JPG"/>
          <p:cNvPicPr/>
          <p:nvPr/>
        </p:nvPicPr>
        <p:blipFill>
          <a:blip r:embed="rId2"/>
          <a:stretch/>
        </p:blipFill>
        <p:spPr>
          <a:xfrm>
            <a:off x="8599320" y="209520"/>
            <a:ext cx="3413160" cy="2560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D:\Чурук\Новая папка\IMG-8656c9621d2c97d014855b2d22a49359-V.jpg"/>
          <p:cNvPicPr/>
          <p:nvPr/>
        </p:nvPicPr>
        <p:blipFill>
          <a:blip r:embed="rId3"/>
          <a:stretch/>
        </p:blipFill>
        <p:spPr>
          <a:xfrm>
            <a:off x="5986440" y="1984320"/>
            <a:ext cx="248112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838080" y="256680"/>
            <a:ext cx="3918240" cy="15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Труд воспитателя очень непрос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гры, занятия, творческий рост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о ни о чем не жалею, друз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Детям я сердце свое отдал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6" descr="D:\Мои документы\Мои рисунки\2015-04-14, голубь\голубь 041.jpg"/>
          <p:cNvPicPr/>
          <p:nvPr/>
        </p:nvPicPr>
        <p:blipFill>
          <a:blip r:embed="rId2"/>
          <a:stretch/>
        </p:blipFill>
        <p:spPr>
          <a:xfrm>
            <a:off x="8478720" y="528480"/>
            <a:ext cx="2724120" cy="24717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D:\Мои документы\Мои рисунки\2015-05-06, фест\фест 025.jpg"/>
          <p:cNvPicPr/>
          <p:nvPr/>
        </p:nvPicPr>
        <p:blipFill>
          <a:blip r:embed="rId3"/>
          <a:stretch/>
        </p:blipFill>
        <p:spPr>
          <a:xfrm>
            <a:off x="1711440" y="4005360"/>
            <a:ext cx="3692520" cy="2673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9" descr="D:\Мои документы\Мои рисунки\2015-06-27, выпуск 2015\выпуск 2015 006.jpg"/>
          <p:cNvPicPr/>
          <p:nvPr/>
        </p:nvPicPr>
        <p:blipFill>
          <a:blip r:embed="rId4"/>
          <a:stretch/>
        </p:blipFill>
        <p:spPr>
          <a:xfrm>
            <a:off x="4862520" y="561960"/>
            <a:ext cx="3154320" cy="2597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" descr="D:\Мои документы\средняя гр3\сайт гр №6\зима !\WP_20161213_001.jpg"/>
          <p:cNvPicPr/>
          <p:nvPr/>
        </p:nvPicPr>
        <p:blipFill>
          <a:blip r:embed="rId5"/>
          <a:stretch/>
        </p:blipFill>
        <p:spPr>
          <a:xfrm>
            <a:off x="282600" y="1751040"/>
            <a:ext cx="3421080" cy="2327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D:\фото  гр №3\старший\DSCN1912.JPG"/>
          <p:cNvPicPr/>
          <p:nvPr/>
        </p:nvPicPr>
        <p:blipFill>
          <a:blip r:embed="rId6"/>
          <a:stretch/>
        </p:blipFill>
        <p:spPr>
          <a:xfrm>
            <a:off x="5986440" y="3440160"/>
            <a:ext cx="3954600" cy="29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:\фото  гр №3\кружок\DSCN1898.JPG"/>
          <p:cNvPicPr/>
          <p:nvPr/>
        </p:nvPicPr>
        <p:blipFill>
          <a:blip r:embed="rId2"/>
          <a:stretch/>
        </p:blipFill>
        <p:spPr>
          <a:xfrm>
            <a:off x="592200" y="219240"/>
            <a:ext cx="3497040" cy="2622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:\фото  гр №3\кружок\IMG_2766.JPG"/>
          <p:cNvPicPr/>
          <p:nvPr/>
        </p:nvPicPr>
        <p:blipFill>
          <a:blip r:embed="rId3"/>
          <a:stretch/>
        </p:blipFill>
        <p:spPr>
          <a:xfrm>
            <a:off x="7561440" y="136440"/>
            <a:ext cx="3535200" cy="2651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D:\фото  гр №3\кружок\DSCN9226.jpg"/>
          <p:cNvPicPr/>
          <p:nvPr/>
        </p:nvPicPr>
        <p:blipFill>
          <a:blip r:embed="rId4"/>
          <a:stretch/>
        </p:blipFill>
        <p:spPr>
          <a:xfrm>
            <a:off x="4151160" y="326880"/>
            <a:ext cx="320544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D:\фото  гр №3\кружок\DSCN9228.jpg"/>
          <p:cNvPicPr/>
          <p:nvPr/>
        </p:nvPicPr>
        <p:blipFill>
          <a:blip r:embed="rId5"/>
          <a:stretch/>
        </p:blipFill>
        <p:spPr>
          <a:xfrm>
            <a:off x="2057400" y="3016080"/>
            <a:ext cx="3622680" cy="2716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D:\фото  гр №3\кружок\DSCN9229.jpg"/>
          <p:cNvPicPr/>
          <p:nvPr/>
        </p:nvPicPr>
        <p:blipFill>
          <a:blip r:embed="rId6"/>
          <a:stretch/>
        </p:blipFill>
        <p:spPr>
          <a:xfrm>
            <a:off x="6291360" y="2995560"/>
            <a:ext cx="3525840" cy="26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9" descr="D:\Мои рисунки\гр 2\20191025_110115.jpg"/>
          <p:cNvPicPr/>
          <p:nvPr/>
        </p:nvPicPr>
        <p:blipFill>
          <a:blip r:embed="rId2"/>
          <a:stretch/>
        </p:blipFill>
        <p:spPr>
          <a:xfrm>
            <a:off x="838080" y="2544840"/>
            <a:ext cx="5181840" cy="2914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D:\Мои рисунки\гр 2\20191025_110229.jpg"/>
          <p:cNvPicPr/>
          <p:nvPr/>
        </p:nvPicPr>
        <p:blipFill>
          <a:blip r:embed="rId3"/>
          <a:stretch/>
        </p:blipFill>
        <p:spPr>
          <a:xfrm>
            <a:off x="9767880" y="258840"/>
            <a:ext cx="2198520" cy="3743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D:\Мои рисунки\гр 2\20190920_094420.jpg"/>
          <p:cNvPicPr/>
          <p:nvPr/>
        </p:nvPicPr>
        <p:blipFill>
          <a:blip r:embed="rId4"/>
          <a:stretch/>
        </p:blipFill>
        <p:spPr>
          <a:xfrm>
            <a:off x="982800" y="228600"/>
            <a:ext cx="476244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2" descr="D:\Мои рисунки\гр 2\20190910_111403.jpg"/>
          <p:cNvPicPr/>
          <p:nvPr/>
        </p:nvPicPr>
        <p:blipFill>
          <a:blip r:embed="rId5"/>
          <a:stretch/>
        </p:blipFill>
        <p:spPr>
          <a:xfrm>
            <a:off x="6551640" y="677880"/>
            <a:ext cx="272412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4480" y="390240"/>
            <a:ext cx="85392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Picture 6" descr="D:\Мои рисунки\гр 2\20191017_163822.jpg"/>
          <p:cNvPicPr/>
          <p:nvPr/>
        </p:nvPicPr>
        <p:blipFill>
          <a:blip r:embed="rId2"/>
          <a:stretch/>
        </p:blipFill>
        <p:spPr>
          <a:xfrm>
            <a:off x="355680" y="1763640"/>
            <a:ext cx="2448000" cy="4351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D:\Мои рисунки\гр 2\20191017_161806.jpg"/>
          <p:cNvPicPr/>
          <p:nvPr/>
        </p:nvPicPr>
        <p:blipFill>
          <a:blip r:embed="rId3"/>
          <a:stretch/>
        </p:blipFill>
        <p:spPr>
          <a:xfrm>
            <a:off x="2846520" y="3751200"/>
            <a:ext cx="485136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Мои рисунки\гр 2\Новая папка\20190918_092954.jpg"/>
          <p:cNvPicPr/>
          <p:nvPr/>
        </p:nvPicPr>
        <p:blipFill>
          <a:blip r:embed="rId4"/>
          <a:stretch/>
        </p:blipFill>
        <p:spPr>
          <a:xfrm>
            <a:off x="8405640" y="3305160"/>
            <a:ext cx="1805040" cy="3208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D:\Мои рисунки\Новая папка\IMG-f5285d265bcff62190dc8da878e5ed60-V.jpg"/>
          <p:cNvPicPr/>
          <p:nvPr/>
        </p:nvPicPr>
        <p:blipFill>
          <a:blip r:embed="rId5"/>
          <a:stretch/>
        </p:blipFill>
        <p:spPr>
          <a:xfrm>
            <a:off x="7927920" y="923760"/>
            <a:ext cx="4140360" cy="2330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D:\Мои рисунки\Новая папка\IMG-e7f8eea144bd09aa2d23a58bfab8ce71-V.jpg"/>
          <p:cNvPicPr/>
          <p:nvPr/>
        </p:nvPicPr>
        <p:blipFill>
          <a:blip r:embed="rId6"/>
          <a:stretch/>
        </p:blipFill>
        <p:spPr>
          <a:xfrm>
            <a:off x="2855880" y="316080"/>
            <a:ext cx="492912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2"/>
          <a:stretch/>
        </p:blipFill>
        <p:spPr>
          <a:xfrm>
            <a:off x="914400" y="1871640"/>
            <a:ext cx="1052820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Admin</dc:creator>
  <dc:description/>
  <cp:keywords/>
  <dc:language>en-US</dc:language>
  <cp:lastModifiedBy>Белек</cp:lastModifiedBy>
  <dcterms:modified xsi:type="dcterms:W3CDTF">2020-01-31T19:02:17Z</dcterms:modified>
  <cp:revision>50</cp:revision>
  <dc:subject/>
  <dc:title>Приветствую вас, уважаемые коллеги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56</vt:lpwstr>
  </property>
</Properties>
</file>